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4CD-41C9-4430-964A-33011193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197-D57D-4864-B9E1-40B064C2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BC7-CBDB-4827-A824-2BF40F9F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AB0-CE2C-453A-92CD-BA737E64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F8B9-BF6C-4E43-8D8F-E4B1F70F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8644-729E-4B83-B9DD-71DE1792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35A9-DBB9-4F66-A9F5-635EAD60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09BC-8530-475D-8F2E-53DD1E22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C38A-F8B7-4899-819C-D9747F0C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3102-6AE2-4DA3-A98B-C1B3FD9C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0DE7-B3B8-4411-8F2D-378C1A6F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F757-BC1F-49AD-BD74-F26942D5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9811-33B1-4E51-9A8C-64631616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4D49-D028-4BC5-8743-ACD01BA6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5064-7B6F-4027-8336-EB6F7B5E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5572-6183-4DBA-9E6F-8EC1CEA8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0373-D890-4C8A-B185-440BBBCA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FAA-4B11-4FDB-8F0B-C1EA4EB2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198-7A0D-4F4D-B143-47FEC8E6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8181-9B0D-496A-BC75-C09F7050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4BD1-7985-4798-84CD-C5A6F19F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D2C-4144-441F-88AD-D2E08572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948-43AE-44C5-B190-2DDBD80F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23E-7CC0-4EF9-A5FA-69A75FA6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7ECE-D21E-4D5A-B72B-B86DA05773A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2D57-4EE6-4D2E-8FEE-284EC0CF9EC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709640"/>
            <a:ext cx="76230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emhalingsstelsel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twisseling O2 en C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rslikk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dselbrok komt in luchtpij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chtpijp niet goed afgesloten tijdens het sli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ig sluit neusholte a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ottenklep sluit luchtpijp a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rslik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slikreflex"/>
          <p:cNvPicPr/>
          <p:nvPr/>
        </p:nvPicPr>
        <p:blipFill>
          <a:blip r:embed="rId1"/>
          <a:stretch/>
        </p:blipFill>
        <p:spPr>
          <a:xfrm>
            <a:off x="6172200" y="395280"/>
            <a:ext cx="25146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medie:heimlichgree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heimlichgreep"/>
          <p:cNvPicPr/>
          <p:nvPr/>
        </p:nvPicPr>
        <p:blipFill>
          <a:blip r:embed="rId1"/>
          <a:stretch/>
        </p:blipFill>
        <p:spPr>
          <a:xfrm>
            <a:off x="2743200" y="2590920"/>
            <a:ext cx="3286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demha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D:\Documents and Settings\bugelj\Mijn documenten\Mijn afbeeldingen\ademhaling.gif"/>
          <p:cNvPicPr/>
          <p:nvPr/>
        </p:nvPicPr>
        <p:blipFill>
          <a:blip r:embed="rId1"/>
          <a:stretch/>
        </p:blipFill>
        <p:spPr>
          <a:xfrm>
            <a:off x="1905120" y="1947960"/>
            <a:ext cx="5105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nadem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platten van het middenrif.Het middenrif gaat naar ben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trekken van de tussenribspieren.De borstkas gaat omho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krijg je een verruiming van de borstkas en lo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lucht stroomt naar bi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lveol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 uitwisseling van O2 en CO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Afbeelding 1" descr=""/>
          <p:cNvPicPr/>
          <p:nvPr/>
        </p:nvPicPr>
        <p:blipFill>
          <a:blip r:embed="rId1"/>
          <a:stretch/>
        </p:blipFill>
        <p:spPr>
          <a:xfrm>
            <a:off x="611280" y="2674800"/>
            <a:ext cx="2954160" cy="2119320"/>
          </a:xfrm>
          <a:prstGeom prst="rect">
            <a:avLst/>
          </a:prstGeom>
          <a:ln w="0">
            <a:noFill/>
          </a:ln>
        </p:spPr>
      </p:pic>
      <p:pic>
        <p:nvPicPr>
          <p:cNvPr id="139" name="Afbeelding 2" descr=""/>
          <p:cNvPicPr/>
          <p:nvPr/>
        </p:nvPicPr>
        <p:blipFill>
          <a:blip r:embed="rId2"/>
          <a:stretch/>
        </p:blipFill>
        <p:spPr>
          <a:xfrm>
            <a:off x="4284720" y="2565360"/>
            <a:ext cx="3938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uitadem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middenrif ontspant en komt omho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tussenribspieren ontspannen.De borstkas zakt weer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borstkast en longen klei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ucht stroomt naar bui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Soorten ademha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borst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buik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.neus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.mond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eling van de ademhaling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eling van de ademhaling komt vanuit het ademhalingscentrum in de hers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ze krijgt informatie over de concentratie van O2 en CO2 in het 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hoging van de CO2 concentratie geeft een prikkel tot ademha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en verlaging van de O2 concentratie speelt hierbij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e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antal ademingen per minuu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2-20 keer per minu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D:\Documents and Settings\bugelj\Mijn documenten\Mijn afbeeldingen\ademhaling.jpg"/>
          <p:cNvPicPr/>
          <p:nvPr/>
        </p:nvPicPr>
        <p:blipFill>
          <a:blip r:embed="rId1"/>
          <a:stretch/>
        </p:blipFill>
        <p:spPr>
          <a:xfrm>
            <a:off x="1079640" y="2770200"/>
            <a:ext cx="44830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ovenste Luchtwe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us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l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neus2"/>
          <p:cNvPicPr/>
          <p:nvPr/>
        </p:nvPicPr>
        <p:blipFill>
          <a:blip r:embed="rId1"/>
          <a:stretch/>
        </p:blipFill>
        <p:spPr>
          <a:xfrm>
            <a:off x="4643280" y="1052640"/>
            <a:ext cx="3511800" cy="3263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LocatiesKeelholte"/>
          <p:cNvPicPr/>
          <p:nvPr/>
        </p:nvPicPr>
        <p:blipFill>
          <a:blip r:embed="rId2"/>
          <a:stretch/>
        </p:blipFill>
        <p:spPr>
          <a:xfrm>
            <a:off x="684360" y="2781360"/>
            <a:ext cx="37814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mer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j een rustige ademhaling wordt het onderste gedeelte van de longcapaciteit niet gebruikt en verver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volg hiervan kan zijn:longontste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t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iertjes van de luchtwegen blijven gesp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een vernauwing van de luchtw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nauwd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echt adem kunnen ha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t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astmatische bronchien"/>
          <p:cNvPicPr/>
          <p:nvPr/>
        </p:nvPicPr>
        <p:blipFill>
          <a:blip r:embed="rId1"/>
          <a:stretch/>
        </p:blipFill>
        <p:spPr>
          <a:xfrm>
            <a:off x="2438280" y="22096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ronchit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jmvlies in de luchtwegen is ontsto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productie van teveel sput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:hoestprikk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edie:klo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ven schrikk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rokenrslongen"/>
          <p:cNvPicPr/>
          <p:nvPr/>
        </p:nvPicPr>
        <p:blipFill>
          <a:blip r:embed="rId1"/>
          <a:stretch/>
        </p:blipFill>
        <p:spPr>
          <a:xfrm>
            <a:off x="3048120" y="2514600"/>
            <a:ext cx="3657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ste luchtwe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chtpij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luchtwe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nch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nere luchtwe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nch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blaasj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veo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n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ngen"/>
          <p:cNvPicPr/>
          <p:nvPr/>
        </p:nvPicPr>
        <p:blipFill>
          <a:blip r:embed="rId1"/>
          <a:stretch/>
        </p:blipFill>
        <p:spPr>
          <a:xfrm>
            <a:off x="2209680" y="2362320"/>
            <a:ext cx="48387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orstk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borstkas"/>
          <p:cNvPicPr/>
          <p:nvPr/>
        </p:nvPicPr>
        <p:blipFill>
          <a:blip r:embed="rId1"/>
          <a:stretch/>
        </p:blipFill>
        <p:spPr>
          <a:xfrm>
            <a:off x="2201760" y="2209680"/>
            <a:ext cx="3627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ushol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kleed met slijmvlies(trilha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ngt stofdeeltjes op(Zuivering van de luch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uring van de lucht(Kwaliteit van de luch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akt slij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sterk doorblo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arming van de lu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ochtiging van de lu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Keelhol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eiding van voedsel en ademlu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luchtpijp staat altijd open, behalve bij doorslikken van een voedselbr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LocatiesKeelholte"/>
          <p:cNvPicPr/>
          <p:nvPr/>
        </p:nvPicPr>
        <p:blipFill>
          <a:blip r:embed="rId1"/>
          <a:stretch/>
        </p:blipFill>
        <p:spPr>
          <a:xfrm>
            <a:off x="4788000" y="3500280"/>
            <a:ext cx="32176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ottenhoof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paar stemb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se stemba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de bovens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en voor bevochtiging van de onderste stemban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e stemba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spieren,die door een bepaalde stand geluid ma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re stemb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stem3"/>
          <p:cNvPicPr/>
          <p:nvPr/>
        </p:nvPicPr>
        <p:blipFill>
          <a:blip r:embed="rId1"/>
          <a:stretch/>
        </p:blipFill>
        <p:spPr>
          <a:xfrm>
            <a:off x="942840" y="1474920"/>
            <a:ext cx="70138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0:04:30Z</dcterms:created>
  <dc:creator>BugelJ</dc:creator>
  <dc:description/>
  <dc:language>en-US</dc:language>
  <cp:lastModifiedBy>J.W.P. Bugel</cp:lastModifiedBy>
  <dcterms:modified xsi:type="dcterms:W3CDTF">2014-12-16T12:47:29Z</dcterms:modified>
  <cp:revision>10</cp:revision>
  <dc:subject/>
  <dc:title>Ademhalingsstelsel</dc:title>
</cp:coreProperties>
</file>