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155-CE77-4C3F-A101-AA88781C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D6A-BECF-41B2-B683-5944E5A3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F77-B9B0-491B-BF4D-0D4E2B35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EAC1-92C7-40D5-9A7B-C49014FF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229F-113D-449F-840B-CBA11793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890C-3C9A-4FC5-B11F-DA3E95C7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5A36-BD85-4E53-9DE8-E955EAFC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0DD8-2BA6-4BA8-8F58-F69C764D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DE5D-5ACF-4D14-8302-DC7AD560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2FF7-F724-4D50-949E-69E70F89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1AEB-4B97-44D6-AF42-5ADF3FFF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98E-E7B4-430F-BA4B-7656D950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7FA0-0638-4EE4-8A3F-013F5A58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BE9C-45B9-4758-BC64-AF55C40E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433E-536F-4879-98F1-99019A3C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D745-ECA2-4A70-A564-8AFE6654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7FC2-259F-47D3-8D58-284DEF36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865-64BC-4C24-B390-4D51EF5F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603-99AC-4E77-95AD-08A417AB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26F-EDBF-40D4-84E7-C721FB86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A38-3B1B-4A0D-91F2-CCF85A75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65A-F3CA-4556-81AB-ACFDBBBB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5AF-2968-4F30-BF4A-C92B726E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1E4-FD9D-4506-A153-D5E6BAEE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30A2-F972-46A9-B1C7-88714418256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9042-6F6D-46D7-B2A2-9F7A2AE2B26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Inleiding Stofwissel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tofwissel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Is een proces waarbij uit voeding en inademingslucht stoffen opgenomen worden en daarna omgezet in voor het lichaam nuttige stoffe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Hierbij komen afbraakproducten vrij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e vier stofwisselingsstelsel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pijsverter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irculatie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emhalings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itscheidings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pijsverter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s het verteren van het eten dat we binnen krijg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t eten dat we binnen krijgen moet heel klein gemaakt word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iervoor gebruiken we sappen/enzymen die een bepaalde stof kleiner maak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unctie spijsverter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nem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jnmak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rvoer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fbreken/kleiner mak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name in het bloed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fvoer van onverteerbare voed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7:38:20Z</dcterms:created>
  <dc:creator>custom</dc:creator>
  <dc:description/>
  <dc:language>en-US</dc:language>
  <cp:lastModifiedBy>J.W.P. Bugel</cp:lastModifiedBy>
  <dcterms:modified xsi:type="dcterms:W3CDTF">2011-10-11T09:39:42Z</dcterms:modified>
  <cp:revision>4</cp:revision>
  <dc:subject/>
  <dc:title>Inleiding Stofwisseling</dc:title>
</cp:coreProperties>
</file>