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9719-9736-425F-B444-28DC33E0D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4872-A430-49B2-B9EC-14CC725BD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F549-AC70-46E6-A91D-DA859A9B6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AC31-2482-422B-84F2-56B61E567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E4D9D-C1C2-4348-B69A-783E2797E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585A7-BB4D-4673-8AFF-EC8A42D1F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75217-467C-4CBE-B8C7-2123F9414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F5FFF-4093-4EEA-8028-A45F66AF1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C5C68-94FC-472D-B7AA-1E6673B6E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64E71-9303-459F-A7C9-7F8EB3BF9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557D8-8F8B-412A-8B27-AFDD8264B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CEA9-F19A-4A14-9116-C3F156584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2457C-B78D-439F-A355-95FA4203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51CB3-58F2-4D91-9A06-804A75C72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359B5-FA83-4FA8-B588-D7EB79DF0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A8627-2007-42E0-8DC6-F61FE4F67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6C10B-689F-43ED-B6F5-551FED69D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B78B-F338-4021-8E6C-F24830A2D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924B-E8A2-4FEB-84AA-4DE6B845B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DB66-8CA7-4CE7-9F12-3AC494CF7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AC57-9BCD-49C0-BEBB-F0959FA6F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1F31-73D9-4484-B362-4347A8C93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7D95-9B78-420B-A9DC-CAA62428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1C8F-01D2-45FF-AA95-92A4F8A5C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C71B7-C5FA-4BCA-BD73-E3A57A0FCAE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C7FC1-7B5B-4AD3-851B-DC7D92822F1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e hersene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 plaatj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Zenuwc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2" name="-Neuron-nl" descr=""/>
          <p:cNvPicPr/>
          <p:nvPr/>
        </p:nvPicPr>
        <p:blipFill>
          <a:blip r:embed="rId1"/>
          <a:stretch/>
        </p:blipFill>
        <p:spPr>
          <a:xfrm>
            <a:off x="2666880" y="2044800"/>
            <a:ext cx="381024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kwabbe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5" name="_hersenschors2" descr=""/>
          <p:cNvPicPr/>
          <p:nvPr/>
        </p:nvPicPr>
        <p:blipFill>
          <a:blip r:embed="rId1"/>
          <a:stretch/>
        </p:blipFill>
        <p:spPr>
          <a:xfrm>
            <a:off x="2819520" y="2782800"/>
            <a:ext cx="3809880" cy="32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nderaanzicht hersene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8" name="Picture_2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57200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kwabbe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1" name="hersenen2" descr=""/>
          <p:cNvPicPr/>
          <p:nvPr/>
        </p:nvPicPr>
        <p:blipFill>
          <a:blip r:embed="rId1"/>
          <a:stretch/>
        </p:blipFill>
        <p:spPr>
          <a:xfrm>
            <a:off x="2670120" y="1857240"/>
            <a:ext cx="363528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entrale zenuwstelsel en perifere zenuwstels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4" name="zenewstelsel1" descr=""/>
          <p:cNvPicPr/>
          <p:nvPr/>
        </p:nvPicPr>
        <p:blipFill>
          <a:blip r:embed="rId1"/>
          <a:stretch/>
        </p:blipFill>
        <p:spPr>
          <a:xfrm>
            <a:off x="3352680" y="1981080"/>
            <a:ext cx="2514600" cy="43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Zijaanzicht hersene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7" name="hersenen%204" descr=""/>
          <p:cNvPicPr/>
          <p:nvPr/>
        </p:nvPicPr>
        <p:blipFill>
          <a:blip r:embed="rId1"/>
          <a:stretch/>
        </p:blipFill>
        <p:spPr>
          <a:xfrm>
            <a:off x="2057400" y="2895480"/>
            <a:ext cx="475452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entra in de hersene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0" name="kwabben" descr=""/>
          <p:cNvPicPr/>
          <p:nvPr/>
        </p:nvPicPr>
        <p:blipFill>
          <a:blip r:embed="rId1"/>
          <a:stretch/>
        </p:blipFill>
        <p:spPr>
          <a:xfrm>
            <a:off x="2133720" y="3013200"/>
            <a:ext cx="419076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e hersene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3" name="hersenen%201" descr=""/>
          <p:cNvPicPr/>
          <p:nvPr/>
        </p:nvPicPr>
        <p:blipFill>
          <a:blip r:embed="rId1"/>
          <a:stretch/>
        </p:blipFill>
        <p:spPr>
          <a:xfrm>
            <a:off x="2133720" y="1725480"/>
            <a:ext cx="487656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9T09:38:43Z</dcterms:created>
  <dc:creator>BugelJ</dc:creator>
  <dc:description/>
  <dc:language>en-US</dc:language>
  <cp:lastModifiedBy>BugelJ</cp:lastModifiedBy>
  <dcterms:modified xsi:type="dcterms:W3CDTF">2007-12-19T09:43:43Z</dcterms:modified>
  <cp:revision>1</cp:revision>
  <dc:subject/>
  <dc:title>De hersenen</dc:title>
</cp:coreProperties>
</file>