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CCE-2B06-49DF-A5E8-D6270F4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99F-222D-40F8-8A1A-537D78A9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61C-0409-42F8-93DE-0105B043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C62-5379-44A8-878C-2A35FC05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992E-34DD-4039-B2EE-54DBD0A6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9676-E9E7-4D10-8041-F114C484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7A3C-1B1B-4A42-B3F0-D82712FF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E985-E1C2-4D4B-A6D2-37AFC4F3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0E7F-41E8-4ABD-8EF1-0601E0B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5768-321B-43CD-967E-F5BF525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FA6B-4F83-4826-8C15-913504F8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4DB-166D-4887-98F1-98FCF1E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2E57-FB75-42DC-92C5-EAE4A0C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72D8-28C4-4D9B-B823-65F66E01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A533-84FA-482C-833A-3A920EEC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CA1D-C588-4616-924D-81CD15B9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CEB6-F27B-4EF0-BA6C-BB85F4BD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FD9-B306-471A-A980-64FE4F61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73A-029F-4D50-9C53-2A9895DF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555-7B02-456B-9CF7-F0F3B3CE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6EF-48DA-45DD-9382-2DED4720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3B6-4128-42FD-A557-CA03832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6EE-D34C-43F0-BD4A-9A3A948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A03-545C-4EB9-A157-527F63A8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A652-30C0-4616-8DF9-8C7B46580A7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6125-C0A1-4A3A-A287-240358AF5C4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loedsomloo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62320" y="1600200"/>
            <a:ext cx="2619360" cy="45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naar het hart t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oppervlakk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unne slapp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447640" cy="34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e komt het bloed terug naar het hart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ppen voorkomen terugstr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p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igende werking van het 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gang van slagader naar 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hele dunn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en kleppen en 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wisseling van 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slagcyc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pannings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ysto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actie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eddruk/Tens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druk in de slag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e druk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onder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boven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292896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lastische bloedvaten zorgen voor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inde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druk in de bloedvat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43040"/>
            <a:ext cx="6121440" cy="389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cema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art krijgt een elektrisch impuls waardoor het hart gaat samentr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uskno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eft deze i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t in de wand van de rechter boez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willekeu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s een soort van pac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906720"/>
            <a:ext cx="25210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rsgestreept spierweefs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del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boezems(atri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kamers(ventrik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uskn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3240" y="1994040"/>
            <a:ext cx="4457520" cy="28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4328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AV klep=Mitralis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er AV klep=Tricuspidale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ze kleppen voorkomen het terugstromen van het bloed naar de boe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ortaklep=klep tussen linkerkamer en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lisklep=klep tussen rechterkamer en longslag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386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rans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ziet het hart van bloed.                       (het hart heeft ook  zuurstof en voedingsstoffen nodig om te kunnen wer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ansslagader is de 1e aftakking van de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nauwing van kransslagader geeft een tekort aan zuurstof naar de hartspier toe.Gevolg:hartinfarct!!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495440"/>
            <a:ext cx="532908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tische bloedsoml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5844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35736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van het hart 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ge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die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ikke elastische spier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56:08Z</dcterms:created>
  <dc:creator> Bugel</dc:creator>
  <dc:description/>
  <dc:language>en-US</dc:language>
  <cp:lastModifiedBy>J.W.P. Bugel</cp:lastModifiedBy>
  <dcterms:modified xsi:type="dcterms:W3CDTF">2010-12-08T07:48:28Z</dcterms:modified>
  <cp:revision>14</cp:revision>
  <dc:subject/>
  <dc:title>Bloedsomloop</dc:title>
</cp:coreProperties>
</file>