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12A4-F1A2-4BAE-9C41-B5B50E9B537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19B5-60AA-44E1-8B58-0C4E10D727E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341E-9B4A-4E89-861B-27460486E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AA36-6E75-4778-A239-0194BE40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9439-471D-467B-A161-3A62F0A6B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96D0-F4AF-40F2-9DC9-6137730B8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4C2C-456B-4840-86D3-18C036F44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2D46-2529-4C64-94FA-1BFFF0AA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0213D-AE4A-40E4-8DC9-F7FBE91D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ECE8-AB09-4C42-A0FB-A2B7521B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52E7-0FDC-4E11-9D4D-FA511EC5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3DC3-07A8-4868-8D0F-D07F25FD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076F-A45F-4C0D-B0F8-AFFCE841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828A-E695-4871-8160-27529B1C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759F-032E-475F-8281-169DA756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B750-A230-4108-A91C-5345C2FA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221D-C8A6-413A-9313-9EDCDC3B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DA57-F265-4076-9093-F65A37C90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CF56-76C3-473D-A906-8B862082B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B782-BE88-48E0-AD13-7AA6DD8A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BDB3-0752-4020-86DA-6D60FC5B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105F-FDF9-44C0-A88F-326CD971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955D-E5AB-40D6-BECD-6BE8C1A2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1A0D-151B-4DDC-86BC-3EE3F739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3232-0FD0-4BBE-B77D-F9FB0D83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0660-B59B-4F20-8DCB-6CEEECB1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B43A-FAC4-425D-91B9-87D64D7E459C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179A-8452-4609-A4BC-76349F531B67}" type="slidenum">
              <a:rPr b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420000"/>
                </a:solidFill>
                <a:latin typeface="Times New Roman"/>
              </a:rPr>
              <a:t>Spijsvertering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lle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Functie van deze sappe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t zo klein maken van de moleculen , dat deze opgenomen kunnen worden in het blo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s de voedingsstoffen opgenomen zijn in het bloed, gaan deze eerst via de poortader naar de le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ier worden deze lichaamsvreemde stoffen omgezet in lichaamseigen voedingsstoff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Anatomie spijsverteringskanaal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1.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2.keelhol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3.slokd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4.ma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5.dar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6.dikke d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7.endeld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8.a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7" descr="spijsvertereing 3"/>
          <p:cNvPicPr/>
          <p:nvPr/>
        </p:nvPicPr>
        <p:blipFill>
          <a:blip r:embed="rId1"/>
          <a:stretch/>
        </p:blipFill>
        <p:spPr>
          <a:xfrm>
            <a:off x="5238720" y="2054160"/>
            <a:ext cx="2857680" cy="3849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Mond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malen van het voeds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mengen met speeksel(1 -1.5 liter per da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3 paar speekselkli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oevoegen van 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amyl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tong heeft smaakpapil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keelholt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likreflex:de luchtweg naar de neus en luchtpijp is afgeslo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fsluiting naar neus:zachtgehemelte en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u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fsluiting naar luchtpijp:strottenkl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98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98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98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98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Slokdarm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Transportbu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eristaltische bewe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8" descr="slokdarmtekst_350"/>
          <p:cNvPicPr/>
          <p:nvPr/>
        </p:nvPicPr>
        <p:blipFill>
          <a:blip r:embed="rId1"/>
          <a:stretch/>
        </p:blipFill>
        <p:spPr>
          <a:xfrm>
            <a:off x="4788000" y="2060640"/>
            <a:ext cx="3098880" cy="3076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98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98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Maag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1.tijdelijk reservo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2.secretie maags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3.ingang:maagmond   (card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4.uitgang:maagportier (pylor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4" descr="maag_350"/>
          <p:cNvPicPr/>
          <p:nvPr/>
        </p:nvPicPr>
        <p:blipFill>
          <a:blip r:embed="rId1"/>
          <a:stretch/>
        </p:blipFill>
        <p:spPr>
          <a:xfrm>
            <a:off x="5003640" y="2114640"/>
            <a:ext cx="2881440" cy="268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nl-NL" sz="3600" spc="-1" strike="noStrike">
                <a:solidFill>
                  <a:srgbClr val="420000"/>
                </a:solidFill>
                <a:latin typeface="Times New Roman"/>
              </a:rPr>
              <a:t>Samenstelling maagsap                 (2 liter per dag)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1.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2.slijm(bescherming van de maagwan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3.zoutzuur(HC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4.pepsine(eiwitafbrekend enzy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Pylorusreflex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pylorus(maagportier)laat beetje bij beetje de maaginhoud toe tot de twaalfvingerige d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willekeurige sp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oor het basisch worden van de darminhoud gaat de pylorus op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6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1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darme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63" name="Picture 4" descr="dunne darm"/>
          <p:cNvPicPr/>
          <p:nvPr/>
        </p:nvPicPr>
        <p:blipFill>
          <a:blip r:embed="rId1"/>
          <a:stretch/>
        </p:blipFill>
        <p:spPr>
          <a:xfrm>
            <a:off x="2587680" y="1828800"/>
            <a:ext cx="397332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Darme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1.twaalfvingerige darm(duodenum)= ong.30 cm l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2.nuchtere darm(jejunum)= ong.250 cm l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3.kronkeldarm(ileum)= ong.350 cm l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4" descr="12 vingerige"/>
          <p:cNvPicPr/>
          <p:nvPr/>
        </p:nvPicPr>
        <p:blipFill>
          <a:blip r:embed="rId1"/>
          <a:stretch/>
        </p:blipFill>
        <p:spPr>
          <a:xfrm>
            <a:off x="4859280" y="1974960"/>
            <a:ext cx="3673440" cy="33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Levend organism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liest vocht en voe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iervoor is aanvulling nod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us eten en drin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Samenstelling darmsap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lij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ripsine(splitsing eiwitten tot aminozur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sacharidasen(splitsing van suikers tot monosacharid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2-3 liter per d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Twaalfvingerige darm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galbuis en de alvleesklierbuis komen uit in de twaalfvingerige dar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laats:papil van Vater(een spiertje zorgt er voor dat de darminhoud niet terug stroomt naar alvleesklier en galbla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galbuis en alvleesklierbuis transporteren gal en alvleeskliersap naar de twaalfvingerige d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Gal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maakt in de le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pgeslagen in de galblaas(vesica felle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ia de ductus choledochus naar de twaalfvingerige d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0.75 liter per d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0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2" dur="1" fill="hold"/>
                                  <p:tgtEl>
                                    <p:spTgt spid="1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Samenstelling gal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lij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aHCO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alzou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olesto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alkleurst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4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4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Samenstelling alvleeskliersap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lij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mylase(afbreken koolhydrat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ripsyne(afbreken eiwitt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ipase(afbreken v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atriumbicarbonaat(NaHCO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1 liter per d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Alvleeskli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85" name="Picture 4" descr="alvleesklier"/>
          <p:cNvPicPr/>
          <p:nvPr/>
        </p:nvPicPr>
        <p:blipFill>
          <a:blip r:embed="rId1"/>
          <a:stretch/>
        </p:blipFill>
        <p:spPr>
          <a:xfrm>
            <a:off x="4716360" y="1773360"/>
            <a:ext cx="324036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Officiele latijnse terme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uctus choledochus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= galbu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uctus pancreaticus= alvleesklierbu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ancreas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= alvleeskl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ductus pancreas"/>
          <p:cNvPicPr/>
          <p:nvPr/>
        </p:nvPicPr>
        <p:blipFill>
          <a:blip r:embed="rId1"/>
          <a:stretch/>
        </p:blipFill>
        <p:spPr>
          <a:xfrm>
            <a:off x="4788000" y="1994040"/>
            <a:ext cx="367164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0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Nuchtere darm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aak:verder transporteren van de darminho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aak:verder afbreken van de voedingsstoff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s meestal leeg bij een overledene(vandaar de naa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0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Kronkeldarm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s het belangrijkste deel van de spijsverteringskanaal.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-de verteerde voedingsstoffen word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ia de darmwand aan het blo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fgegev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-hierdoor kan het lichaam dez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edingsstoffen gebrui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0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Poortad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 het bloed met de opgenomen voedingsstoffen verzamelt zich in de poortader(vena porta) en gaat dan naar de le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ier worden de voedingsstoffen omgezet in stoffen die het lichaam kan gebruik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0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0000"/>
                </a:solidFill>
                <a:latin typeface="Times New Roman"/>
              </a:rPr>
              <a:t>Zorgvragers vragen speciale aandacht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1.Moeten verantwoorde voeding krij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2.Hebben soms hulp hierbij nod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3.Bijhouden van de vochtba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4.Kans op ondervoeding/uitdro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Waar zit de poortader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01" name="Picture 4" descr="poortader=4"/>
          <p:cNvPicPr/>
          <p:nvPr/>
        </p:nvPicPr>
        <p:blipFill>
          <a:blip r:embed="rId1"/>
          <a:stretch/>
        </p:blipFill>
        <p:spPr>
          <a:xfrm>
            <a:off x="3381480" y="1828800"/>
            <a:ext cx="238104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0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Waar zit de lever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04" name="Picture 4" descr="Maag"/>
          <p:cNvPicPr/>
          <p:nvPr/>
        </p:nvPicPr>
        <p:blipFill>
          <a:blip r:embed="rId1"/>
          <a:stretch/>
        </p:blipFill>
        <p:spPr>
          <a:xfrm>
            <a:off x="2103480" y="1828800"/>
            <a:ext cx="4937040" cy="4302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0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0000"/>
                </a:solidFill>
                <a:latin typeface="Times New Roman"/>
              </a:rPr>
              <a:t>Overgang kronkeldarm–dikke darm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07" name="Picture 7" descr="overgang dikke darm"/>
          <p:cNvPicPr/>
          <p:nvPr/>
        </p:nvPicPr>
        <p:blipFill>
          <a:blip r:embed="rId1"/>
          <a:stretch/>
        </p:blipFill>
        <p:spPr>
          <a:xfrm>
            <a:off x="3059280" y="2265480"/>
            <a:ext cx="328284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0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Dikke darm (Colon)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ort stuwen van de darmmas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dikken van deze mas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erugresorptie van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teren van onverteerbare res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oductie vitamine 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oductie metha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0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Dikke darm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13" name="Picture 10" descr="endeldarm"/>
          <p:cNvPicPr/>
          <p:nvPr/>
        </p:nvPicPr>
        <p:blipFill>
          <a:blip r:embed="rId1"/>
          <a:stretch/>
        </p:blipFill>
        <p:spPr>
          <a:xfrm>
            <a:off x="2333520" y="2052720"/>
            <a:ext cx="4649760" cy="4066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0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Endeldarm(rectum)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5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pslagpla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der indikken van de mas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4" descr="Colon2"/>
          <p:cNvPicPr/>
          <p:nvPr/>
        </p:nvPicPr>
        <p:blipFill>
          <a:blip r:embed="rId1"/>
          <a:stretch/>
        </p:blipFill>
        <p:spPr>
          <a:xfrm>
            <a:off x="4950000" y="2112840"/>
            <a:ext cx="343980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nodeType="clickEffect" fill="hold">
                      <p:stCondLst>
                        <p:cond delay="0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Anu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armop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estaat uit 2 sluitspieren(sfinct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Uitwend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willekeur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wend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onwillekeur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0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8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898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898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898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898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898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898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Defecatie proc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In rust is de rectumwand ontspannen en is de inwendige sluitspier aangespan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ij een bepaalde vullingsgraad van het rectum worden reksensoren geprikk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e inwendige sluitspier ontspant en tegelijkertijd spant zich de uitwendige sluitsp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p een geschikt moment kan defecatie plaats vin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Spijsvertering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ysteem van afbraak en opname van voedingsstoffen in ons licha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darmstelsel"/>
          <p:cNvPicPr/>
          <p:nvPr/>
        </p:nvPicPr>
        <p:blipFill>
          <a:blip r:embed="rId1"/>
          <a:stretch/>
        </p:blipFill>
        <p:spPr>
          <a:xfrm>
            <a:off x="5478480" y="2622600"/>
            <a:ext cx="237960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Noodzakelijke voedingsstoffe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1.koolhydra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2.vet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3.eiwit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4.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5.vitami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6.minera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Beschuit_40_kcal_2"/>
          <p:cNvPicPr/>
          <p:nvPr/>
        </p:nvPicPr>
        <p:blipFill>
          <a:blip r:embed="rId1"/>
          <a:stretch/>
        </p:blipFill>
        <p:spPr>
          <a:xfrm>
            <a:off x="4724280" y="23623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0000"/>
                </a:solidFill>
                <a:latin typeface="Times New Roman"/>
              </a:rPr>
              <a:t>Noodzakelijke voedings en bouwstoffen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ouwsto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Dienen voor opbouw nieuwe cellen en gro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Mineral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iwitten (aminozur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itaminen (co enzy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oedingssto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Dienen als energieleveranc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Koolhydra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iwi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Aantal caloriee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4" descr="calorien"/>
          <p:cNvPicPr/>
          <p:nvPr/>
        </p:nvPicPr>
        <p:blipFill>
          <a:blip r:embed="rId1"/>
          <a:stretch/>
        </p:blipFill>
        <p:spPr>
          <a:xfrm>
            <a:off x="3276720" y="1828800"/>
            <a:ext cx="26668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Schijf van vijf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4" descr="schijfvvijf"/>
          <p:cNvPicPr/>
          <p:nvPr/>
        </p:nvPicPr>
        <p:blipFill>
          <a:blip r:embed="rId1"/>
          <a:stretch/>
        </p:blipFill>
        <p:spPr>
          <a:xfrm>
            <a:off x="2438280" y="1981080"/>
            <a:ext cx="45054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Spijsvertering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leiner maken van de grote voedingsmolecul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-4554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or het kleiner maken van deze moleculen produceert het lichaam een aantal sappen die dit proces volbre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6680" indent="-45396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peek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6680" indent="-45396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gs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6680" indent="-45396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arms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6680" indent="-45396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lvleeskliers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6680" indent="-45396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20:03:46Z</dcterms:created>
  <dc:creator> Bugel</dc:creator>
  <dc:description/>
  <dc:language>en-US</dc:language>
  <cp:lastModifiedBy>J.W.P. Bugel</cp:lastModifiedBy>
  <dcterms:modified xsi:type="dcterms:W3CDTF">2014-12-04T19:13:23Z</dcterms:modified>
  <cp:revision>18</cp:revision>
  <dc:subject/>
  <dc:title>Spijsvertering</dc:title>
</cp:coreProperties>
</file>