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png" ContentType="image/png"/>
  <Override PartName="/ppt/media/image6.jpeg" ContentType="image/jpeg"/>
  <Override PartName="/ppt/media/image7.jpeg" ContentType="image/jpeg"/>
  <Override PartName="/ppt/media/image8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F30AC-6B09-4188-B07D-3720ADC08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63A46-CAC1-4664-A3B4-069EB13DC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C325E-4941-46B9-AD50-58F85CD06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F7C2F-5216-4534-B0DE-A06AABEC7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922CF-2007-4F89-918B-E4123DB1E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93F29-99BA-40BE-BD78-2855FC5BF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5187E-45FA-4E6E-8E7F-A6139E466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65981-4AAD-41EF-ADFD-D147A01DB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9ED92-221B-4475-95FD-E63C64F9E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0DB0D-9F4F-4BDF-90AA-36F39F4F5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C4125-E8B1-4498-90B7-D4E70D950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D13A9-032A-4298-BF08-CFE803DC6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D86B5-1D4D-42D1-BB5E-4FB5390E3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021B9-DC15-4E70-9C72-1744E278F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12CF1-0D41-4557-85EB-D7C525D78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22B1A-1543-4920-80C7-B7926862F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CD35F-C05A-4EC5-82B3-ACBD0AD09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D66C2-5002-4890-BE18-0A1629BF3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4CD46-4FBE-47C2-BD9A-6CA981169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6414B-B88B-4EF3-AD21-45F0DD58A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97D89-B0BE-409C-8BE0-791CC4E38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AA4AD-8FC5-4659-A473-8E9CE4CF2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849F0-BCB8-44B1-91AF-3399F6F24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C1316-D2CD-40A1-B0AA-743974E75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D1AF8-2362-4BE8-9DF6-32F296F233F3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B39B3-75DE-453C-857B-D35668392BBF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De hersene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De plaatj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Zenuwcel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12" name="-Neuron-nl" descr=""/>
          <p:cNvPicPr/>
          <p:nvPr/>
        </p:nvPicPr>
        <p:blipFill>
          <a:blip r:embed="rId1"/>
          <a:stretch/>
        </p:blipFill>
        <p:spPr>
          <a:xfrm>
            <a:off x="2666880" y="2044800"/>
            <a:ext cx="3810240" cy="276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kwabbe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15" name="_hersenschors2" descr=""/>
          <p:cNvPicPr/>
          <p:nvPr/>
        </p:nvPicPr>
        <p:blipFill>
          <a:blip r:embed="rId1"/>
          <a:stretch/>
        </p:blipFill>
        <p:spPr>
          <a:xfrm>
            <a:off x="2819520" y="2782800"/>
            <a:ext cx="3809880" cy="321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Onderaanzicht hersene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18" name="Picture_2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57200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kwabbe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21" name="hersenen2" descr=""/>
          <p:cNvPicPr/>
          <p:nvPr/>
        </p:nvPicPr>
        <p:blipFill>
          <a:blip r:embed="rId1"/>
          <a:stretch/>
        </p:blipFill>
        <p:spPr>
          <a:xfrm>
            <a:off x="2670120" y="1857240"/>
            <a:ext cx="3635280" cy="39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entrale zenuwstelsel en perifere zenuwstelsel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24" name="zenewstelsel1" descr=""/>
          <p:cNvPicPr/>
          <p:nvPr/>
        </p:nvPicPr>
        <p:blipFill>
          <a:blip r:embed="rId1"/>
          <a:stretch/>
        </p:blipFill>
        <p:spPr>
          <a:xfrm>
            <a:off x="3352680" y="1981080"/>
            <a:ext cx="2514600" cy="433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Zijaanzicht hersene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27" name="hersenen%204" descr=""/>
          <p:cNvPicPr/>
          <p:nvPr/>
        </p:nvPicPr>
        <p:blipFill>
          <a:blip r:embed="rId1"/>
          <a:stretch/>
        </p:blipFill>
        <p:spPr>
          <a:xfrm>
            <a:off x="2057400" y="2895480"/>
            <a:ext cx="475452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entra in de hersene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30" name="kwabben" descr=""/>
          <p:cNvPicPr/>
          <p:nvPr/>
        </p:nvPicPr>
        <p:blipFill>
          <a:blip r:embed="rId1"/>
          <a:stretch/>
        </p:blipFill>
        <p:spPr>
          <a:xfrm>
            <a:off x="2133720" y="3013200"/>
            <a:ext cx="4190760" cy="28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De hersene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33" name="hersenen%201" descr=""/>
          <p:cNvPicPr/>
          <p:nvPr/>
        </p:nvPicPr>
        <p:blipFill>
          <a:blip r:embed="rId1"/>
          <a:stretch/>
        </p:blipFill>
        <p:spPr>
          <a:xfrm>
            <a:off x="2133720" y="1725480"/>
            <a:ext cx="487656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9T09:38:43Z</dcterms:created>
  <dc:creator>BugelJ</dc:creator>
  <dc:description/>
  <dc:language>en-US</dc:language>
  <cp:lastModifiedBy>BugelJ</cp:lastModifiedBy>
  <dcterms:modified xsi:type="dcterms:W3CDTF">2007-12-19T09:43:43Z</dcterms:modified>
  <cp:revision>1</cp:revision>
  <dc:subject/>
  <dc:title>De hersenen</dc:title>
</cp:coreProperties>
</file>