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449-74BB-47AE-A705-B8A4776C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0BC-ACD3-4F56-A903-E20ACF4E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71A-0C2D-471F-AFC1-A0E58B66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254-BA8C-4CD4-A4C2-FF362D29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80F2-A025-43A2-BCC0-ADB795E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0EB7-F23B-446F-89B9-BD302E10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1B8B-7D76-4FBF-BC17-36CDB044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94B4-36EA-407A-A167-22FB4D2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F36F-ADCA-41FC-A1FE-C2819FFF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DA29-CE95-47B3-8D52-9F04FC4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1A30-FFB3-4031-B45F-5438B08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24E-9A5D-47D5-89C8-7F23D5F2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BBFD-F952-4A2E-8090-84C048B2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2B8B-5173-40BF-83AC-E0CF2C6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5082-7695-4E67-A907-D000B8F5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177E-44BC-45CC-AA82-9E874B9F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5EDF-D5DE-4906-88BE-DF120AE3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3BC-14B3-429A-A58C-D76307D5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92F-CFDC-4CBC-BDB6-414C8B3B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310-2AB0-40DD-BEEC-6BEA6C0D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C03-C6AB-454F-BDED-C56044E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2D3-98D6-46F6-9440-CB6811C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B59-8D7C-47C8-B679-4B1D8FB9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1ED-A761-4FB9-A540-E872A7C8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4E67-FCB4-4369-B8DA-B4228CC9317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DE48-D490-41FD-BB30-EEACBCF4B4E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Vrouwelijke en mannelijke geslachtsorga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in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uitwe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mment 4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cust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en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bij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wen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zaadblaas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pro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klieren van Cow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nnelijke geslacht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6" descr="prostaat"/>
          <p:cNvPicPr/>
          <p:nvPr/>
        </p:nvPicPr>
        <p:blipFill>
          <a:blip r:embed="rId1"/>
          <a:stretch/>
        </p:blipFill>
        <p:spPr>
          <a:xfrm>
            <a:off x="1795320" y="1600200"/>
            <a:ext cx="555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en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rinebuis(urethr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ellichamen(2 bovenste en 1 onders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sexuele prikkels neemt de bloedtoevoer toe en de bloedafvoer 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erdoor een erectie van de p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ik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de verwijding van het onderste zwel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hu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en losse huidploo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 terug geschoven wo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 weggehaald(besnijdenis/circumsic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ballen(test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in een huidplooi(scrot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angen aan de zaadstre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oduceren testoste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ontwikkeling van secundaire geslachtskenmerken(zie blz 47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productie van zaadcellen en prostaat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muleert de aanmaak van spierma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ijballen(epididymi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en achter de zaadb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en voor de verdere rijping van de in de zaadballen gevormde zaadce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en opslagruimte voor zaadcel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adcellen zijn 3 weken te bewa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adleiders en zaadblaasj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leider is de verbinding tussen bijbal en urinebuis en zorgt voor het transport van de zaad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zaadblaasjes produceren zaadvloeistof voor de voeding van de zaadcellen en deze vloeistof komt uit in de zaadle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erma bestaat voor 99% uit zaadvloeistof en voor 1% uit zaadcellen(spermatozöi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rootste deel van spermavloeistof wordt gemaakt do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aadblaasje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st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eren van Cowp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rwtgrote klieren die een dik en kleverig slijm ma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-329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lijm is basisch en neutraliseert het zure milieu van de plasb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8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Picture 4" descr="ProstaatvergrotingPlaatje"/>
          <p:cNvPicPr/>
          <p:nvPr/>
        </p:nvPicPr>
        <p:blipFill>
          <a:blip r:embed="rId1"/>
          <a:stretch/>
        </p:blipFill>
        <p:spPr>
          <a:xfrm>
            <a:off x="2700360" y="1822320"/>
            <a:ext cx="410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t rondom het 1e gedeelte van de urinebu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 groot als een kas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de producent van zaadvloeist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vergro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s op vergroting bij alle m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unnen zich problemen voor doen bi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s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aadlo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Prostaatkan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de nr 2 op de lijst van tumoren bij man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al na je 50e ja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roeit langza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umor-beperkt-tot-prostaat"/>
          <p:cNvPicPr/>
          <p:nvPr/>
        </p:nvPicPr>
        <p:blipFill>
          <a:blip r:embed="rId1"/>
          <a:stretch/>
        </p:blipFill>
        <p:spPr>
          <a:xfrm>
            <a:off x="4140360" y="2421000"/>
            <a:ext cx="5003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br>
              <a:rPr sz="4200"/>
            </a:br>
            <a:br>
              <a:rPr sz="4200"/>
            </a:b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wendi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ersto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ile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aarmoe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Picture 4" descr="poster impotentie"/>
          <p:cNvPicPr/>
          <p:nvPr/>
        </p:nvPicPr>
        <p:blipFill>
          <a:blip r:embed="rId1"/>
          <a:stretch/>
        </p:blipFill>
        <p:spPr>
          <a:xfrm>
            <a:off x="3459240" y="1844640"/>
            <a:ext cx="24415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mpoten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het onvermogen om een erectie te krijgen of te handha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medicatie(bv morf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giftiging(bv alcohol/drugs/nicot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verandering van de hormoonhuishou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nder testoster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erdoor vaak een afname van de geslachts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Oplossing???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Picture 4" descr="Viagra"/>
          <p:cNvPicPr/>
          <p:nvPr/>
        </p:nvPicPr>
        <p:blipFill>
          <a:blip r:embed="rId1"/>
          <a:stretch/>
        </p:blipFill>
        <p:spPr>
          <a:xfrm>
            <a:off x="3071880" y="177012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rouwelijk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vrouwgeslachts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erstokken(ovari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igging:in de buik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mandelvorm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5-4.5 cm lang en 1- 2 cm br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ontwikkeling van een maandelijkse eicel en de geslachtshormo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Eileider (tuba uterin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de verbinding tussen eierstok en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ongeveer 10 cm 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gt als het ware het eitje op en zorgt voor vervoer naar de baarmo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 vindt de conceptie pla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vruchte eicel verplaatst zich naar de baarmoeder(doet daar 5 dagen ov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t bevruchte cel  wordt afgevoerd door de eileiderwand h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aarmoeder (uteru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vorm van een omgekeerde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 cm bij 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vruchte cel nestelt zich in de baarmoederw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hele baarmoeder is meestal naar voren gebogen en ligt hierdoor op de urinebl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te deel van de baarmoeder is de baarmoederhals (cervix) en steekt uit in het achterste gedeelte van de vag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lte in de baarmoederhals noem je het cervix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 boek blz 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agin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kanaal van ong. 8 cm en is verbinding tussen baarmoeder en buitenwer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paringsorg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eft een lage ph waarde(is zuu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omt van de melkzuur, afgescheiden door de Döderlein-bacil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waarde geeft bescherming tegen infec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s funest voor zaadcellen(zijn neutraal/alkalis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wendige geslachtsorga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t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schaamli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amheu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ans7_vulva"/>
          <p:cNvPicPr/>
          <p:nvPr/>
        </p:nvPicPr>
        <p:blipFill>
          <a:blip r:embed="rId1"/>
          <a:stretch/>
        </p:blipFill>
        <p:spPr>
          <a:xfrm>
            <a:off x="4572000" y="2590920"/>
            <a:ext cx="45720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ulv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schaamlippen (labia maj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behaarde,dikke huidploo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vatten veel onderhuidsvetweefsel en k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nusheuvel (mons vene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dikking aan voorkant vu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e schaamlippen (labis min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ggen binnen de grote schaam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hof (vestibul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denvlies sluit voorhof gedeeltelijk of geheel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ttelaar (clito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er dicht bezet met 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J Bü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08:11Z</dcterms:created>
  <dc:creator>custom</dc:creator>
  <dc:description/>
  <dc:language>en-US</dc:language>
  <cp:lastModifiedBy>J.W.P. Bugel</cp:lastModifiedBy>
  <dcterms:modified xsi:type="dcterms:W3CDTF">2015-05-29T07:37:21Z</dcterms:modified>
  <cp:revision>13</cp:revision>
  <dc:subject/>
  <dc:title>Vrouwelijke en mannelijke geslachtsorganen</dc:title>
</cp:coreProperties>
</file>