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31C-A8C7-4C6A-B7DF-FFB046EA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191-54E7-4E68-A310-5C10856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FD6-F85C-4F2C-B0C5-F721FCAB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28B-06C1-4576-A75C-40AC28BF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255-5BC8-46E3-9C23-F81D9455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8376-0C12-45EA-A6CD-CD927F69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D23-7C32-46F5-8B23-32247EA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4EE2-2F9F-41B6-A7A6-B55C04BF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DE2-13DF-4482-A439-019DBE72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BADA-7A93-47C1-877E-17279719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E36D-CA5E-4965-89E7-AB918759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E98-863C-4BF1-84E2-7A9AC79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5E56-7DCB-45DD-81E5-BA2AF220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C4C-FE95-456E-ACB6-C7DD2BF8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5490-7570-4885-8D26-23DD6998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E352-8FA7-4284-AD3D-CFADA6B1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4AE6-6EA9-4B52-9529-6C701322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C58-C633-4A6B-B27A-6B79C29E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F3D-28A1-4DCF-BE9C-CBF390F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AF2-8AE7-4881-976B-A1B18329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485-D6A1-430E-9929-8761055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79C-5F1A-475A-AB4C-0C33FBA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97D-2A6D-47F5-A9F6-A708E9E3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D78-25A1-467C-B7B6-5AD436A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8B8D-9D87-4A69-A800-66197A89F5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568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3360" y="274464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7120" y="2642760"/>
                <a:ext cx="98856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16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5360" y="2690640"/>
                <a:ext cx="98856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1920" y="2648880"/>
                <a:ext cx="98892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9480" y="277776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532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3D8F-E33E-4F29-9D8A-5550160656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3366"/>
                </a:solidFill>
                <a:latin typeface="Times New Roman"/>
              </a:rPr>
              <a:t>Spieren en spierstelsel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Tijdelijke aanduiding voor inhoud 3" descr="synaps_et_spier.jpg"/>
          <p:cNvPicPr/>
          <p:nvPr/>
        </p:nvPicPr>
        <p:blipFill>
          <a:blip r:embed="rId1"/>
          <a:stretch/>
        </p:blipFill>
        <p:spPr>
          <a:xfrm>
            <a:off x="2201760" y="2254320"/>
            <a:ext cx="57150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terkte van de spiercontract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.Impulsfrequ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pier krijgt door de hoge frequentie geen tijd om zich te ontsp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gn stapeling van contrac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.Aantal motor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een grotere stimulus van uit de hersenen worden er  meer spieren inge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Glad spierweefs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kr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ageren t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al in de wand van org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Afbeelding 3" descr="gladspier.jpg"/>
          <p:cNvPicPr/>
          <p:nvPr/>
        </p:nvPicPr>
        <p:blipFill>
          <a:blip r:embed="rId1"/>
          <a:stretch/>
        </p:blipFill>
        <p:spPr>
          <a:xfrm>
            <a:off x="5214960" y="4381560"/>
            <a:ext cx="24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Hart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 hiervan lijkt op dat van het dwarsgestreepte spierweef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wille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a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rmoeiba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3" descr="hartspier.jpg"/>
          <p:cNvPicPr/>
          <p:nvPr/>
        </p:nvPicPr>
        <p:blipFill>
          <a:blip r:embed="rId1"/>
          <a:stretch/>
        </p:blipFill>
        <p:spPr>
          <a:xfrm>
            <a:off x="5000760" y="3786120"/>
            <a:ext cx="350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ynerg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 spieren die 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boven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kspieren van de 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gspieren van de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spieren die met elkaar een beweging mogelij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ene spier aanspant,ontspant de andere 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b: biceps en tric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2 spieren zorgen voor de buiging en strekking van de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e bekendste antagonist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:\Documents and Settings\bugelj\Mijn documenten\Mijn afbeeldingen\spiers34.jpg"/>
          <p:cNvPicPr/>
          <p:nvPr/>
        </p:nvPicPr>
        <p:blipFill>
          <a:blip r:embed="rId1"/>
          <a:stretch/>
        </p:blipFill>
        <p:spPr>
          <a:xfrm>
            <a:off x="838080" y="1905120"/>
            <a:ext cx="2724120" cy="40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:\Documents and Settings\bugelj\Mijn documenten\Mijn afbeeldingen\spieren2.jpg"/>
          <p:cNvPicPr/>
          <p:nvPr/>
        </p:nvPicPr>
        <p:blipFill>
          <a:blip r:embed="rId2"/>
          <a:stretch/>
        </p:blipFill>
        <p:spPr>
          <a:xfrm>
            <a:off x="3500280" y="1857240"/>
            <a:ext cx="4086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spanning/ton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rust heeft lichaam een bepaalde spier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zorgt voor de handhav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pasticiteit is de rusttonus te 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ermen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alys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niet bewust kunnen aansp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er wel kunnen aanspannen,maar geen kr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a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erhypertro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r worden van d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atrof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Tijdelijke aanduiding voor inhoud 3" descr="spieratrofie.jpg"/>
          <p:cNvPicPr/>
          <p:nvPr/>
        </p:nvPicPr>
        <p:blipFill>
          <a:blip r:embed="rId1"/>
          <a:stretch/>
        </p:blipFill>
        <p:spPr>
          <a:xfrm>
            <a:off x="1928880" y="2071800"/>
            <a:ext cx="2500200" cy="1919160"/>
          </a:xfrm>
          <a:prstGeom prst="rect">
            <a:avLst/>
          </a:prstGeom>
          <a:ln w="0">
            <a:noFill/>
          </a:ln>
        </p:spPr>
      </p:pic>
      <p:pic>
        <p:nvPicPr>
          <p:cNvPr id="172" name="Afbeelding 4" descr="spieratrofie1.jpg"/>
          <p:cNvPicPr/>
          <p:nvPr/>
        </p:nvPicPr>
        <p:blipFill>
          <a:blip r:embed="rId2"/>
          <a:stretch/>
        </p:blipFill>
        <p:spPr>
          <a:xfrm>
            <a:off x="5500800" y="264312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Taak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ndhouding van de lichaams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bewe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erming  botten en inge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en van de 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verzicht van de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D:\Documents and Settings\bugelj\Mijn documenten\Mijn afbeeldingen\spieren.jpg"/>
          <p:cNvPicPr/>
          <p:nvPr/>
        </p:nvPicPr>
        <p:blipFill>
          <a:blip r:embed="rId1"/>
          <a:stretch/>
        </p:blipFill>
        <p:spPr>
          <a:xfrm>
            <a:off x="1523880" y="1752480"/>
            <a:ext cx="6400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pieren kunnen maar 2 ding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trek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lles of niets rege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eweging ontstaat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wisselend aanspannen en ontspannen van de sp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aarte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Soorten spi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warsgestreept/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s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mo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ad/onwillekeur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in de org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za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rmoei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ur lijkt op dat van dwarsgestre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glad spierweef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een skelet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en aan het bot vast dmv een p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 beweging mogelijk door contra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llekeurige s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activeerd door een motorische zen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zenuw komt vanuit de hers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9" name="Tijdelijke aanduiding voor inhoud 3" descr="spiee.jpg"/>
          <p:cNvPicPr/>
          <p:nvPr/>
        </p:nvPicPr>
        <p:blipFill>
          <a:blip r:embed="rId1"/>
          <a:stretch/>
        </p:blipFill>
        <p:spPr>
          <a:xfrm>
            <a:off x="1403280" y="2708280"/>
            <a:ext cx="2306880" cy="2306520"/>
          </a:xfrm>
          <a:prstGeom prst="rect">
            <a:avLst/>
          </a:prstGeom>
          <a:ln w="0">
            <a:noFill/>
          </a:ln>
        </p:spPr>
      </p:pic>
      <p:pic>
        <p:nvPicPr>
          <p:cNvPr id="140" name="Afbeelding 3" descr="dwarsgestreep.jpg"/>
          <p:cNvPicPr/>
          <p:nvPr/>
        </p:nvPicPr>
        <p:blipFill>
          <a:blip r:embed="rId2"/>
          <a:stretch/>
        </p:blipFill>
        <p:spPr>
          <a:xfrm>
            <a:off x="4356000" y="2781360"/>
            <a:ext cx="303228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Opbouw van de dwarsgestreepte spi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vez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bu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mgeven door bindweef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omgeven door een bindweefselv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fas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ezels van de fascie komen uit in de pees,die de spier verbindt met het 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Afbeelding 3" descr="spier1.jpg"/>
          <p:cNvPicPr/>
          <p:nvPr/>
        </p:nvPicPr>
        <p:blipFill>
          <a:blip r:embed="rId1"/>
          <a:stretch/>
        </p:blipFill>
        <p:spPr>
          <a:xfrm>
            <a:off x="6443640" y="1341360"/>
            <a:ext cx="21495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Tijdelijke aanduiding voor inhoud 3" descr="spier.jpg"/>
          <p:cNvPicPr/>
          <p:nvPr/>
        </p:nvPicPr>
        <p:blipFill>
          <a:blip r:embed="rId1"/>
          <a:stretch/>
        </p:blipFill>
        <p:spPr>
          <a:xfrm>
            <a:off x="2509920" y="2065320"/>
            <a:ext cx="5086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Motorische unit bestaat uit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torische zen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or de motorische zenuw aan gestuurde spiervez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grootte van de mototische unit  vari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laats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d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ensp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23:09Z</dcterms:created>
  <dc:creator>custom</dc:creator>
  <dc:description/>
  <dc:language>en-US</dc:language>
  <cp:lastModifiedBy>J.W.P. Bugel</cp:lastModifiedBy>
  <dcterms:modified xsi:type="dcterms:W3CDTF">2012-03-22T10:34:41Z</dcterms:modified>
  <cp:revision>13</cp:revision>
  <dc:subject/>
  <dc:title>Spieren en spierstelsel</dc:title>
</cp:coreProperties>
</file>