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740-2BDF-440E-AF00-7CF0DA8E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BA8-23B2-4720-B3B7-31D8CFC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CD9-FE83-4BA4-97A4-5426F66F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429-76AB-4142-A0C7-C6E90F25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899F-D6C9-4DB8-8E15-1C503352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E6F8-503B-438B-9B4E-57C1C1F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EAA7-0A93-42FD-AC60-AE404F20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B1FD-0C98-4897-97F6-B0078A55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42BF-6806-4BA3-968A-9C141DC0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29E9-C929-417F-BF07-45D9CB91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8514-C854-4726-B02B-7DAC6DB4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389-9E04-4C74-9021-86CE1A30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4D8E-A984-491E-9BE3-97464445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C201-5848-4FA4-AE58-DAFD4FF2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A292-5133-47DD-B6DC-987C9D48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33C3-3273-44BC-BF3E-C59245C2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7D96-26D8-409D-A870-E55605B2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30B-1E99-4680-A8E1-27BFEC2A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8D9-E623-402B-98FD-93DFFCFA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E17-C249-4698-8B90-DC6DD5AA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644-5CA8-4FB1-B73D-92B6FDB6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D2B-FD44-4FC2-98B5-31A8E260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AC3-A4D2-42A1-8309-35D01233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031-B507-461B-9115-2A63EE8E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2288-8393-42D2-BBF5-27350CE1FE9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CD19-BB7D-4F51-A526-58692BAACF6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De huid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oel:het verwoorden van het belang van de huid  voor het verlenen van persoonlijke zorg aan de zorgvra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Lederhuid/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bindweefsella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isol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vetopsl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ev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loedvaten(voeden epidermi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Lymfev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enuw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ntui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dermis"/>
          <p:cNvPicPr/>
          <p:nvPr/>
        </p:nvPicPr>
        <p:blipFill>
          <a:blip r:embed="rId1"/>
          <a:stretch/>
        </p:blipFill>
        <p:spPr>
          <a:xfrm>
            <a:off x="4646520" y="1812960"/>
            <a:ext cx="4040280" cy="410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rk golvend met talrijke papillen(soort veranker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epidermis"/>
          <p:cNvPicPr/>
          <p:nvPr/>
        </p:nvPicPr>
        <p:blipFill>
          <a:blip r:embed="rId1"/>
          <a:stretch/>
        </p:blipFill>
        <p:spPr>
          <a:xfrm>
            <a:off x="4716360" y="2081160"/>
            <a:ext cx="3189240" cy="4016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Klier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wee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alg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ors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1" name="Picture 4" descr="epidermis"/>
          <p:cNvPicPr/>
          <p:nvPr/>
        </p:nvPicPr>
        <p:blipFill>
          <a:blip r:embed="rId1"/>
          <a:stretch/>
        </p:blipFill>
        <p:spPr>
          <a:xfrm>
            <a:off x="3132000" y="1341360"/>
            <a:ext cx="46800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rold buis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omt uit op de hoorn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2000000 stu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ndpa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etz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hoof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ks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amenstelling</a:t>
            </a: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eukenz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uren ( onder ander boterzu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oterzuur geeft de transpiratieluch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 zweetproduc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te regulatie door verdam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voer van afvalproduc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Ure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elkzu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zweten%20huid"/>
          <p:cNvPicPr/>
          <p:nvPr/>
        </p:nvPicPr>
        <p:blipFill>
          <a:blip r:embed="rId1"/>
          <a:stretch/>
        </p:blipFill>
        <p:spPr>
          <a:xfrm>
            <a:off x="5219640" y="2852640"/>
            <a:ext cx="37450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zweet"/>
          <p:cNvPicPr/>
          <p:nvPr/>
        </p:nvPicPr>
        <p:blipFill>
          <a:blip r:embed="rId1"/>
          <a:stretch/>
        </p:blipFill>
        <p:spPr>
          <a:xfrm>
            <a:off x="977760" y="2413080"/>
            <a:ext cx="73152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lg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rosvorm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roductie tal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ttig houden van haren en 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stopte talgporie=ac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0" name="Picture 4" descr="acnetherapie_talgklier"/>
          <p:cNvPicPr/>
          <p:nvPr/>
        </p:nvPicPr>
        <p:blipFill>
          <a:blip r:embed="rId1"/>
          <a:stretch/>
        </p:blipFill>
        <p:spPr>
          <a:xfrm>
            <a:off x="977760" y="2575080"/>
            <a:ext cx="67582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bserveren van de huid tijdens de zor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 moet je op lett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t is normaal en wat zijn de afwijk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uidstelsel bestaat u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age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ieren(borst,geur,zweet en tal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ur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cheiden specifieke geur a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 invloed van hormonen en de maandelijkse cyc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twikkeling na de pubertij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 plaatsen met haargro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oral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ks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ogle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singa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chaam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naal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p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cher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d materi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vensduur:4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ngtegroei:8-12 cm per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oeit van onder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Haarfollikel"/>
          <p:cNvPicPr/>
          <p:nvPr/>
        </p:nvPicPr>
        <p:blipFill>
          <a:blip r:embed="rId1"/>
          <a:stretch/>
        </p:blipFill>
        <p:spPr>
          <a:xfrm>
            <a:off x="3352680" y="2438280"/>
            <a:ext cx="41911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deel van de hoornlaag en bestaat ui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cha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wor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zakje(met daarnaast de talgk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piert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k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erming tegen schadelijke invloe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itscheid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ntuigelijke waarne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komen van uitdro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ductie vitamine D(sterke bot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slag van vet in het onderhuidse bindweefsel(subcuta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orsne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1" name="Picture 4" descr="dehuid"/>
          <p:cNvPicPr/>
          <p:nvPr/>
        </p:nvPicPr>
        <p:blipFill>
          <a:blip r:embed="rId1"/>
          <a:stretch/>
        </p:blipFill>
        <p:spPr>
          <a:xfrm>
            <a:off x="1073160" y="1989000"/>
            <a:ext cx="731196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nkele cijfert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pervlakte:1.65 vierkante 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 vierkante c</a:t>
            </a:r>
            <a:r>
              <a:rPr b="0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zweet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 ha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5 talg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cm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pilai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350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 zenuw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0 zintuiglijke orgaan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weetproductie per dag:0,3-0,6 l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ngertoppen:1000 tastlichaampjes per 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pperhuid/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7" name="Picture 4" descr="hoornlaaag"/>
          <p:cNvPicPr/>
          <p:nvPr/>
        </p:nvPicPr>
        <p:blipFill>
          <a:blip r:embed="rId1"/>
          <a:stretch/>
        </p:blipFill>
        <p:spPr>
          <a:xfrm>
            <a:off x="1690560" y="2708280"/>
            <a:ext cx="583560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taat 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ornlaag ( dode 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ldere 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rel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kelcellenlaa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iemlaag ( aanmaak van nieuwe hoorn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ellen in de kiemlaag worden platter en gaan uitdrogen en de kern verdwij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uidskleur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paald doo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in de opper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wordt gemaakt door pigmentcellen in de kiem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r de zon worden de pigmentcellen geactivee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ierdoor mee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gem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el: bescherming van de huid/kiem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eenhoping pigmentcellen is e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moederv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rmt klieren,haren en nag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geen bloedvaten en zenuw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dermis"/>
          <p:cNvPicPr/>
          <p:nvPr/>
        </p:nvPicPr>
        <p:blipFill>
          <a:blip r:embed="rId1"/>
          <a:stretch/>
        </p:blipFill>
        <p:spPr>
          <a:xfrm>
            <a:off x="4403880" y="2138400"/>
            <a:ext cx="428292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9:06:55Z</dcterms:created>
  <dc:creator>Bugel</dc:creator>
  <dc:description/>
  <dc:language>en-US</dc:language>
  <cp:lastModifiedBy>Johan</cp:lastModifiedBy>
  <dcterms:modified xsi:type="dcterms:W3CDTF">2013-09-16T09:13:02Z</dcterms:modified>
  <cp:revision>12</cp:revision>
  <dc:subject/>
  <dc:title>De huid</dc:title>
</cp:coreProperties>
</file>