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B9C-84DD-40CF-886E-066F53F6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DAD-F2D8-4057-9DA4-B592471E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4D6-3B4A-4EFA-BCDE-B5E78B05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91F-DFA4-4EAB-98D0-C95610AD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64D7-66B4-44AC-88E4-721A11F8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7F36-0CA2-4270-BEB3-CEA450A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DB4-9BB6-4CFA-8C4F-3DE58F9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2FFC-B4D4-445B-85DE-EB290C6E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B87F-6840-4CC1-8021-C7C4DD25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98E-95DC-4A85-AEFD-4CDBFC0F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14F6-A4D4-4D0B-8890-209E484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784-7E4B-4310-8E4F-9B654FF0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9F1D-E44A-4009-8173-E3F499D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B2E6-D76C-40C9-A175-1724631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B333-E1E4-48A3-A68C-F24ABD08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4C0-2975-4AF8-937E-90A1A5C3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0934-6C0D-40A7-BED0-90234166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6C2-5BEA-4558-A099-A2B007A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12D5-EDD6-4275-AD23-9638C9D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2CA-D43F-4DCC-837F-68372A01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22B-0581-4D30-9FAE-6362711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BACE-C12C-42C6-A751-51A26FE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902-1B16-4CC6-B70B-2A7722AD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6BE-2476-44B7-B6D1-ABB8C3F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BFD-6C92-4530-8C38-673A7E50E39B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A092-8019-453F-927D-0A5C4C13DD9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Bloedsomloop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62320" y="1600200"/>
            <a:ext cx="2619360" cy="453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naar het hart t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oppervlakk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unne slapp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447640" cy="34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e komt het bloed terug naar het hart?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ppen voorkomen terugstro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erpom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uigende werking van het h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gang van slagader naar 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hele dunne 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en kleppen en kloppen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itwisseling van 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arva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657600" cy="304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slagcyclu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spannings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ysto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actie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loeddruk/Tens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druk in de slaga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e druk i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onder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 boven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2714760"/>
            <a:ext cx="292896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lastische bloedvaten zorgen voor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inde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druk in de bloedvat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643040"/>
            <a:ext cx="6121440" cy="389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cemak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art krijgt een elektrisch impuls waardoor het hart gaat samentr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uskno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eft deze i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t in de wand van de rechter boez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willekeu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us een soort van pacem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6000" y="3906720"/>
            <a:ext cx="252108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warsgestreept spierweefs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 del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boezems(atriu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kamers(ventrik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uskn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3240" y="1994040"/>
            <a:ext cx="4457520" cy="28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4643280" cy="48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er AV klep=Mitralis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hter AV klep=Tricuspidalekl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ze kleppen voorkomen het terugstromen van het bloed naar de boez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klepp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ortaklep=klep tussen linkerkamer en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lmonalisklep=klep tussen rechterkamer en longslag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386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ransslaga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ziet het hart van bloed.                       (het hart heeft ook  zuurstof en voedingsstoffen nodig om te kunnen wer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ransslagader is de 1e aftakking van de ao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nauwing van kransslagader geeft een tekort aan zuurstof naar de hartspier toe.Gevolg:hartinfarct!!!!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19280" y="1495440"/>
            <a:ext cx="5329080" cy="43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matische bloedsomloo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2584440" cy="434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357360" cy="40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agad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ren van het hart 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o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geen klep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ggen diep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ben een dikke elastische spierw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an Bügel Campus Winschote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8:56:08Z</dcterms:created>
  <dc:creator> Bugel</dc:creator>
  <dc:description/>
  <dc:language>en-US</dc:language>
  <cp:lastModifiedBy>J.W.P. Bugel</cp:lastModifiedBy>
  <dcterms:modified xsi:type="dcterms:W3CDTF">2010-12-08T07:48:28Z</dcterms:modified>
  <cp:revision>14</cp:revision>
  <dc:subject/>
  <dc:title>Bloedsomloop</dc:title>
</cp:coreProperties>
</file>