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E867-410B-41EB-8C29-7CD92DB78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FB74-4F7B-4103-8678-842E31DD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ECE1-22BA-4618-9722-5CAD7F8D0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C453-DB43-43F0-9DAC-98CDF72D1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26F0-6FF2-444D-B61D-A70F00BF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0DB4-09C1-4610-A5AE-5B0700BA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7505-0B82-49B3-A3A2-6111DC72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743F-87E7-4A55-8814-392C4733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1D28-C30C-46D6-818F-1A068D89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4E03-A691-449F-AACA-3AA1F278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D2E0-05BA-4722-96EE-2A9D39F1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04F8-DEBD-436E-9301-2A3E2390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6B41-7835-4BFB-8DBE-AFA79160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041D-A9C9-4AC4-82CA-B17FF2E2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3A5C-73D7-4826-877E-D76C5DF8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B625-8764-45F8-B73E-56C286365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439E-4192-47D5-BCA0-F29081A3C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508E-09EC-4412-9C03-11D41F13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78B0-EEF7-42C1-80C0-A9C70446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CCE9-D8A9-49A6-9CF3-E4245429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A4F5-C94F-4C84-A162-1BCE7031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FC62-F3D7-453A-8C78-5FE52A52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8E9F-1C1E-49D2-94BB-A1971A36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3611-C88E-4FEC-BEDC-AAE771F5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7913-B039-41DF-96CB-78BA5FF105C2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E3A5-9994-4F66-830F-D34D199ADCDD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1709640"/>
            <a:ext cx="76230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Vrouwelijke en mannelijke geslachtsorgane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inwend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uitwend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omment 4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usto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annelijke geslachtsorga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wend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pen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zaadb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bijb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wend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zaadblaas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prosta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klieren van Cowp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annelijke geslachtorga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Picture 6" descr="prostaat"/>
          <p:cNvPicPr/>
          <p:nvPr/>
        </p:nvPicPr>
        <p:blipFill>
          <a:blip r:embed="rId1"/>
          <a:stretch/>
        </p:blipFill>
        <p:spPr>
          <a:xfrm>
            <a:off x="1795320" y="1600200"/>
            <a:ext cx="5553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Pen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Urinebuis(urethr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wellichamen(2 bovenste en 1 onders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or sexuele prikkels neemt de bloedtoevoer toe en de bloedafvoer a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ierdoor een erectie van de pen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ik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de verwijding van het onderste zwellicha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hu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een losse huidploo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an terug geschoven wor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oms weggehaald(besnijdenis/circumsici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Zaadballen(teste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iggen in een huidplooi(scrotu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angen aan de zaadstre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oduceren zaadce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oduceren testoster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imuleert de ontwikkeling van secundaire geslachtskenmerken(zie blz 47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imuleert de productie van zaadcellen en prostaatvo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imuleert de aanmaak van spiermass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ijballen(epididymi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iggen achter de zaadb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rgen voor de verdere rijping van de in de zaadballen gevormde zaadce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s een opslagruimte voor zaadcell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zaadcellen zijn 3 weken te bewa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Zaadleiders en zaadblaasj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zaadleider is de verbinding tussen bijbal en urinebuis en zorgt voor het transport van de zaadc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zaadblaasjes produceren zaadvloeistof voor de voeding van de zaadcellen en deze vloeistof komt uit in de zaadle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erma bestaat voor 99% uit zaadvloeistof en voor 1% uit zaadcellen(spermatozöid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grootste deel van spermavloeistof wordt gemaakt do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aadblaasjes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st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eren van Cowper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-329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wtgrote klieren die een dik en kleverig slijm ma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-329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lijm is basisch en neutraliseert het zure milieu van de plasb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Prosta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Picture 4" descr="ProstaatvergrotingPlaatje"/>
          <p:cNvPicPr/>
          <p:nvPr/>
        </p:nvPicPr>
        <p:blipFill>
          <a:blip r:embed="rId1"/>
          <a:stretch/>
        </p:blipFill>
        <p:spPr>
          <a:xfrm>
            <a:off x="2700360" y="1822320"/>
            <a:ext cx="410364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Prosta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igt rondom het 1e gedeelte van de urinebu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 groot als een kastan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s de producent van zaadvloeist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Prostaatvergrot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s op vergroting bij alle man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erdoor kunnen zich problemen voor doen bi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lass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aadloz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Prostaatkank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s de nr 2 op de lijst van tumoren bij man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al na je 50e ja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roeit langza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tumor-beperkt-tot-prostaat"/>
          <p:cNvPicPr/>
          <p:nvPr/>
        </p:nvPicPr>
        <p:blipFill>
          <a:blip r:embed="rId1"/>
          <a:stretch/>
        </p:blipFill>
        <p:spPr>
          <a:xfrm>
            <a:off x="4140360" y="2421000"/>
            <a:ext cx="50036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rouwelijke geslachtsorganen</a:t>
            </a:r>
            <a:br>
              <a:rPr sz="4200"/>
            </a:br>
            <a:br>
              <a:rPr sz="4200"/>
            </a:b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Inwendig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iersto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ilei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aarmoe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gi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Impotent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9" name="Picture 4" descr="poster impotentie"/>
          <p:cNvPicPr/>
          <p:nvPr/>
        </p:nvPicPr>
        <p:blipFill>
          <a:blip r:embed="rId1"/>
          <a:stretch/>
        </p:blipFill>
        <p:spPr>
          <a:xfrm>
            <a:off x="3459240" y="1844640"/>
            <a:ext cx="24415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Impotent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s het onvermogen om een erectie te krijgen of te handha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oor medicatie(bv morfi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oor vergiftiging(bv alcohol/drugs/nicoti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oor verandering van de hormoonhuishou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nder testoster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erdoor vaak een afname van de geslachtsdr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Oplossing????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5" name="Picture 4" descr="Viagra"/>
          <p:cNvPicPr/>
          <p:nvPr/>
        </p:nvPicPr>
        <p:blipFill>
          <a:blip r:embed="rId1"/>
          <a:stretch/>
        </p:blipFill>
        <p:spPr>
          <a:xfrm>
            <a:off x="3071880" y="1770120"/>
            <a:ext cx="30002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rouwelijke geslachtsorga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vrouwgeslachts"/>
          <p:cNvPicPr/>
          <p:nvPr/>
        </p:nvPicPr>
        <p:blipFill>
          <a:blip r:embed="rId1"/>
          <a:stretch/>
        </p:blipFill>
        <p:spPr>
          <a:xfrm>
            <a:off x="1371600" y="2057400"/>
            <a:ext cx="60958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         </a:t>
            </a: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Eierstokken(ovaria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igging:in de buikhol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mandelvorm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5-4.5 cm lang en 1- 2 cm bre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oel:ontwikkeling van een maandelijkse eicel en de geslachtshormo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Eileider (tuba uterina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s de verbinding tussen eierstok en baarmo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s ongeveer 10 cm l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ngt als het ware het eitje op en zorgt voor vervoer naar de baarmo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er vindt de conceptie pla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vruchte eicel verplaatst zich naar de baarmoeder(doet daar 5 dagen ov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niet bevruchte cel  wordt afgevoerd door de eileiderwand h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aarmoeder (uteru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vorm van een omgekeerde 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 cm bij 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vruchte cel nestelt zich in de baarmoederw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ehele baarmoeder is meestal naar voren gebogen en ligt hierdoor op de urinebl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ste deel van de baarmoeder is de baarmoederhals (cervix) en steekt uit in het achterste gedeelte van de vag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holte in de baarmoederhals noem je het cervixkan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e boek blz 4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agin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en kanaal van ong. 8 cm en is verbinding tussen baarmoeder en buitenwer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paringsorga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eft een lage ph waarde(is zuu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omt van de melkzuur, afgescheiden door de Döderlein-bacill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ze waarde geeft bescherming tegen infec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s funest voor zaadcellen(zijn neutraal/alkalisc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Uitwendige geslachtsorga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ul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ote schaamlipp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leine schaamlipp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litor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h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aamheu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ans7_vulva"/>
          <p:cNvPicPr/>
          <p:nvPr/>
        </p:nvPicPr>
        <p:blipFill>
          <a:blip r:embed="rId1"/>
          <a:stretch/>
        </p:blipFill>
        <p:spPr>
          <a:xfrm>
            <a:off x="4572000" y="2590920"/>
            <a:ext cx="457200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ulv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te schaamlippen (labia majo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wee behaarde,dikke huidploo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vatten veel onderhuidsvetweefsel en kl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nusheuvel (mons vener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dikking aan voorkant vu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eine schaamlippen (labis mino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ggen binnen de grote schaamli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hof (vestibul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gdenvlies sluit voorhof gedeeltelijk of geheel a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ittelaar (clitor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eer dicht bezet met senso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09:08:11Z</dcterms:created>
  <dc:creator>custom</dc:creator>
  <dc:description/>
  <dc:language>en-US</dc:language>
  <cp:lastModifiedBy>J.W.P. Bugel</cp:lastModifiedBy>
  <dcterms:modified xsi:type="dcterms:W3CDTF">2015-05-29T07:37:21Z</dcterms:modified>
  <cp:revision>13</cp:revision>
  <dc:subject/>
  <dc:title>Vrouwelijke en mannelijke geslachtsorganen</dc:title>
</cp:coreProperties>
</file>