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F18-F5F1-46BD-8BE7-37EE11D7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47B-3085-4ACC-88C2-64EF86E3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7A4-5730-4DCD-A053-F318DFBC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0AA-45F5-461D-AFD5-472364DD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CF07-30DD-489E-AF2E-7EE9FDAA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94D5-B5D3-40A7-B097-BE03B361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DE82-665E-47D1-ACAF-142B45F8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B30A-7F42-40FD-B705-8C036E2B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24A2-4943-4E77-A09F-99FE1C0E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2C39-35AA-4D98-AE0C-F3918EBE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90CF-EC19-4CBC-91D7-D1B78F06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D3D-E168-4A45-8394-7BF5BDC3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0095-4494-4EE2-924A-E66F3651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25FF-8C54-4FEC-863D-59B4F36F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862A-723C-4055-88BF-EAEF5067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9B0D-6CF0-4C77-81EA-9887304C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9522-D31A-41D8-B6FB-CB822968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29C1-EF2B-486F-AA4E-E83C805D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73EE-1910-434C-A548-2A315644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B88-0A00-4286-A5B1-C0D0F632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F53-BAE4-4E2B-99FB-0A6A82F7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25E-FCE0-414B-9FAA-7FEE1FF2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896-D763-4D66-95DE-534EEBEE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47F-C366-4078-9E56-E1C1AF73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79F6-DFC3-4361-89A1-E206D8D543F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C072-EC64-47B2-9790-C70A988DA68F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709640"/>
            <a:ext cx="7623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emhalingsstelsel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wisseling O2 en C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slikk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dselbrok komt in luchtpij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chtpijp niet goed afgesloten tijdens het sli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ig sluit neusholte a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ottenklep sluit luchtpijp a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rslik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slikreflex"/>
          <p:cNvPicPr/>
          <p:nvPr/>
        </p:nvPicPr>
        <p:blipFill>
          <a:blip r:embed="rId1"/>
          <a:stretch/>
        </p:blipFill>
        <p:spPr>
          <a:xfrm>
            <a:off x="6172200" y="395280"/>
            <a:ext cx="25146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medie:heimlichgree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heimlichgreep"/>
          <p:cNvPicPr/>
          <p:nvPr/>
        </p:nvPicPr>
        <p:blipFill>
          <a:blip r:embed="rId1"/>
          <a:stretch/>
        </p:blipFill>
        <p:spPr>
          <a:xfrm>
            <a:off x="2743200" y="2590920"/>
            <a:ext cx="3286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demha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D:\Documents and Settings\bugelj\Mijn documenten\Mijn afbeeldingen\ademhaling.gif"/>
          <p:cNvPicPr/>
          <p:nvPr/>
        </p:nvPicPr>
        <p:blipFill>
          <a:blip r:embed="rId1"/>
          <a:stretch/>
        </p:blipFill>
        <p:spPr>
          <a:xfrm>
            <a:off x="1905120" y="1947960"/>
            <a:ext cx="5105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Inadem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platten van het middenrif.Het middenrif gaat naar ben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trekken van de tussenribspieren.De borstkas gaat omho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krijg je een verruiming van de borstkas en lo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lucht stroomt naar bi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lveol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 uitwisseling van O2 en CO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Afbeelding 1" descr=""/>
          <p:cNvPicPr/>
          <p:nvPr/>
        </p:nvPicPr>
        <p:blipFill>
          <a:blip r:embed="rId1"/>
          <a:stretch/>
        </p:blipFill>
        <p:spPr>
          <a:xfrm>
            <a:off x="611280" y="2674800"/>
            <a:ext cx="2954160" cy="2119320"/>
          </a:xfrm>
          <a:prstGeom prst="rect">
            <a:avLst/>
          </a:prstGeom>
          <a:ln w="0">
            <a:noFill/>
          </a:ln>
        </p:spPr>
      </p:pic>
      <p:pic>
        <p:nvPicPr>
          <p:cNvPr id="139" name="Afbeelding 2" descr=""/>
          <p:cNvPicPr/>
          <p:nvPr/>
        </p:nvPicPr>
        <p:blipFill>
          <a:blip r:embed="rId2"/>
          <a:stretch/>
        </p:blipFill>
        <p:spPr>
          <a:xfrm>
            <a:off x="4284720" y="2565360"/>
            <a:ext cx="3938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uitadem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middenrif ontspant en komt omho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tussenribspieren ontspannen.De borstkas zakt weer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erdoor borstkast en longen klei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ucht stroomt naar bui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Soorten ademha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borst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buik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.neus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.mondademha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eling van de ademhaling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eling van de ademhaling komt vanuit het ademhalingscentrum in de hers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ze krijgt informatie over de concentratie van O2 en CO2 in het blo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hoging van de CO2 concentratie geeft een prikkel tot ademha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en verlaging van de O2 concentratie speelt hierbij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e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Aantal ademingen per minuu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2-20 keer per minu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D:\Documents and Settings\bugelj\Mijn documenten\Mijn afbeeldingen\ademhaling.jpg"/>
          <p:cNvPicPr/>
          <p:nvPr/>
        </p:nvPicPr>
        <p:blipFill>
          <a:blip r:embed="rId1"/>
          <a:stretch/>
        </p:blipFill>
        <p:spPr>
          <a:xfrm>
            <a:off x="1079640" y="2770200"/>
            <a:ext cx="4483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venste Luchtwe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us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lhol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neus2"/>
          <p:cNvPicPr/>
          <p:nvPr/>
        </p:nvPicPr>
        <p:blipFill>
          <a:blip r:embed="rId1"/>
          <a:stretch/>
        </p:blipFill>
        <p:spPr>
          <a:xfrm>
            <a:off x="4643280" y="1052640"/>
            <a:ext cx="3511800" cy="3263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LocatiesKeelholte"/>
          <p:cNvPicPr/>
          <p:nvPr/>
        </p:nvPicPr>
        <p:blipFill>
          <a:blip r:embed="rId2"/>
          <a:stretch/>
        </p:blipFill>
        <p:spPr>
          <a:xfrm>
            <a:off x="684360" y="2781360"/>
            <a:ext cx="37814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mer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j een rustige ademhaling wordt het onderste gedeelte van de longcapaciteit niet gebruikt en verver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volg hiervan kan zijn:longontste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t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iertjes van de luchtwegen blijven gespan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een vernauwing van de luchtw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auwd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echt adem kunnen hal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st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astmatische bronchien"/>
          <p:cNvPicPr/>
          <p:nvPr/>
        </p:nvPicPr>
        <p:blipFill>
          <a:blip r:embed="rId1"/>
          <a:stretch/>
        </p:blipFill>
        <p:spPr>
          <a:xfrm>
            <a:off x="2438280" y="22096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ronchit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jmvlies in de luchtwegen is ontsto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productie van teveel sput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door :hoestprikk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edie:klo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ven schrikk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rokenrslongen"/>
          <p:cNvPicPr/>
          <p:nvPr/>
        </p:nvPicPr>
        <p:blipFill>
          <a:blip r:embed="rId1"/>
          <a:stretch/>
        </p:blipFill>
        <p:spPr>
          <a:xfrm>
            <a:off x="3048120" y="2514600"/>
            <a:ext cx="3657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ste luchtwe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chtpij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luchtwe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nch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nere luchtwe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nch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blaasj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n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ngen"/>
          <p:cNvPicPr/>
          <p:nvPr/>
        </p:nvPicPr>
        <p:blipFill>
          <a:blip r:embed="rId1"/>
          <a:stretch/>
        </p:blipFill>
        <p:spPr>
          <a:xfrm>
            <a:off x="2209680" y="2362320"/>
            <a:ext cx="48387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rstk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borstkas"/>
          <p:cNvPicPr/>
          <p:nvPr/>
        </p:nvPicPr>
        <p:blipFill>
          <a:blip r:embed="rId1"/>
          <a:stretch/>
        </p:blipFill>
        <p:spPr>
          <a:xfrm>
            <a:off x="2201760" y="2209680"/>
            <a:ext cx="3627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ushol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kleed met slijmvlies(trilha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ngt stofdeeltjes op(Zuivering van de luc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uring van de lucht(Kwaliteit van de luc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akt slij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terk doorblo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arming van de lu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ochtiging van de lu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Keelhol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eiding van voedsel en ademlu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luchtpijp staat altijd open, behalve bij doorslikken van een voedselbr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LocatiesKeelholte"/>
          <p:cNvPicPr/>
          <p:nvPr/>
        </p:nvPicPr>
        <p:blipFill>
          <a:blip r:embed="rId1"/>
          <a:stretch/>
        </p:blipFill>
        <p:spPr>
          <a:xfrm>
            <a:off x="4788000" y="3500280"/>
            <a:ext cx="32176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Noorderpoortcollege Winschoten  J.Bu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ottenhoof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paar stemb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se stemb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de bovens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bevochtiging van de onderste stemban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e stemba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spieren,die door een bepaalde stand geluid ma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re stemb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stem3"/>
          <p:cNvPicPr/>
          <p:nvPr/>
        </p:nvPicPr>
        <p:blipFill>
          <a:blip r:embed="rId1"/>
          <a:stretch/>
        </p:blipFill>
        <p:spPr>
          <a:xfrm>
            <a:off x="942840" y="1474920"/>
            <a:ext cx="70138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0:04:30Z</dcterms:created>
  <dc:creator>BugelJ</dc:creator>
  <dc:description/>
  <dc:language>en-US</dc:language>
  <cp:lastModifiedBy>J.W.P. Bugel</cp:lastModifiedBy>
  <dcterms:modified xsi:type="dcterms:W3CDTF">2014-12-16T12:47:29Z</dcterms:modified>
  <cp:revision>10</cp:revision>
  <dc:subject/>
  <dc:title>Ademhalingsstelsel</dc:title>
</cp:coreProperties>
</file>