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13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3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378-04FE-4E38-A306-F80233E5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E82-CD79-4949-951F-F2998E14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5DD-7112-49DC-B2CE-7224FF1D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A57-4EB4-434B-A4D5-4B0FBBAD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5D38-9DFD-49B7-B166-3808B500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DEE7-BA29-476F-967E-93E7AFBE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CC6E-900D-4B6F-9E62-F4A9055F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7A7E-F5C7-4FB1-9089-A0C47C84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7E18-5F1D-440A-82A3-45060B0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FA4-1970-4D14-BBB1-586A8F1B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95D4-873A-4794-9531-6D136C12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84C-CD6F-4074-9B8A-109D670A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B787-ED92-428B-870C-E77A6661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D577-9417-4A06-ACCA-1E941F0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3AD2-98E5-451D-A6CD-AB8468A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6AFA-B6E9-49D2-B5F2-D1FB3639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F8EA-4E5A-47F3-8C7F-9E6B2BAE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60C9-C073-4707-9934-AF7DED4A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D6AB-3B9E-4FAE-9E45-B6E5947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D931-A292-449A-B0BB-53503CBE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0C0F-258C-4D7F-BD87-4F23B340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C029-2ACE-404D-B62A-88CF1B9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E18-BB35-4B13-B7B9-7EA3D2BD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57F2-C4EE-48F9-B8F8-6D85C885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EFAC-49AC-40B3-8830-21901A2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C218-A8B3-4308-92E3-C308F396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D349-7EBD-4BFB-B36A-9A85724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E95F-F657-4D64-96DD-A410D2B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7B99-CB81-4ABF-8374-BB920085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13D2-08BC-4945-88B8-E92581FE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B4D3D-0F04-419E-A332-0F2FF910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CE72-AFDF-469D-8840-D4EA5368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9F4B-03D3-4763-81FE-1EDF426A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498-8B97-4BB6-A0E9-379B920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82B2-F130-4F05-A999-057E694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A18E-1153-4235-ABFB-FAEE1705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84535-CADC-4291-A354-1C36B7B8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B947-DFF1-4DF2-AF6D-DB24F88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E562-2D01-40C7-8C97-D84641F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9541-DFC1-4AA2-8CAE-B630371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E48FC-FD21-498F-84F5-65B6DF9C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0588C-F883-4E8A-95B9-75EDAB14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B0B4F-CE9D-4C39-9ED6-5B1B72C4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11FF-07CB-4086-AA59-729B428E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844-0558-476B-940D-C0B64F7B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4600-68C7-4405-BFC1-1E53A990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9197D-6E9D-49C0-874F-9D12432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CF61F-1776-4E3E-900D-C4E2EFE9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FF14-37A4-4A35-808D-D29005D5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9EDB-B944-438C-952D-ECD4D994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51A2-C7AA-4B24-99FA-D5E9FB6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FB9B-7516-4CAE-8A81-3006330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9567-A91F-4655-A67D-1BACA1D3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AC3B-056D-4443-9082-589C1C7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8CFBA-98DF-4CC3-B673-2E7D93BA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054-61C9-454A-B600-192074BF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E61E-F2B7-45CE-BCB9-45622F4E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90F99-801F-48A6-A698-8A129C7A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944EE-BFF2-44BA-89A6-F15B3AD4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DF43A-0EE8-411A-82EC-F958240F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86C2-3AA0-4111-BC2B-D5F87390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D0959-6EF4-44DF-AF83-E3A1FFC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604A8-39E9-47BA-8300-D6AAD45A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13277-FD6E-4D9A-96C2-1E8A174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590FE-BD14-4E82-A86E-B3620D4E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A24E6-C78C-4236-A4E8-C54DD43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8C5-AC4C-4E1F-9121-AD722836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2981-F42D-4B3E-9642-989182E4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EDCA6-E49E-48D6-B1E8-BC4E248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6B5B5-B815-4EE3-BF56-D8CA16F6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DE33E-3476-4F14-A459-39AFCB95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3DDE-4BCE-43E9-9261-DB34AAE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A4646-63F4-4ADB-901F-D6B08556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56E8-DB1F-4384-9A21-1C95CD88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C133-A074-41A5-9698-DC652BA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DEE38-0E84-4BAD-84F4-5798BED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398FF-45CE-4FB3-ACFE-E1665EA0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81C-D89D-444C-8923-CEAEC60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BFD9-7BA7-4476-9F40-5D6188EA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DAE0-9D80-4369-B256-FCB6CA29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A4135-6B59-4037-B4AF-CE150B51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EF359-1385-4222-9C4C-B560C455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2DB5A-8BA7-47A0-832C-D6F850D7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7F60D-938F-4022-850F-E7862C9A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FE38-3A6F-4DD2-81F9-161C815D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794CE-9A7F-4191-B477-77270874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24A92-C239-4564-B69A-6167CD54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A161-519E-4B9F-8332-26404C6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B54-C53B-415C-9B21-6ECE8524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EDA2-46A8-4C38-8F6C-DCE83334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0F87-1362-46E8-A09C-B67ACE8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0B101-DB8D-4035-89F3-617B9EA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C092B-002D-40EB-8AEE-A2BCB65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991DB-712E-4611-9E7E-2788DD83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8461E-B79F-4E01-BEB6-7BC31012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CA76B-3EF4-4562-9447-8945F80D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AFC2-6CC7-4682-B018-97D27D266546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C1B0-FA0E-4FDC-9CF6-16F39463046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766D-11FF-4109-BF37-FAEDD0A7D712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e8f0f4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65DA-AC97-4B31-A44B-851AF5768548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DECF-F331-4EEB-8A96-2FA95171B63B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161-D0A2-41DB-A49E-328F0FB92CE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9ED-A9EF-495A-AD8B-2CE59073E5DD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EEDC-EDA0-4A83-8AC0-D89EDBC02F7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F42-4394-407E-B6F4-A07F969408B0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409-EA7D-42D8-BEBE-9F06829FA7E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8D5-2120-4BC4-A6DB-D6E80DD9D6C6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8974-886D-46DC-8A82-7DB5EB8C813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0FD3-0583-4B44-B351-CA340B456F79}" type="datetime">
              <a:rPr b="0" lang="nl-NL" sz="1000" spc="-1" strike="noStrike">
                <a:solidFill>
                  <a:srgbClr val="000000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27D-42D1-4559-8047-A2E66918262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6535-2B47-4E6B-A03D-E448EE03224A}" type="datetime">
              <a:rPr b="0" lang="nl-NL" sz="10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3697-C196-442B-AF02-95C70B59E756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AutoShape 2" descr=""/>
          <p:cNvPicPr/>
          <p:nvPr/>
        </p:nvPicPr>
        <p:blipFill>
          <a:blip r:embed="rId1"/>
          <a:stretch/>
        </p:blipFill>
        <p:spPr>
          <a:xfrm>
            <a:off x="914400" y="99360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1307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464646"/>
                </a:solidFill>
                <a:latin typeface="Lucida Sans Unicode"/>
              </a:rPr>
              <a:t>College Anatomie/Fysiolog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lei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a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b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D:\Documents and Settings\BugelJ\Mijn documenten\Mijn afbeeldingen\incontinentie_blaas.jpg"/>
          <p:cNvPicPr/>
          <p:nvPr/>
        </p:nvPicPr>
        <p:blipFill>
          <a:blip r:embed="rId2"/>
          <a:stretch/>
        </p:blipFill>
        <p:spPr>
          <a:xfrm>
            <a:off x="4191120" y="2514600"/>
            <a:ext cx="2666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edere nier is opgebouwd uit een aantal(1.000.000) urineproducerende en filterende niereenhe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zogenaam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efro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787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D:\Documents and Settings\BugelJ\Mijn documenten\Mijn afbeeldingen\nephron.jpg"/>
          <p:cNvPicPr/>
          <p:nvPr/>
        </p:nvPicPr>
        <p:blipFill>
          <a:blip r:embed="rId2"/>
          <a:stretch/>
        </p:blipFill>
        <p:spPr>
          <a:xfrm>
            <a:off x="2071800" y="2714760"/>
            <a:ext cx="4143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chaam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alpighi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(ligt in de nierschor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s van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nle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                    (ligt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zamelbuis                            (ligt ook in het niermer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 u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omerulus                                        ( is een kluwen van bloedvat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Kapsel van Bowman                              ( is het opvangbekken van het eerste filtraa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ier vindt de terugresorptie plaats van het eerste filtr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t is een zeer belangrijk onderdeel van de filtratie. Dit voorkomt uitdroging!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arna de geconcentreerde urine wordt opgevangen in de verzamelbu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uit de verzamelbuis gaat de urine via de urineleiders naar de urinebla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20" name="Tijdelijke aanduiding voor inhoud 3" descr="nieren.jpg"/>
          <p:cNvPicPr/>
          <p:nvPr/>
        </p:nvPicPr>
        <p:blipFill>
          <a:blip r:embed="rId2"/>
          <a:stretch/>
        </p:blipFill>
        <p:spPr>
          <a:xfrm>
            <a:off x="3346560" y="1854360"/>
            <a:ext cx="579744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6146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 dag gaat er 1800 liter bloed door deze nefron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nefronen halen hier ongeveer 180 liter ultrafiltraat u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geveer 178.5 liter gaat weer terug het lichaam in(dit heet terugresorpti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ijft er ongeveer 1.5 liter urine ov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urine wordt opgevangen in het nierbek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a de urineleiders gaat dat naar de blaas.                                        (oa door een peristaltische beweging van de urineleider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de blaas verzamelt zich de urine(200-max 900 m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AutoShap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534440" cy="11890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laas heeft 2 kringsp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inwendige(on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uitwendige(willekeurig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Verwijderen van afvalstoff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4" descr="toilet"/>
          <p:cNvPicPr/>
          <p:nvPr/>
        </p:nvPicPr>
        <p:blipFill>
          <a:blip r:embed="rId2"/>
          <a:stretch/>
        </p:blipFill>
        <p:spPr>
          <a:xfrm>
            <a:off x="5554800" y="2048040"/>
            <a:ext cx="35892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e blaas is vol (ong.350 m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Wand van de blaas rekt o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r gaat een seintje naar de hersen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wording van de blaas is vol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een reflex is er een ontspanning van de inwendige en aanspanning van de uitwendige kring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Lozingsplaats zoek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Bewust ontspannen van de uitwendige spi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Hierdoor gecontroleerde lozing van de ur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5" descr="D:\Documents and Settings\BugelJ\Mijn documenten\Mijn afbeeldingen\incontinentie.jpg"/>
          <p:cNvPicPr/>
          <p:nvPr/>
        </p:nvPicPr>
        <p:blipFill>
          <a:blip r:embed="rId2"/>
          <a:stretch/>
        </p:blipFill>
        <p:spPr>
          <a:xfrm>
            <a:off x="5486400" y="838080"/>
            <a:ext cx="310356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et niet kunnen ophouden van feces of urine tot het moment waarop lozing sociaal aanvaardbaar i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stress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urg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overloop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functionele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reflex incontinen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5" name="Tijdelijke aanduiding voor inhoud 3" descr="Dialyse1.jpg"/>
          <p:cNvPicPr/>
          <p:nvPr/>
        </p:nvPicPr>
        <p:blipFill>
          <a:blip r:embed="rId2"/>
          <a:stretch/>
        </p:blipFill>
        <p:spPr>
          <a:xfrm>
            <a:off x="0" y="2571840"/>
            <a:ext cx="2714760" cy="3929040"/>
          </a:xfrm>
          <a:prstGeom prst="rect">
            <a:avLst/>
          </a:prstGeom>
          <a:ln w="0">
            <a:noFill/>
          </a:ln>
        </p:spPr>
      </p:pic>
      <p:pic>
        <p:nvPicPr>
          <p:cNvPr id="446" name="Afbeelding 4" descr="kunstnier-kolff.jpg"/>
          <p:cNvPicPr/>
          <p:nvPr/>
        </p:nvPicPr>
        <p:blipFill>
          <a:blip r:embed="rId3"/>
          <a:stretch/>
        </p:blipFill>
        <p:spPr>
          <a:xfrm>
            <a:off x="5310360" y="2809800"/>
            <a:ext cx="269064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49" name="Tijdelijke aanduiding voor inhoud 3" descr="-kolff..jpg"/>
          <p:cNvPicPr/>
          <p:nvPr/>
        </p:nvPicPr>
        <p:blipFill>
          <a:blip r:embed="rId2"/>
          <a:stretch/>
        </p:blipFill>
        <p:spPr>
          <a:xfrm>
            <a:off x="5205240" y="2147760"/>
            <a:ext cx="3938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Titel 1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452" name="Tijdelijke aanduiding voor inhoud 3" descr="Nieuwe kunstnier.bmp"/>
          <p:cNvPicPr/>
          <p:nvPr/>
        </p:nvPicPr>
        <p:blipFill>
          <a:blip r:embed="rId2"/>
          <a:stretch/>
        </p:blipFill>
        <p:spPr>
          <a:xfrm>
            <a:off x="0" y="2452680"/>
            <a:ext cx="5929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Tijdelijke aanduiding voor inhoud 3" descr="donornier.jpg"/>
          <p:cNvPicPr/>
          <p:nvPr/>
        </p:nvPicPr>
        <p:blipFill>
          <a:blip r:embed="rId1"/>
          <a:stretch/>
        </p:blipFill>
        <p:spPr>
          <a:xfrm>
            <a:off x="0" y="2325600"/>
            <a:ext cx="471492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kke darm/ endel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Vaste afval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koolzuurg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v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galkleurstoff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Lucida Sans Unicode"/>
              </a:rPr>
              <a:t>Water en zoute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646280" y="244440"/>
            <a:ext cx="7497720" cy="1408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.Hulp kunnen bieden bij toiletga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2.Observeren van feces en 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.Kunnen geven va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4.Hulp kunnen bieden bij ophoesten van 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.Hulp bij bra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6.Observeren van zweetsecreti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646280" y="298440"/>
            <a:ext cx="768672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r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e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put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Zweet/transpir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truat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aks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uitscheiding"/>
          <p:cNvPicPr/>
          <p:nvPr/>
        </p:nvPicPr>
        <p:blipFill>
          <a:blip r:embed="rId2"/>
          <a:stretch/>
        </p:blipFill>
        <p:spPr>
          <a:xfrm>
            <a:off x="0" y="1773360"/>
            <a:ext cx="4464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pic>
        <p:nvPicPr>
          <p:cNvPr id="391" name="Tijdelijke aanduiding voor inhoud 5" descr="nier schematisch.jpg"/>
          <p:cNvPicPr/>
          <p:nvPr/>
        </p:nvPicPr>
        <p:blipFill>
          <a:blip r:embed="rId2"/>
          <a:stretch/>
        </p:blipFill>
        <p:spPr>
          <a:xfrm>
            <a:off x="0" y="1844640"/>
            <a:ext cx="4448160" cy="4527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5559120" y="184464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schors (Cortex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Gespikkel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malle laa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chaampjes van Malpigh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merg (Medulla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Streperi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Lissen van Henl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verzamelbuisj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Nierbekken (Pelvis Renali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Lucida Sans Unicode"/>
              </a:rPr>
              <a:t>Opvangen van het ultrafiltraat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1573200" y="298440"/>
            <a:ext cx="7570800" cy="1244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oonvormi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50 gram zw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cm lang,7 cm breed en 3 cm d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nks en rechts van wervelkol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hternier ligt iets lag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in steunv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ugel Campus Winscho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AutoShape 2" descr=""/>
          <p:cNvPicPr/>
          <p:nvPr/>
        </p:nvPicPr>
        <p:blipFill>
          <a:blip r:embed="rId1"/>
          <a:stretch/>
        </p:blipFill>
        <p:spPr>
          <a:xfrm>
            <a:off x="1609560" y="158760"/>
            <a:ext cx="7534440" cy="12859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g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en huishoud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uurgraad( ph waard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Uitscheid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ureum en urinezu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0080" indent="-272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an lichaamsvreemde stoffen (medicij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8120" indent="-318960">
              <a:lnSpc>
                <a:spcPct val="90000"/>
              </a:lnSpc>
              <a:buClr>
                <a:srgbClr val="2da2bf"/>
              </a:buClr>
              <a:buSzPct val="68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gemeen doel is het </a:t>
            </a:r>
            <a:r>
              <a:rPr b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lte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van het blo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8:31Z</dcterms:created>
  <dc:creator>Bugel</dc:creator>
  <dc:description/>
  <dc:language>en-US</dc:language>
  <cp:lastModifiedBy>J.W.P. Bugel</cp:lastModifiedBy>
  <dcterms:modified xsi:type="dcterms:W3CDTF">2016-03-09T09:09:29Z</dcterms:modified>
  <cp:revision>25</cp:revision>
  <dc:subject/>
  <dc:title>Uitscheiding</dc:title>
</cp:coreProperties>
</file>