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24.png" ContentType="image/png"/>
  <Override PartName="/ppt/media/image10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8.jpeg" ContentType="image/jpeg"/>
  <Override PartName="/ppt/media/image44.jpeg" ContentType="image/jpeg"/>
  <Override PartName="/ppt/media/image4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13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3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7E3C-964E-447C-8209-6181D564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4985-4EEE-4DCC-862E-327AC47B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9880-BA99-4F49-AFE0-1433FB3C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1C2F-8BDD-4EFF-B9BC-A3AE896E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6D4A-62C5-404B-994B-AFA07B73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283A-1DDA-4500-ABB9-4F82012B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651B-7509-48A0-866A-90C0CB52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801E-74CC-4CE8-8F03-BE129227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4069-825E-49FA-9CBD-FC6D948E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49B2-89EB-4336-99A4-FD5B255C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F091-D80E-4F65-9E3B-50D5053C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812-6440-490E-BEAF-3C5734DF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EE60-DC57-48E7-8EC4-9CA76C71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2A20-FFB2-4B1B-A796-498CAFF3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E3DE-B068-478D-A73A-C9D41A1F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1B77-BD16-4DB4-B37F-7CF374D0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6606-D6A3-4E86-B0A5-B2368172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1FEDF-03C7-49C7-985C-FD8F2783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E5B14-DB5F-4245-A2D8-AFB3ED3C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1BE94-FAEB-4537-8D4F-2A684963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05998-1CF3-438A-949E-D16F42C1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39CFA-CFAA-4664-982A-9F6C254B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628-FB7C-4C4E-A54D-076C8AEB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2AFF9-3DA2-4867-A05C-1477E71E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615BC-33B7-428A-89D9-2C369E04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FABFD-6141-459F-979F-E617ACC0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831A7-DEE4-4588-BA9B-78C54DE7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803EC-CE03-4223-ABF8-D68B9775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2D759-404F-48DD-81A3-D34BD23B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73D03-83F8-4D06-B7F0-1E01FC3A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46C02-768B-4819-98BD-B384BC2F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7E124-39C3-446C-B0B4-99E107DB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20DA9-E6FD-4836-B1D1-D9FD13CC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5438-6261-4F6C-A6CD-012D393B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904DF-47F1-470C-B7E4-B0053282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78271-8727-4D16-AB6C-3702D36D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3273E-C296-459D-9236-35F49372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F2138-5F77-424F-8D0A-99DB9BB2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27D12-4956-4E6E-8114-E0A6E8EB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B2A4A-9C6D-4D78-B92F-F39F1EF9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FFCBB-AADA-4C64-982E-711194B5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A00B6-0204-4C87-AEF1-F4BF67BB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A74E9-0557-4EB4-92AA-F65F05D4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6A1A6-680F-4571-B5BB-CAF3F502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9A7-D998-4D92-8B03-287D67A0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1DEED-D1BA-471D-B856-34A6F6DC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0E50D-6CF7-4C7A-8EE7-CFB13373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28E59-1786-42AC-9039-28F1544A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BE43A-DF1B-400E-B5E2-3E8D86A0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9B27C-A183-4F1A-AEEA-BBB33D76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0AC56-FF33-4241-9389-D6C4CEB3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832DA-B7DF-42F9-9875-5CD1392A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91D0F-A824-4EDB-A68E-B41E632E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3C94B-B813-4A34-83D3-9BC8C07E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2D0D7-7E6E-4B44-8F72-E860B6AA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30C7-E1D6-4AE1-B1EF-0714808D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53AE1-3B39-4643-B6E0-06E79471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D58D9-9929-426F-B074-DC073835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693DD-FB62-42F1-9494-AFF4B5F0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16F2F-5FD1-4DF5-B1CA-EE25D12D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47583-0F92-4380-890D-6C29AFF0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86210-8B0D-4B6F-9DBA-937994D5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645A5-3F3D-4051-9CD3-F75ED096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F5080-0984-4233-91B8-BDB804D6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78F40-B425-4E1A-9752-48F0738E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DBD50-2F80-4FB1-A2BA-DB2179DC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E228-4DC7-40E7-89D2-BD6A4487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E5175-AFA0-4DFA-8D01-FA5E0529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30AA0-B96C-4B5B-B166-79955DE6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3A5CE-0AA3-4DB6-AFE3-4CEFD532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00E8D-7FE0-40BC-A0DA-B63D277C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20B2E-629E-47FD-8329-8D85B127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E7CF4-56E0-4AF0-BE8D-DA2F9E7C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7F383-1545-40BF-A672-A2322F73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85AB6-C22A-4998-AF62-8DDDD4F4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79599-5C6C-42B5-8A57-9D561A48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A612A-FA74-4A71-A753-03F66EEC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FF59-86E5-4696-A98E-F2F9922B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6391E-F183-4DEB-90E0-5E23AE1D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BCD98-B16F-44C4-8D4C-AED3BE98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B7834-2660-4D4E-9C3D-9F542818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A9B36-F4F3-43AE-8029-AE44A3D4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F6409-A9EF-4D2F-B889-415BF932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73BC4-6842-449B-B133-9F20A8E6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A73BC-6A99-403A-B19C-C892D5E0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78A2E-C38C-4076-8AEB-0943EB62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F989E-5504-4693-B328-DF5C76C9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9E709-743C-4038-BA2A-71C89CFC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4B9-429A-4851-909D-F8A9CB1A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E3EB2-1516-4E69-80B9-B51726BF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500E0-BEF5-474D-942D-58FF1FB3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305D0-5AAD-430E-ABCA-9FF4FCCE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776E1-EF3B-4568-A84A-5BFD9E77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91BC6-0843-4868-9C9E-9A1E41F5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099C1-0BDC-4AC7-8F11-5553D413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96EBA-0CE2-4D0F-B528-98ED2163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5014-8C66-4FA9-9662-DABB54D5EEEF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50F9-1576-444F-8037-50594E7CF2FA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442C-3E27-488A-8D90-78A0F31D5516}" type="datetime">
              <a:rPr b="0" lang="nl-NL" sz="10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e8f0f4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CDD9-D3BE-46BE-9ADF-A003AF2709BE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9281-D3A1-48E4-8DDF-146F4B609E05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82E5-463D-4808-98F2-0FE531ADB389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A69E-A37E-4A11-8E2B-645F24C1C078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AE13-E0F4-4403-9E10-297623BC0BF2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2963-72C4-414A-AD94-708FEA43B654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5EB3-1757-4729-B840-3AB04468E4B8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AA46-D210-4842-8DFD-CAB1BCFBE01D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B8B6-B719-4E92-93E0-1CD5A6E94965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5A60-7CA3-4957-A38E-375D128A48BC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932F-8E87-4BE2-8547-9425D1FB77AC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B667-93AA-444C-A60B-DD00F5D9CABE}" type="datetime">
              <a:rPr b="0" lang="nl-NL" sz="10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6FAB-A333-469E-9FA8-56C59F8F5258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AutoShape 2" descr=""/>
          <p:cNvPicPr/>
          <p:nvPr/>
        </p:nvPicPr>
        <p:blipFill>
          <a:blip r:embed="rId1"/>
          <a:stretch/>
        </p:blipFill>
        <p:spPr>
          <a:xfrm>
            <a:off x="914400" y="993600"/>
            <a:ext cx="8229600" cy="19018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1307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464646"/>
                </a:solidFill>
                <a:latin typeface="Lucida Sans Unicode"/>
              </a:rPr>
              <a:t>College Anatomie/Fysiolog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AutoShape 2" descr=""/>
          <p:cNvPicPr/>
          <p:nvPr/>
        </p:nvPicPr>
        <p:blipFill>
          <a:blip r:embed="rId1"/>
          <a:stretch/>
        </p:blipFill>
        <p:spPr>
          <a:xfrm>
            <a:off x="1609560" y="158760"/>
            <a:ext cx="7534440" cy="12859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rinelei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a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rinebu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Picture 4" descr="D:\Documents and Settings\BugelJ\Mijn documenten\Mijn afbeeldingen\incontinentie_blaas.jpg"/>
          <p:cNvPicPr/>
          <p:nvPr/>
        </p:nvPicPr>
        <p:blipFill>
          <a:blip r:embed="rId2"/>
          <a:stretch/>
        </p:blipFill>
        <p:spPr>
          <a:xfrm>
            <a:off x="4191120" y="2514600"/>
            <a:ext cx="2666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edere nier is opgebouwd uit een aantal(1.000.000) urineproducerende en filterende niereenhed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zogenaamde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efron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78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D:\Documents and Settings\BugelJ\Mijn documenten\Mijn afbeeldingen\nephron.jpg"/>
          <p:cNvPicPr/>
          <p:nvPr/>
        </p:nvPicPr>
        <p:blipFill>
          <a:blip r:embed="rId2"/>
          <a:stretch/>
        </p:blipFill>
        <p:spPr>
          <a:xfrm>
            <a:off x="2071800" y="2714760"/>
            <a:ext cx="41432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chaam van </a:t>
            </a: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alpighi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          (ligt in de nierschor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s van </a:t>
            </a: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enle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                     (ligt in het niermer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zamelbuis                            (ligt ook in het niermer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estaat  u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lomerulus                                        ( is een kluwen van bloedvat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Kapsel van Bowman                              ( is het opvangbekken van het eerste filtraat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ier vindt de terugresorptie plaats van het eerste filtr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t is een zeer belangrijk onderdeel van de filtratie. Dit voorkomt uitdroging!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arna de geconcentreerde urine wordt opgevangen in de verzamelbu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nuit de verzamelbuis gaat de urine via de urineleiders naar de urineblaa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20" name="Tijdelijke aanduiding voor inhoud 3" descr="nieren.jpg"/>
          <p:cNvPicPr/>
          <p:nvPr/>
        </p:nvPicPr>
        <p:blipFill>
          <a:blip r:embed="rId2"/>
          <a:stretch/>
        </p:blipFill>
        <p:spPr>
          <a:xfrm>
            <a:off x="3346560" y="1854360"/>
            <a:ext cx="579744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AutoShape 2" descr=""/>
          <p:cNvPicPr/>
          <p:nvPr/>
        </p:nvPicPr>
        <p:blipFill>
          <a:blip r:embed="rId1"/>
          <a:stretch/>
        </p:blipFill>
        <p:spPr>
          <a:xfrm>
            <a:off x="1609560" y="158760"/>
            <a:ext cx="7534440" cy="16146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er dag gaat er 1800 liter bloed door deze nefron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nefronen halen hier ongeveer 180 liter ultrafiltraat u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ngeveer 178.5 liter gaat weer terug het lichaam in(dit heet terugresorpti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ijft er ongeveer 1.5 liter urine ov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ze urine wordt opgevangen in het nierbek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ia de urineleiders gaat dat naar de blaas.                                        (oa door een peristaltische beweging van de urineleider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de blaas verzamelt zich de urine(200-max 900 m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AutoShape 2" descr=""/>
          <p:cNvPicPr/>
          <p:nvPr/>
        </p:nvPicPr>
        <p:blipFill>
          <a:blip r:embed="rId1"/>
          <a:stretch/>
        </p:blipFill>
        <p:spPr>
          <a:xfrm>
            <a:off x="1609560" y="298440"/>
            <a:ext cx="7534440" cy="11890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blaas heeft 2 kringsp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inwendige(onwillekeurig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uitwendige(willekeurig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Verwijderen van afvalstoffe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Picture 4" descr="toilet"/>
          <p:cNvPicPr/>
          <p:nvPr/>
        </p:nvPicPr>
        <p:blipFill>
          <a:blip r:embed="rId2"/>
          <a:stretch/>
        </p:blipFill>
        <p:spPr>
          <a:xfrm>
            <a:off x="5554800" y="2048040"/>
            <a:ext cx="35892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De blaas is vol (ong.350 ml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Wand van de blaas rekt op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Er gaat een seintje naar de hersene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Bewustwording van de blaas is vol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In een reflex is er een ontspanning van de inwendige en aanspanning van de uitwendige kringspi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Lozingsplaats zoeke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Bewust ontspannen van de uitwendige spi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Hierdoor gecontroleerde lozing van de urin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Picture 5" descr="D:\Documents and Settings\BugelJ\Mijn documenten\Mijn afbeeldingen\incontinentie.jpg"/>
          <p:cNvPicPr/>
          <p:nvPr/>
        </p:nvPicPr>
        <p:blipFill>
          <a:blip r:embed="rId2"/>
          <a:stretch/>
        </p:blipFill>
        <p:spPr>
          <a:xfrm>
            <a:off x="5486400" y="838080"/>
            <a:ext cx="310356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et niet kunnen ophouden van feces of urine tot het moment waarop lozing sociaal aanvaardbaar i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.stress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2.urge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3.overloop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4.functionele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5.reflex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45" name="Tijdelijke aanduiding voor inhoud 3" descr="Dialyse1.jpg"/>
          <p:cNvPicPr/>
          <p:nvPr/>
        </p:nvPicPr>
        <p:blipFill>
          <a:blip r:embed="rId2"/>
          <a:stretch/>
        </p:blipFill>
        <p:spPr>
          <a:xfrm>
            <a:off x="0" y="2571840"/>
            <a:ext cx="2714760" cy="3929040"/>
          </a:xfrm>
          <a:prstGeom prst="rect">
            <a:avLst/>
          </a:prstGeom>
          <a:ln w="0">
            <a:noFill/>
          </a:ln>
        </p:spPr>
      </p:pic>
      <p:pic>
        <p:nvPicPr>
          <p:cNvPr id="446" name="Afbeelding 4" descr="kunstnier-kolff.jpg"/>
          <p:cNvPicPr/>
          <p:nvPr/>
        </p:nvPicPr>
        <p:blipFill>
          <a:blip r:embed="rId3"/>
          <a:stretch/>
        </p:blipFill>
        <p:spPr>
          <a:xfrm>
            <a:off x="5310360" y="2809800"/>
            <a:ext cx="269064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49" name="Tijdelijke aanduiding voor inhoud 3" descr="-kolff..jpg"/>
          <p:cNvPicPr/>
          <p:nvPr/>
        </p:nvPicPr>
        <p:blipFill>
          <a:blip r:embed="rId2"/>
          <a:stretch/>
        </p:blipFill>
        <p:spPr>
          <a:xfrm>
            <a:off x="5205240" y="2147760"/>
            <a:ext cx="393876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52" name="Tijdelijke aanduiding voor inhoud 3" descr="Nieuwe kunstnier.bmp"/>
          <p:cNvPicPr/>
          <p:nvPr/>
        </p:nvPicPr>
        <p:blipFill>
          <a:blip r:embed="rId2"/>
          <a:stretch/>
        </p:blipFill>
        <p:spPr>
          <a:xfrm>
            <a:off x="0" y="2452680"/>
            <a:ext cx="5929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Tijdelijke aanduiding voor inhoud 3" descr="donornier.jpg"/>
          <p:cNvPicPr/>
          <p:nvPr/>
        </p:nvPicPr>
        <p:blipFill>
          <a:blip r:embed="rId1"/>
          <a:stretch/>
        </p:blipFill>
        <p:spPr>
          <a:xfrm>
            <a:off x="0" y="2325600"/>
            <a:ext cx="471492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kke darm/ endelda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Vaste afvalstoffe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Water en koolzuurg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ev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galkleurstoffe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i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Water en zoute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AutoShape 2" descr=""/>
          <p:cNvPicPr/>
          <p:nvPr/>
        </p:nvPicPr>
        <p:blipFill>
          <a:blip r:embed="rId1"/>
          <a:stretch/>
        </p:blipFill>
        <p:spPr>
          <a:xfrm>
            <a:off x="1646280" y="244440"/>
            <a:ext cx="7497720" cy="14083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.Hulp kunnen bieden bij toiletga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2.Observeren van feces en ur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3.Kunnen geven van voorlich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4.Hulp kunnen bieden bij ophoesten van sput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5.Hulp bij bra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6.Observeren van zweetsecreti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AutoShape 2" descr=""/>
          <p:cNvPicPr/>
          <p:nvPr/>
        </p:nvPicPr>
        <p:blipFill>
          <a:blip r:embed="rId1"/>
          <a:stretch/>
        </p:blipFill>
        <p:spPr>
          <a:xfrm>
            <a:off x="1646280" y="298440"/>
            <a:ext cx="7686720" cy="11462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r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Fe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put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weet/transpira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nstrua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raaks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uitscheiding"/>
          <p:cNvPicPr/>
          <p:nvPr/>
        </p:nvPicPr>
        <p:blipFill>
          <a:blip r:embed="rId2"/>
          <a:stretch/>
        </p:blipFill>
        <p:spPr>
          <a:xfrm>
            <a:off x="0" y="1773360"/>
            <a:ext cx="44640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391" name="Tijdelijke aanduiding voor inhoud 5" descr="nier schematisch.jpg"/>
          <p:cNvPicPr/>
          <p:nvPr/>
        </p:nvPicPr>
        <p:blipFill>
          <a:blip r:embed="rId2"/>
          <a:stretch/>
        </p:blipFill>
        <p:spPr>
          <a:xfrm>
            <a:off x="0" y="1844640"/>
            <a:ext cx="4448160" cy="45277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5559120" y="184464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Nierschors (Cortex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Gespikkeld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Smalle laa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Lichaampjes van Malpighi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Niermerg (Medulla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Streperi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Lissen van Henl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verzamelbuisj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Nierbekken (Pelvis Renalis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Opvangen van het ultrafiltraa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oonvormi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50 gram zwa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2cm lang,7 cm breed en 3 cm di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nks en rechts van wervelkol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chternier ligt iets lag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gging in steunv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AutoShape 2" descr=""/>
          <p:cNvPicPr/>
          <p:nvPr/>
        </p:nvPicPr>
        <p:blipFill>
          <a:blip r:embed="rId1"/>
          <a:stretch/>
        </p:blipFill>
        <p:spPr>
          <a:xfrm>
            <a:off x="1609560" y="158760"/>
            <a:ext cx="7534440" cy="12859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2da2bf"/>
              </a:buClr>
              <a:buSzPct val="68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ge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terhuishoud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uten huishoud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uurgraad( ph waard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38120" indent="-318960">
              <a:lnSpc>
                <a:spcPct val="90000"/>
              </a:lnSpc>
              <a:buClr>
                <a:srgbClr val="2da2bf"/>
              </a:buClr>
              <a:buSzPct val="68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itscheiding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an ureum en urinezuu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an lichaamsvreemde stoffen (medicijn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38120" indent="-318960">
              <a:lnSpc>
                <a:spcPct val="90000"/>
              </a:lnSpc>
              <a:buClr>
                <a:srgbClr val="2da2bf"/>
              </a:buClr>
              <a:buSzPct val="68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lgemeen doel is het </a:t>
            </a: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filter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van het blo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9:28:31Z</dcterms:created>
  <dc:creator>Bugel</dc:creator>
  <dc:description/>
  <dc:language>en-US</dc:language>
  <cp:lastModifiedBy>J.W.P. Bugel</cp:lastModifiedBy>
  <dcterms:modified xsi:type="dcterms:W3CDTF">2016-03-09T09:09:29Z</dcterms:modified>
  <cp:revision>25</cp:revision>
  <dc:subject/>
  <dc:title>Uitscheiding</dc:title>
</cp:coreProperties>
</file>