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4D4-DAC9-4533-B2E9-768FBD32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D2D-5349-4CAB-9B0A-176C01F6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D41-C56A-407B-9CE9-EA9A5ED7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5BB-A18F-402C-BACE-FB0E9809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2C64-89B4-4A8F-B3C1-35DD1F3C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C3CE-3B6E-4881-962E-F16FC38E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B7B1-E287-4E60-BE86-76828302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C26D-2CBE-460E-8491-3AA180A1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46E6-FE7C-4B64-83CA-ED8A5978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B8EF-8B4C-463B-B760-32D224FB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4F79-F872-4B6C-B51D-DFF574B0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42F-FAEF-4BC5-B96A-77C024CB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FF8C-2FBD-46D3-BBC2-10B24F86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532E-CBB1-4672-8244-0C99914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7FD5-72D7-45D1-9778-489F5AAA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4B54-0043-4DF1-8D1A-6A35ECFA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46E9-28D3-4C3C-8994-55DAEE6B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BD3-B504-48A1-ADDF-58DB6137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5EC-1595-45E7-A410-2E22BB77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4A2-6A80-4839-8222-BEB03499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118-2F45-4EDD-A18E-426665B9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A84-0291-48A0-8DE2-9D60A394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F69-0741-4013-873D-161A7BDD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87A-2846-47CE-BD90-DC00DBD9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D7C3-7E35-4764-B4F4-AA8E9EE72B9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7551-F842-4093-A8E9-730D5664D2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plaatj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enuwc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-Neuron-nl" descr=""/>
          <p:cNvPicPr/>
          <p:nvPr/>
        </p:nvPicPr>
        <p:blipFill>
          <a:blip r:embed="rId1"/>
          <a:stretch/>
        </p:blipFill>
        <p:spPr>
          <a:xfrm>
            <a:off x="2666880" y="2044800"/>
            <a:ext cx="3810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_hersenschors2" descr=""/>
          <p:cNvPicPr/>
          <p:nvPr/>
        </p:nvPicPr>
        <p:blipFill>
          <a:blip r:embed="rId1"/>
          <a:stretch/>
        </p:blipFill>
        <p:spPr>
          <a:xfrm>
            <a:off x="2819520" y="2782800"/>
            <a:ext cx="38098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der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_2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hersenen2" descr=""/>
          <p:cNvPicPr/>
          <p:nvPr/>
        </p:nvPicPr>
        <p:blipFill>
          <a:blip r:embed="rId1"/>
          <a:stretch/>
        </p:blipFill>
        <p:spPr>
          <a:xfrm>
            <a:off x="2670120" y="1857240"/>
            <a:ext cx="3635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e zenuwstelsel en perifere zenuwstels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zenewstelsel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ij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hersenen%204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7545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 in 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kwabben" descr=""/>
          <p:cNvPicPr/>
          <p:nvPr/>
        </p:nvPicPr>
        <p:blipFill>
          <a:blip r:embed="rId1"/>
          <a:stretch/>
        </p:blipFill>
        <p:spPr>
          <a:xfrm>
            <a:off x="2133720" y="3013200"/>
            <a:ext cx="4190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hersenen%201" descr=""/>
          <p:cNvPicPr/>
          <p:nvPr/>
        </p:nvPicPr>
        <p:blipFill>
          <a:blip r:embed="rId1"/>
          <a:stretch/>
        </p:blipFill>
        <p:spPr>
          <a:xfrm>
            <a:off x="2133720" y="1725480"/>
            <a:ext cx="4876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9:38:43Z</dcterms:created>
  <dc:creator>BugelJ</dc:creator>
  <dc:description/>
  <dc:language>en-US</dc:language>
  <cp:lastModifiedBy>BugelJ</cp:lastModifiedBy>
  <dcterms:modified xsi:type="dcterms:W3CDTF">2007-12-19T09:43:43Z</dcterms:modified>
  <cp:revision>1</cp:revision>
  <dc:subject/>
  <dc:title>De hersenen</dc:title>
</cp:coreProperties>
</file>