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9E406-96BC-4607-960C-1698582F5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3B7FE-7A91-41BF-99F3-65D782EF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B3C19-43C3-4FA7-9FC8-DD115068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F240D-36C8-4299-84BD-D4645ECE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3F193-6389-43C2-B058-5346A338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7314E-9AB7-44FD-A65F-4F7B03BF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2E413-736D-4BDA-AA89-A64CDDE4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45E45-6C23-46A8-8FE6-93F6829D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F5C71-24BE-4177-A11C-9FD17B35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148D5-EDF0-4E2A-AD9B-CA1B7160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C1884-4420-49E2-BB54-6F5D391D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A1438-E211-48A3-9677-BCC08E3F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B585-DBD7-4D0E-93BC-D16EB9937CB5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fdcb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fdcb7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Het bewegingsapparaat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e8d8c"/>
                </a:solidFill>
                <a:latin typeface="Calibri"/>
              </a:rPr>
              <a:t>Botten,gewrichten,banden en spieren werken samen om beweging mogelijk te mak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Rectangle 10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oorten bot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ijpbeend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latte beend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orte beend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nregelmatige beend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otverbinding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raakbe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indweefs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Naa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ez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b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gewrich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Scharni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Koge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Zade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Ei/elipsvormi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Ro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1" name="Picture 4" descr="gewricht"/>
          <p:cNvPicPr/>
          <p:nvPr/>
        </p:nvPicPr>
        <p:blipFill>
          <a:blip r:embed="rId1"/>
          <a:stretch/>
        </p:blipFill>
        <p:spPr>
          <a:xfrm>
            <a:off x="4211640" y="2341440"/>
            <a:ext cx="4464000" cy="3386160"/>
          </a:xfrm>
          <a:prstGeom prst="rect">
            <a:avLst/>
          </a:prstGeom>
          <a:ln w="0">
            <a:noFill/>
          </a:ln>
        </p:spPr>
      </p:pic>
      <p:sp>
        <p:nvSpPr>
          <p:cNvPr id="82" name="Tijdelijke aanduiding voor voettekst 5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ouw gewrich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4" name="Picture 4" descr="knie1"/>
          <p:cNvPicPr/>
          <p:nvPr/>
        </p:nvPicPr>
        <p:blipFill>
          <a:blip r:embed="rId1"/>
          <a:stretch/>
        </p:blipFill>
        <p:spPr>
          <a:xfrm>
            <a:off x="1908000" y="1809720"/>
            <a:ext cx="5185080" cy="4226040"/>
          </a:xfrm>
          <a:prstGeom prst="rect">
            <a:avLst/>
          </a:prstGeom>
          <a:ln w="0">
            <a:noFill/>
          </a:ln>
        </p:spPr>
      </p:pic>
      <p:sp>
        <p:nvSpPr>
          <p:cNvPr id="85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nderdelen van het gewrich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splee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kaps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ynoviaalvli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band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yalien kraakbe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raakbeenschijf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8" name="Tijdelijke aanduiding voor voettekst 3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fdcb7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splee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Is de smalle ruimte tussen de kop en de kom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Gewrichtssmeer  ( is smerende vloeistof 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kapsel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Omhulsel van straf bindweefsel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Omsluit de gewrichtsholte en houdt beide botdelen bij elkaar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ynoviaal vli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Is de binnenbekleding van het gewrichtskapsel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1" name="Tijdelijke aanduiding voor voettekst 3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fdcb7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banden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Niet elastisch bindweefsel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Zorgen voor extra stevigheid van het gewrich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yalien kraakbe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Hier zijn de botuiteinden mee bedek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Erg gla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raakbeenschijf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Zorgen er voor dat de gewrichtsvlakken beter op elkaar passen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Bv de meniscus in de kni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4" name="Tijdelijke aanduiding voor voettekst 3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fdcb7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otafwijking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otontkalking-osteoporo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kkeninstabilitei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Reum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rtro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Fractuu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7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steopo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tekent letterlijk “poreus bot”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alans tussen opbouw en afbraak is negatief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erlies van kalk in de bott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an niet meer goed belasting opvang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rotere kans op fractu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rotere kans op inzakk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0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Minder kalk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02" name="Picture 4" descr="Osteoporose"/>
          <p:cNvPicPr/>
          <p:nvPr/>
        </p:nvPicPr>
        <p:blipFill>
          <a:blip r:embed="rId1"/>
          <a:stretch/>
        </p:blipFill>
        <p:spPr>
          <a:xfrm>
            <a:off x="2719440" y="3019320"/>
            <a:ext cx="3095640" cy="1962360"/>
          </a:xfrm>
          <a:prstGeom prst="rect">
            <a:avLst/>
          </a:prstGeom>
          <a:ln w="0">
            <a:noFill/>
          </a:ln>
        </p:spPr>
      </p:pic>
      <p:sp>
        <p:nvSpPr>
          <p:cNvPr id="103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Het skele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47" name="Picture 4" descr="Skelet1"/>
          <p:cNvPicPr/>
          <p:nvPr/>
        </p:nvPicPr>
        <p:blipFill>
          <a:blip r:embed="rId1"/>
          <a:stretch/>
        </p:blipFill>
        <p:spPr>
          <a:xfrm>
            <a:off x="2556000" y="1125360"/>
            <a:ext cx="3671640" cy="4896000"/>
          </a:xfrm>
          <a:prstGeom prst="rect">
            <a:avLst/>
          </a:prstGeom>
          <a:ln w="0">
            <a:noFill/>
          </a:ln>
        </p:spPr>
      </p:pic>
      <p:sp>
        <p:nvSpPr>
          <p:cNvPr id="48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inzakk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05" name="Picture 4" descr="osteovolutie"/>
          <p:cNvPicPr/>
          <p:nvPr/>
        </p:nvPicPr>
        <p:blipFill>
          <a:blip r:embed="rId1"/>
          <a:stretch/>
        </p:blipFill>
        <p:spPr>
          <a:xfrm>
            <a:off x="3244680" y="2038320"/>
            <a:ext cx="2044800" cy="3924360"/>
          </a:xfrm>
          <a:prstGeom prst="rect">
            <a:avLst/>
          </a:prstGeom>
          <a:ln w="0">
            <a:noFill/>
          </a:ln>
        </p:spPr>
      </p:pic>
      <p:sp>
        <p:nvSpPr>
          <p:cNvPr id="106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revalenti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08" name="Picture 4" descr="prevalentie osteoporose"/>
          <p:cNvPicPr/>
          <p:nvPr/>
        </p:nvPicPr>
        <p:blipFill>
          <a:blip r:embed="rId1"/>
          <a:stretch/>
        </p:blipFill>
        <p:spPr>
          <a:xfrm>
            <a:off x="1403280" y="1978200"/>
            <a:ext cx="6624720" cy="3617640"/>
          </a:xfrm>
          <a:prstGeom prst="rect">
            <a:avLst/>
          </a:prstGeom>
          <a:ln w="0">
            <a:noFill/>
          </a:ln>
        </p:spPr>
      </p:pic>
      <p:sp>
        <p:nvSpPr>
          <p:cNvPr id="109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reukgren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11" name="Picture 4" descr="osteoporose_broze-botten_fig_02"/>
          <p:cNvPicPr/>
          <p:nvPr/>
        </p:nvPicPr>
        <p:blipFill>
          <a:blip r:embed="rId1"/>
          <a:stretch/>
        </p:blipFill>
        <p:spPr>
          <a:xfrm>
            <a:off x="1322280" y="2332080"/>
            <a:ext cx="5889600" cy="3336840"/>
          </a:xfrm>
          <a:prstGeom prst="rect">
            <a:avLst/>
          </a:prstGeom>
          <a:ln w="0">
            <a:noFill/>
          </a:ln>
        </p:spPr>
      </p:pic>
      <p:sp>
        <p:nvSpPr>
          <p:cNvPr id="112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768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768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7" dur="76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9" dur="76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oorkomen van osteopo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s niet volkomen te voorkom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Wel te vertrag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oldoende beweging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Niet roken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oldoende calcium(vooral in voeding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itamine 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Valpreventi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Medicijnen(hormonaal en niet hormonaal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5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9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98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98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98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898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98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98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98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98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kkeninstabilitei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oderne ziekte??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f niet??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8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I   wat is dat ???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Tijdens zwangerschap verslapping van de banden in het bekk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erslapping symfy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nder invloed van hormonale spieg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ierdoor komt er beweging tussen de bekkenbott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Pijn in de lage rug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Pijn bij symfyse verbinding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Klachten bij het lopen etc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orzaak BI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Extreme verslapping door vervroegde hormonale werk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Verrekking van de banden door lichamelijke inspann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4" name="Picture 4" descr="bekken"/>
          <p:cNvPicPr/>
          <p:nvPr/>
        </p:nvPicPr>
        <p:blipFill>
          <a:blip r:embed="rId1"/>
          <a:stretch/>
        </p:blipFill>
        <p:spPr>
          <a:xfrm>
            <a:off x="5143680" y="2436840"/>
            <a:ext cx="3047760" cy="2857320"/>
          </a:xfrm>
          <a:prstGeom prst="rect">
            <a:avLst/>
          </a:prstGeom>
          <a:ln w="0">
            <a:noFill/>
          </a:ln>
        </p:spPr>
      </p:pic>
      <p:sp>
        <p:nvSpPr>
          <p:cNvPr id="125" name="Tijdelijke aanduiding voor voettekst 5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handel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Informatie gev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Bekkenband ter ondersteun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Trainingsprogramma voor bil,buik en bekkenbodemspier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Houdingstrain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Voorkomen van verkeerde bewegingen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Laatste optie:operati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8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Art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1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32" name="Picture 5" descr="artrose1"/>
          <p:cNvPicPr/>
          <p:nvPr/>
        </p:nvPicPr>
        <p:blipFill>
          <a:blip r:embed="rId1"/>
          <a:stretch/>
        </p:blipFill>
        <p:spPr>
          <a:xfrm>
            <a:off x="914400" y="1600200"/>
            <a:ext cx="73152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Art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slijtag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ver elkaar schuren van bott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ijn tijdens beweg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ijf en stram gevo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andsverander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wegingsbeperk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5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0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206 Bot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f2b20"/>
                </a:solidFill>
                <a:latin typeface="Calibri"/>
              </a:rPr>
              <a:t>Functies van het skelet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evigheid en vor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weg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scherm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anhechtingsplaats spi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orming bloedcellen en bloedplaatj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oorraadplaats kalk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orzaak art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Normaal ouderdomsproc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rotere afbraak van kraakbeen,dan aanmaak van kraakbe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8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39" name="Picture 4" descr="artrose"/>
          <p:cNvPicPr/>
          <p:nvPr/>
        </p:nvPicPr>
        <p:blipFill>
          <a:blip r:embed="rId1"/>
          <a:stretch/>
        </p:blipFill>
        <p:spPr>
          <a:xfrm>
            <a:off x="2209680" y="3429000"/>
            <a:ext cx="464832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0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Risicofactoren art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Chronische(over)belast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vergewich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Trauma/beschadig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rfelijkhei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Lage vitamine D spieg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nezing bestaat </a:t>
            </a:r>
            <a:r>
              <a:rPr b="0" lang="nl-NL" sz="2200" spc="-1" strike="noStrike" u="sng">
                <a:solidFill>
                  <a:srgbClr val="2f2b20"/>
                </a:solidFill>
                <a:uFillTx/>
                <a:latin typeface="Calibri"/>
              </a:rPr>
              <a:t>NIE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2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Reumatoide Artritis(Chronische gewrichtsreuma)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5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46" name="Picture 4" descr="reuma"/>
          <p:cNvPicPr/>
          <p:nvPr/>
        </p:nvPicPr>
        <p:blipFill>
          <a:blip r:embed="rId1"/>
          <a:stretch/>
        </p:blipFill>
        <p:spPr>
          <a:xfrm>
            <a:off x="1943280" y="1743120"/>
            <a:ext cx="52578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Reuma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ntsteking gewrichtskaps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aardoor productie ontstekingsvoch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antasting kraakbeen en bott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eestal chronische aandoen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9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0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Diagn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wrichtszwelling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fwijking op rontgenfoto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fwijking in het blo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bservatie blijft belangrijk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2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0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revalenti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55" name="Picture 7" descr="reuma 2"/>
          <p:cNvPicPr/>
          <p:nvPr/>
        </p:nvPicPr>
        <p:blipFill>
          <a:blip r:embed="rId1"/>
          <a:stretch/>
        </p:blipFill>
        <p:spPr>
          <a:xfrm>
            <a:off x="4869000" y="2763720"/>
            <a:ext cx="3597120" cy="2203560"/>
          </a:xfrm>
          <a:prstGeom prst="rect">
            <a:avLst/>
          </a:prstGeom>
          <a:ln w="0">
            <a:noFill/>
          </a:ln>
        </p:spPr>
      </p:pic>
      <p:sp>
        <p:nvSpPr>
          <p:cNvPr id="156" name="Tijdelijke aanduiding voor voettekst 5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157" name="Picture 5" descr="reuma 1"/>
          <p:cNvPicPr/>
          <p:nvPr/>
        </p:nvPicPr>
        <p:blipFill>
          <a:blip r:embed="rId2"/>
          <a:stretch/>
        </p:blipFill>
        <p:spPr>
          <a:xfrm>
            <a:off x="533520" y="1600200"/>
            <a:ext cx="38862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0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otbreuk/fractuur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s het onderbreken van de continuiteit van het bo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cheur of gebrok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orzaak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Door geweld van buitenaf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f2b20"/>
                </a:solidFill>
                <a:latin typeface="Calibri"/>
              </a:rPr>
              <a:t>Broos worden van het bot(oa.osteoporose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0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nodeType="clickEffect" fill="hold">
                      <p:stCondLst>
                        <p:cond delay="0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Extern geweld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62" name="Picture 4" descr="femurfractuur"/>
          <p:cNvPicPr/>
          <p:nvPr/>
        </p:nvPicPr>
        <p:blipFill>
          <a:blip r:embed="rId1"/>
          <a:stretch/>
        </p:blipFill>
        <p:spPr>
          <a:xfrm>
            <a:off x="2916360" y="1628640"/>
            <a:ext cx="3024000" cy="4537080"/>
          </a:xfrm>
          <a:prstGeom prst="rect">
            <a:avLst/>
          </a:prstGeom>
          <a:ln w="0">
            <a:noFill/>
          </a:ln>
        </p:spPr>
      </p:pic>
      <p:sp>
        <p:nvSpPr>
          <p:cNvPr id="163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roos worden van bo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65" name="Picture 4" descr="heup_fractuur2"/>
          <p:cNvPicPr/>
          <p:nvPr/>
        </p:nvPicPr>
        <p:blipFill>
          <a:blip r:embed="rId1"/>
          <a:stretch/>
        </p:blipFill>
        <p:spPr>
          <a:xfrm>
            <a:off x="2373480" y="1700280"/>
            <a:ext cx="4205160" cy="4537080"/>
          </a:xfrm>
          <a:prstGeom prst="rect">
            <a:avLst/>
          </a:prstGeom>
          <a:ln w="0">
            <a:noFill/>
          </a:ln>
        </p:spPr>
      </p:pic>
      <p:sp>
        <p:nvSpPr>
          <p:cNvPr id="166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pen/gesloten breuk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Gesloten breuk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De huid en omliggend weefsel is nog heel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Het bot staat </a:t>
            </a:r>
            <a:r>
              <a:rPr b="0" lang="nl-NL" sz="2100" spc="-1" strike="noStrike" u="sng">
                <a:solidFill>
                  <a:srgbClr val="2f2b20"/>
                </a:solidFill>
                <a:uFillTx/>
                <a:latin typeface="Calibri"/>
              </a:rPr>
              <a:t>niet</a:t>
            </a: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 in contact met de buitenlucht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69" name="Picture 4" descr="fractuur1"/>
          <p:cNvPicPr/>
          <p:nvPr/>
        </p:nvPicPr>
        <p:blipFill>
          <a:blip r:embed="rId1"/>
          <a:stretch/>
        </p:blipFill>
        <p:spPr>
          <a:xfrm>
            <a:off x="5345280" y="2097000"/>
            <a:ext cx="2644560" cy="3537000"/>
          </a:xfrm>
          <a:prstGeom prst="rect">
            <a:avLst/>
          </a:prstGeom>
          <a:ln w="0">
            <a:noFill/>
          </a:ln>
        </p:spPr>
      </p:pic>
      <p:sp>
        <p:nvSpPr>
          <p:cNvPr id="170" name="Tijdelijke aanduiding voor voettekst 5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oorten botweefsel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ot- of been weefs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raakbe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pen breuk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uid is niet meer he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ot steekt door de huid he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ot is in contact met buitenluch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Kans op infectie is grote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Tragere bothel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3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0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en- of botweefsel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ard en stevi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Niet buigzaa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Niet massief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eel kalk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p plaatsen waar stevigheid belangrijk i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Kraakbe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Meer lijmstoff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Buigzam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Erg gla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Niet doorbloe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Gevoed door synoviale vocht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Opvangen van druk en schokk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Verschillende plekk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Ribben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ervels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Gewrichten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Neus,oorschelp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ouw van het bo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Van buiten naar binn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7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2f2b20"/>
                </a:solidFill>
                <a:latin typeface="Calibri"/>
              </a:rPr>
              <a:t>Beenvlies(periost)</a:t>
            </a:r>
            <a:r>
              <a:rPr b="0" lang="nl-NL" sz="2300" spc="-1" strike="noStrike">
                <a:solidFill>
                  <a:srgbClr val="2f2b20"/>
                </a:solidFill>
                <a:latin typeface="Calibri"/>
              </a:rPr>
              <a:t>	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bloedvaten en zenuwen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7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2f2b20"/>
                </a:solidFill>
                <a:latin typeface="Calibri"/>
              </a:rPr>
              <a:t>Schors 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botvormende cellen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7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2f2b20"/>
                </a:solidFill>
                <a:latin typeface="Calibri"/>
              </a:rPr>
              <a:t>Sponsachtige massa(spongiosa)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Bestaat uit kleine holtes met rood beenmerg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Bot is dus niet massief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24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In het rode beenmerg worden rode en witte bloedlichaampjes gemaakt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" name="Tijdelijke aanduiding voor voettekst 4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Groei van het bo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Breedt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7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2f2b20"/>
                </a:solidFill>
                <a:latin typeface="Calibri"/>
              </a:rPr>
              <a:t>Door de botvormende cellen in de schors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6" name="Picture 6" descr="onderarm"/>
          <p:cNvPicPr/>
          <p:nvPr/>
        </p:nvPicPr>
        <p:blipFill>
          <a:blip r:embed="rId1"/>
          <a:stretch/>
        </p:blipFill>
        <p:spPr>
          <a:xfrm>
            <a:off x="4799160" y="2246400"/>
            <a:ext cx="3736800" cy="3238560"/>
          </a:xfrm>
          <a:prstGeom prst="rect">
            <a:avLst/>
          </a:prstGeom>
          <a:ln w="0">
            <a:noFill/>
          </a:ln>
        </p:spPr>
      </p:pic>
      <p:sp>
        <p:nvSpPr>
          <p:cNvPr id="67" name="Tijdelijke aanduiding voor voettekst 5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Groei van het bo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Lengt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7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2f2b20"/>
                </a:solidFill>
                <a:latin typeface="Calibri"/>
              </a:rPr>
              <a:t>Groeischijf aan het eind van het bot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0" name="Picture 4" descr="groeischijf"/>
          <p:cNvPicPr/>
          <p:nvPr/>
        </p:nvPicPr>
        <p:blipFill>
          <a:blip r:embed="rId1"/>
          <a:stretch/>
        </p:blipFill>
        <p:spPr>
          <a:xfrm>
            <a:off x="1547640" y="3430440"/>
            <a:ext cx="2557800" cy="2552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groeischijffractuur"/>
          <p:cNvPicPr/>
          <p:nvPr/>
        </p:nvPicPr>
        <p:blipFill>
          <a:blip r:embed="rId2"/>
          <a:stretch/>
        </p:blipFill>
        <p:spPr>
          <a:xfrm>
            <a:off x="6415200" y="1700280"/>
            <a:ext cx="1965240" cy="4608360"/>
          </a:xfrm>
          <a:prstGeom prst="rect">
            <a:avLst/>
          </a:prstGeom>
          <a:ln w="0">
            <a:noFill/>
          </a:ln>
        </p:spPr>
      </p:pic>
      <p:sp>
        <p:nvSpPr>
          <p:cNvPr id="72" name="Tijdelijke aanduiding voor voettekst 6"/>
          <p:cNvSpPr/>
          <p:nvPr/>
        </p:nvSpPr>
        <p:spPr>
          <a:xfrm rot="16200000">
            <a:off x="7587360" y="4048560"/>
            <a:ext cx="2367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2f2b20"/>
                </a:solidFill>
                <a:latin typeface="Arial"/>
              </a:rPr>
              <a:t>Johan bugel Noorderpoortcollege Winschoten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08:51:28Z</dcterms:created>
  <dc:creator>Bugel</dc:creator>
  <dc:description/>
  <dc:language>en-US</dc:language>
  <cp:lastModifiedBy>J.W.P. Bugel</cp:lastModifiedBy>
  <dcterms:modified xsi:type="dcterms:W3CDTF">2014-09-30T09:35:40Z</dcterms:modified>
  <cp:revision>18</cp:revision>
  <dc:subject/>
  <dc:title>Het bewegingsapparaat</dc:title>
</cp:coreProperties>
</file>