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4572-ACC8-4F1F-B273-506BBD060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5789-66C5-42F7-A4DB-8BFBF7128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D509-6686-406C-9FA2-6B8ACBD76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45D1-E603-4ABD-A53D-CED56309C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8A34D-F2CB-4D7D-B2E5-5C9662C11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32406-2823-4AE0-90DE-D9B31C1E6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92562-02B0-48B0-82F1-E8D3B20AF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0EE48-A962-4D0E-86D0-E994C04AA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425B8-E781-43EF-A252-33708C232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E4F3D-6A10-4421-9246-B3CA71A16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B07EE-B47E-475E-BCB6-14AB7200F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398E-EABE-4221-81D3-36FBC175A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C912A-C710-4070-A256-7C6517068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39852-8869-4356-BF21-9488B96C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3CAAE-8120-44DE-B9D3-8BF5D9FD0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E9E37-160A-4C44-959F-7CC452E44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BB437-B7C9-4F0B-8D76-3C497C21F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C109-41E9-4235-AF70-14AACA8A8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DC13-B99D-4B58-A245-894809377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024C-C1CB-477C-99FC-F6A30B26B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A11D-F6CE-4DD7-9EF1-6B250CCF3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0BF6-4ED5-446B-BD72-D3201267C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3D12-6DFE-4B54-9589-C4CCDD258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7C72-843F-458C-BF6B-45A4E05FC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A2A2E-55B0-4527-902B-B5333D1D25B4}" type="slidenum">
              <a:rPr b="0" lang="nl-NL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D:\FRONTPAGE THEMES\NATURE\ANABNR2.PNG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F2BA5-EB55-4D6C-BD2D-9F31AB469D31}" type="slidenum">
              <a:rPr b="0" lang="nl-NL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a3d7a"/>
                </a:solidFill>
                <a:latin typeface="Times New Roman"/>
              </a:rPr>
              <a:t>Temperatuurregeling bij de men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3" name="Picture 4" descr="D:\Documents and Settings\bugelj\Mijn documenten\Mijn afbeeldingen\temp regeling\37graden.jpg"/>
          <p:cNvPicPr/>
          <p:nvPr/>
        </p:nvPicPr>
        <p:blipFill>
          <a:blip r:embed="rId1"/>
          <a:stretch/>
        </p:blipFill>
        <p:spPr>
          <a:xfrm>
            <a:off x="3581280" y="449568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a3d7a"/>
                </a:solidFill>
                <a:latin typeface="Times New Roman"/>
              </a:rPr>
              <a:t>Temperatuurregulati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5b5249"/>
                </a:solidFill>
                <a:latin typeface="Times New Roman"/>
              </a:rPr>
              <a:t>Het centrum voor deze temperatuurregulatie zit in bepaalde delen van de hersene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Hersenstam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Hypothalamu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In dit centrum komt alle informatie van de thermosensoren binnen en volgt eventueel een reacti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a3d7a"/>
                </a:solidFill>
                <a:latin typeface="Times New Roman"/>
              </a:rPr>
              <a:t>Thermosensoren in het bloed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5b5249"/>
                </a:solidFill>
                <a:latin typeface="Times New Roman"/>
              </a:rPr>
              <a:t>Deze meten voortdurend de temperatuur van het bloe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5b5249"/>
                </a:solidFill>
                <a:latin typeface="Times New Roman"/>
              </a:rPr>
              <a:t>Is er een afwijking dan :actie van uit het temperatuur centrum in de hersene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a3d7a"/>
                </a:solidFill>
                <a:latin typeface="Times New Roman"/>
              </a:rPr>
              <a:t>Thermosensoren in de huid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5b5249"/>
                </a:solidFill>
                <a:latin typeface="Times New Roman"/>
              </a:rPr>
              <a:t>Deze meten voortdurend de temperatuur in de hui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5b5249"/>
                </a:solidFill>
                <a:latin typeface="Times New Roman"/>
              </a:rPr>
              <a:t>Is er een afwijking dan :actie van uit het temperatuurcentrum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a3d7a"/>
                </a:solidFill>
                <a:latin typeface="Times New Roman"/>
              </a:rPr>
              <a:t>Mens is warmbloedig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5b5249"/>
                </a:solidFill>
                <a:latin typeface="Times New Roman"/>
              </a:rPr>
              <a:t>Constante temperatuur van ongeveer 37 grade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5b5249"/>
                </a:solidFill>
                <a:latin typeface="Times New Roman"/>
              </a:rPr>
              <a:t>Ook bij lage en hoge buitentemperatuu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5b5249"/>
                </a:solidFill>
                <a:latin typeface="Times New Roman"/>
              </a:rPr>
              <a:t>Is een optimale temperatuur voor de werking van enzymen en eiwitte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a3d7a"/>
                </a:solidFill>
                <a:latin typeface="Times New Roman"/>
              </a:rPr>
              <a:t>Warmbloedig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7" name="Picture 3" descr="D:\Documents and Settings\bugelj\Mijn documenten\Mijn afbeeldingen\temp regeling\warmbloedig_bestanden\NudN_ mens, zoogdier, warme en koude plekken op het menselijk lichaam, warmbloedig.jpeg"/>
          <p:cNvPicPr/>
          <p:nvPr/>
        </p:nvPicPr>
        <p:blipFill>
          <a:blip r:embed="rId1"/>
          <a:stretch/>
        </p:blipFill>
        <p:spPr>
          <a:xfrm>
            <a:off x="533520" y="220968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D:\Documents and Settings\bugelj\Mijn documenten\Mijn afbeeldingen\temp regeling\omjs_olifant.jpg"/>
          <p:cNvPicPr/>
          <p:nvPr/>
        </p:nvPicPr>
        <p:blipFill>
          <a:blip r:embed="rId2"/>
          <a:stretch/>
        </p:blipFill>
        <p:spPr>
          <a:xfrm>
            <a:off x="3200400" y="2666880"/>
            <a:ext cx="575316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a3d7a"/>
                </a:solidFill>
                <a:latin typeface="Times New Roman"/>
              </a:rPr>
              <a:t>koudbloedig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0" name="Picture 3" descr="D:\Documents and Settings\bugelj\Mijn documenten\Mijn afbeeldingen\temp regeling\kikker.jpg"/>
          <p:cNvPicPr/>
          <p:nvPr/>
        </p:nvPicPr>
        <p:blipFill>
          <a:blip r:embed="rId1"/>
          <a:stretch/>
        </p:blipFill>
        <p:spPr>
          <a:xfrm>
            <a:off x="609480" y="2209680"/>
            <a:ext cx="3314880" cy="34974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D:\Documents and Settings\bugelj\Mijn documenten\Mijn afbeeldingen\temp regeling\koudbloedig.jpg"/>
          <p:cNvPicPr/>
          <p:nvPr/>
        </p:nvPicPr>
        <p:blipFill>
          <a:blip r:embed="rId2"/>
          <a:stretch/>
        </p:blipFill>
        <p:spPr>
          <a:xfrm>
            <a:off x="4572000" y="3200400"/>
            <a:ext cx="4305240" cy="28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a3d7a"/>
                </a:solidFill>
                <a:latin typeface="Times New Roman"/>
              </a:rPr>
              <a:t>lichaamstemperatuu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Schiltemperatuu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5b5249"/>
                </a:solidFill>
                <a:latin typeface="Times New Roman"/>
              </a:rPr>
              <a:t>In de periferi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5b5249"/>
                </a:solidFill>
                <a:latin typeface="Times New Roman"/>
              </a:rPr>
              <a:t>Bv handen en voete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5b5249"/>
                </a:solidFill>
                <a:latin typeface="Times New Roman"/>
              </a:rPr>
              <a:t>28 grade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Kerntemperatuu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5b5249"/>
                </a:solidFill>
                <a:latin typeface="Times New Roman"/>
              </a:rPr>
              <a:t>In het binnenste van het menselijk lichaam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5b5249"/>
                </a:solidFill>
                <a:latin typeface="Times New Roman"/>
              </a:rPr>
              <a:t>37 grade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5b5249"/>
                </a:solidFill>
                <a:latin typeface="Times New Roman"/>
              </a:rPr>
              <a:t>Lever :39 grade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a3d7a"/>
                </a:solidFill>
                <a:latin typeface="Times New Roman"/>
              </a:rPr>
              <a:t>Wat te doen bij een te lage lichaamstemperatuur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Verhoging van de activiteit in de cellen.Hierdoor geven de cellen meer warmte af,waardoor de temperatuur omhoog gaa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Vermindering van huiddoorbloeding.Hierdoor ontsnapt er minder warmte naar buiten en hou  je de warmte binne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Dragen van kleding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1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a3d7a"/>
                </a:solidFill>
                <a:latin typeface="Times New Roman"/>
              </a:rPr>
              <a:t>Wat doe je bij een te hoge lichaamstemperatuur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Celactiviteit neemt af.Hierdoor krijg je een futloos gevo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Doorbloeding van de huid neemt toe.Hierdoor een  toename van de warmte afgifte en zweetproducti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Dragen van minder kleding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9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a3d7a"/>
                </a:solidFill>
                <a:latin typeface="Times New Roman"/>
              </a:rPr>
              <a:t>Temperatuurverhoging oa doo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5b5249"/>
                </a:solidFill>
                <a:latin typeface="Times New Roman"/>
              </a:rPr>
              <a:t>Te warme douch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5b5249"/>
                </a:solidFill>
                <a:latin typeface="Times New Roman"/>
              </a:rPr>
              <a:t>Spierarbei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1" name="Picture 4" descr="D:\Documents and Settings\bugelj\Mijn documenten\Mijn afbeeldingen\temp regeling\shower1.jpg"/>
          <p:cNvPicPr/>
          <p:nvPr/>
        </p:nvPicPr>
        <p:blipFill>
          <a:blip r:embed="rId1"/>
          <a:stretch/>
        </p:blipFill>
        <p:spPr>
          <a:xfrm>
            <a:off x="4876920" y="2209680"/>
            <a:ext cx="3276360" cy="21844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D:\Documents and Settings\bugelj\Mijn documenten\Mijn afbeeldingen\temp regeling\spieren.jpg"/>
          <p:cNvPicPr/>
          <p:nvPr/>
        </p:nvPicPr>
        <p:blipFill>
          <a:blip r:embed="rId2"/>
          <a:stretch/>
        </p:blipFill>
        <p:spPr>
          <a:xfrm>
            <a:off x="4191120" y="4648320"/>
            <a:ext cx="270648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2a3d7a"/>
                </a:solidFill>
                <a:latin typeface="Times New Roman"/>
              </a:rPr>
              <a:t>Het lichaam geeft warmte af op de volgende 4 manieren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5b5249"/>
                </a:solidFill>
                <a:latin typeface="Times New Roman"/>
              </a:rPr>
              <a:t>Betere doorbloeding van de hui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5b5249"/>
                </a:solidFill>
                <a:latin typeface="Times New Roman"/>
              </a:rPr>
              <a:t>Uitstraling van warmte door de hui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5b5249"/>
                </a:solidFill>
                <a:latin typeface="Times New Roman"/>
              </a:rPr>
              <a:t>Verdamping van zweet.Hiervoor is warmte nodig.Deze wordt aan de huid onttrokken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5b5249"/>
                </a:solidFill>
                <a:latin typeface="Times New Roman"/>
              </a:rPr>
              <a:t>Door luchtstroming kan de warme lucht rond de huid weggevoerd worde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5b5249"/>
                </a:solidFill>
                <a:latin typeface="Times New Roman"/>
              </a:rPr>
              <a:t>Vb:ventilator(Vergroot de kans op verkoudheid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4:38:11Z</dcterms:created>
  <dc:creator>custom</dc:creator>
  <dc:description/>
  <dc:language>en-US</dc:language>
  <cp:lastModifiedBy>J.W.P. Bugel</cp:lastModifiedBy>
  <dcterms:modified xsi:type="dcterms:W3CDTF">2013-03-07T09:19:17Z</dcterms:modified>
  <cp:revision>2</cp:revision>
  <dc:subject/>
  <dc:title>Temperatuurregeling bij de mens</dc:title>
</cp:coreProperties>
</file>