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86D-22D4-437B-8893-F6F2FA37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360-44ED-4993-BFE4-9A29A096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40D5-38F9-4050-9F9A-CDD11CA2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B7F-D639-4AFA-9B56-D7E802D3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ADD8-618F-43FA-AD1E-EE57A39D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80DC-44B3-405A-A2C9-BD1A9990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9E4A-61A3-4A8A-A3E7-54492ED1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6F9E-4D9E-408C-9DD3-6C006825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E5A6-0AA1-4395-8352-41AEE11B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8130-3626-4BA6-8EAB-F7CD4B86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5D7F-6AFD-4437-BA57-A4B077CC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6E0A-BC49-4727-AAB6-B7FB9369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2009-B6CE-499B-B926-C172390B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055B-BB81-4585-8E2C-4B03137A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DD67-040D-40D8-9F8D-2B3D43EC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54DA-BBA1-41FC-9E03-EC222004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C55D-7653-41A2-80BB-CBABDBFC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384-E7F7-41CD-88B3-E124AF57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302B-3D33-4821-B93B-BF1A1C28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144-0A30-475D-BDF8-5B112CD5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F62-86A9-4368-8A45-97550511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7F8-5695-4643-BA08-CFDBB26D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82EB-A5C3-4032-9AB0-C1F51BD8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047C-6DC8-4A83-87C0-6B709B61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E4B5-9138-4E54-A169-8939E13F37FC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28F1-23E3-48CE-86F7-C9E58BE1EF36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Bloedsomloop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laga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62320" y="1600200"/>
            <a:ext cx="2619360" cy="453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ren naar het hart to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oppen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kle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gen oppervlakk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een dunne slappe w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2447640" cy="34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e komt het bloed terug naar het hart?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ppen voorkomen terugstro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ierpom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uigende werking van het 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te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arva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gang van slagader naar 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hele dunne w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en kleppen en kloppen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itwisseling van 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arva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971800" y="2590920"/>
            <a:ext cx="3657600" cy="304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slagcycl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ast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spannings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ysto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actie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496872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loeddruk/Tens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druk in de slaga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le druk 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 onder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boven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00720" y="2714760"/>
            <a:ext cx="2928960" cy="24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lastische bloedvaten zorgen voor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minder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druk in de bloedvate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58920" y="1643040"/>
            <a:ext cx="6121440" cy="389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cema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art krijgt een elektrisch impuls waardoor het hart gaat samentre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usknoo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eft deze impu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t in de wand van de rechter boez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onwillekeur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us een soort van pacem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96000" y="3906720"/>
            <a:ext cx="252108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willekeurige s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warsgestreept spierweefs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rmoeiba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del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boezems(atriu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kamers(ventrik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nusknoo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343240" y="1994040"/>
            <a:ext cx="4457520" cy="28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4643280" cy="488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klepp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ker AV klep=Mitraliskl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hter AV klep=Tricuspidalekl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ze kleppen voorkomen het terugstromen van het bloed naar de boez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klepp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ortaklep=klep tussen linkerkamer en aor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lmonalisklep=klep tussen rechterkamer en longslag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8386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ransslaga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ziet het hart van bloed.                       (het hart heeft ook  zuurstof en voedingsstoffen nodig om te kunnen werk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ransslagader is de 1e aftakking van de aor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nauwing van kransslagader geeft een tekort aan zuurstof naar de hartspier toe.Gevolg:hartinfarct!!!!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19280" y="1495440"/>
            <a:ext cx="5329080" cy="433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ematische bloedsomloo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2584440" cy="434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357360" cy="40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lagad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ren van het hart 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o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geen kle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gen die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een dikke elastische spierw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8:56:08Z</dcterms:created>
  <dc:creator> Bugel</dc:creator>
  <dc:description/>
  <dc:language>en-US</dc:language>
  <cp:lastModifiedBy>J.W.P. Bugel</cp:lastModifiedBy>
  <dcterms:modified xsi:type="dcterms:W3CDTF">2010-12-08T07:48:28Z</dcterms:modified>
  <cp:revision>14</cp:revision>
  <dc:subject/>
  <dc:title>Bloedsomloop</dc:title>
</cp:coreProperties>
</file>