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38C-FCDF-4C53-9DE9-60EC55E8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D9B-690D-4801-9D5B-A19823A1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63A-99A2-4B6B-930F-4C560EB1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326-D6CB-4160-B99D-59D6075B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8521-0D0D-40EA-A34B-128AF644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2325-9017-4DD1-8DB0-CA6B4B68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FB60-19D1-4987-917C-5A2ACE90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66B0-0377-42BB-9E15-EC40463B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B2D0-DAF0-41D8-9695-6EC0A82F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3F29-5327-4A20-BA56-7B174D3A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3ED6-5D13-4502-A223-7F7BDD8B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AAE-AF20-44E5-BBC6-CDFA4E2B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3076-DBD7-44BD-A823-477E300C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44DE-1BFA-4FEF-84B2-16814010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4C49-B1E8-496E-80DC-BC40BCA1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2B72-74D0-4F74-A965-C7355A02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6E70-C693-49EB-8769-B83167D2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C6B-1704-4DFE-91B9-0FA59252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D09-BD4D-4EAB-8741-D21FCF7C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4BF-9B7E-4238-B7D0-D429D551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43D-1539-497D-A0B1-7C87838A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377-A7E2-45A7-9653-95423BC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0F6-8B3D-4589-827A-A0B748E2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54F-DCC2-4152-AD7A-03A7C2B5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B71D-8C88-4819-AD55-E236ED1570C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09E6-DAAC-4A49-9F75-351E6952D01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emhalingsstelsel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wisseling O2 en C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dselbrok komt in luchtpij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 niet goed afgesloten tijdens het sli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ig sluit neusholte a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ttenklep sluit luchtpijp a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slikreflex"/>
          <p:cNvPicPr/>
          <p:nvPr/>
        </p:nvPicPr>
        <p:blipFill>
          <a:blip r:embed="rId1"/>
          <a:stretch/>
        </p:blipFill>
        <p:spPr>
          <a:xfrm>
            <a:off x="6172200" y="395280"/>
            <a:ext cx="2514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medie:heimlichgree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heimlichgreep"/>
          <p:cNvPicPr/>
          <p:nvPr/>
        </p:nvPicPr>
        <p:blipFill>
          <a:blip r:embed="rId1"/>
          <a:stretch/>
        </p:blipFill>
        <p:spPr>
          <a:xfrm>
            <a:off x="2743200" y="2590920"/>
            <a:ext cx="328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D:\Documents and Settings\bugelj\Mijn documenten\Mijn afbeeldingen\ademhaling.gif"/>
          <p:cNvPicPr/>
          <p:nvPr/>
        </p:nvPicPr>
        <p:blipFill>
          <a:blip r:embed="rId1"/>
          <a:stretch/>
        </p:blipFill>
        <p:spPr>
          <a:xfrm>
            <a:off x="1905120" y="1947960"/>
            <a:ext cx="5105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platten van het middenrif.Het middenrif gaat naar ben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trekken van de tussenribspieren.De borstkas gaa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rijg je een verruiming van de borstkas en lo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 stroomt naar bi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lveol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 uitwisseling van O2 en C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Afbeelding 1" descr=""/>
          <p:cNvPicPr/>
          <p:nvPr/>
        </p:nvPicPr>
        <p:blipFill>
          <a:blip r:embed="rId1"/>
          <a:stretch/>
        </p:blipFill>
        <p:spPr>
          <a:xfrm>
            <a:off x="611280" y="2674800"/>
            <a:ext cx="2954160" cy="2119320"/>
          </a:xfrm>
          <a:prstGeom prst="rect">
            <a:avLst/>
          </a:prstGeom>
          <a:ln w="0">
            <a:noFill/>
          </a:ln>
        </p:spPr>
      </p:pic>
      <p:pic>
        <p:nvPicPr>
          <p:cNvPr id="139" name="Afbeelding 2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3938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middenrif ontspant en kom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tussenribspieren ontspannen.De borstkas zakt weer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borstkast en longen klei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ucht stroomt naar bui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Soorten 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borst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buik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.neus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.mond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eling van de ademhaling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eling van de ademhaling komt vanuit het ademhalingscentrum in de hers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ze krijgt informatie over de concentratie van O2 en CO2 in het 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hoging van de CO2 concentratie geeft een prikkel tot adem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en verlaging van de O2 concentratie speelt hierbij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e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antal ademingen per minuu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2-20 keer per minu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D:\Documents and Settings\bugelj\Mijn documenten\Mijn afbeeldingen\ademhaling.jpg"/>
          <p:cNvPicPr/>
          <p:nvPr/>
        </p:nvPicPr>
        <p:blipFill>
          <a:blip r:embed="rId1"/>
          <a:stretch/>
        </p:blipFill>
        <p:spPr>
          <a:xfrm>
            <a:off x="1079640" y="2770200"/>
            <a:ext cx="4483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ven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us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l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neus2"/>
          <p:cNvPicPr/>
          <p:nvPr/>
        </p:nvPicPr>
        <p:blipFill>
          <a:blip r:embed="rId1"/>
          <a:stretch/>
        </p:blipFill>
        <p:spPr>
          <a:xfrm>
            <a:off x="4643280" y="1052640"/>
            <a:ext cx="3511800" cy="3263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LocatiesKeelholte"/>
          <p:cNvPicPr/>
          <p:nvPr/>
        </p:nvPicPr>
        <p:blipFill>
          <a:blip r:embed="rId2"/>
          <a:stretch/>
        </p:blipFill>
        <p:spPr>
          <a:xfrm>
            <a:off x="684360" y="2781360"/>
            <a:ext cx="37814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mer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j een rustige ademhaling wordt het onderste gedeelte van de longcapaciteit niet gebruikt en verver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volg hiervan kan zijn:longontste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tjes van de luchtwegen blijven 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een vernauwing van de lucht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auwd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cht adem kunnen 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astmatische bronchien"/>
          <p:cNvPicPr/>
          <p:nvPr/>
        </p:nvPicPr>
        <p:blipFill>
          <a:blip r:embed="rId1"/>
          <a:stretch/>
        </p:blipFill>
        <p:spPr>
          <a:xfrm>
            <a:off x="2438280" y="2209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ronchit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jmvlies in de luchtwegen is ontsto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productie van teveel spu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:hoestprikk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die: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en schr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rokenrslongen"/>
          <p:cNvPicPr/>
          <p:nvPr/>
        </p:nvPicPr>
        <p:blipFill>
          <a:blip r:embed="rId1"/>
          <a:stretch/>
        </p:blipFill>
        <p:spPr>
          <a:xfrm>
            <a:off x="3048120" y="2514600"/>
            <a:ext cx="3657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er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blaasj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ngen"/>
          <p:cNvPicPr/>
          <p:nvPr/>
        </p:nvPicPr>
        <p:blipFill>
          <a:blip r:embed="rId1"/>
          <a:stretch/>
        </p:blipFill>
        <p:spPr>
          <a:xfrm>
            <a:off x="2209680" y="2362320"/>
            <a:ext cx="4838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rstk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orstkas"/>
          <p:cNvPicPr/>
          <p:nvPr/>
        </p:nvPicPr>
        <p:blipFill>
          <a:blip r:embed="rId1"/>
          <a:stretch/>
        </p:blipFill>
        <p:spPr>
          <a:xfrm>
            <a:off x="2201760" y="2209680"/>
            <a:ext cx="3627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us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kleed met slijmvlies(trilha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ngt stofdeeltjes op(Zuivering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uring van de lucht(Kwaliteit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akt slij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terk doorblo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arm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ochtig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Keel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eiding van voedsel en ademlu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pijp staat altijd open, behalve bij doorslikken van een voedselbr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ocatiesKeelholte"/>
          <p:cNvPicPr/>
          <p:nvPr/>
        </p:nvPicPr>
        <p:blipFill>
          <a:blip r:embed="rId1"/>
          <a:stretch/>
        </p:blipFill>
        <p:spPr>
          <a:xfrm>
            <a:off x="4788000" y="3500280"/>
            <a:ext cx="3217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ottenhoof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ar stemb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s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de bovens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bevochtiging van de onderste stemban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spieren,die door een bepaalde stand geluid ma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re stemb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tem3"/>
          <p:cNvPicPr/>
          <p:nvPr/>
        </p:nvPicPr>
        <p:blipFill>
          <a:blip r:embed="rId1"/>
          <a:stretch/>
        </p:blipFill>
        <p:spPr>
          <a:xfrm>
            <a:off x="942840" y="1474920"/>
            <a:ext cx="70138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04:30Z</dcterms:created>
  <dc:creator>BugelJ</dc:creator>
  <dc:description/>
  <dc:language>en-US</dc:language>
  <cp:lastModifiedBy>J.W.P. Bugel</cp:lastModifiedBy>
  <dcterms:modified xsi:type="dcterms:W3CDTF">2014-12-16T12:47:29Z</dcterms:modified>
  <cp:revision>10</cp:revision>
  <dc:subject/>
  <dc:title>Ademhalingsstelsel</dc:title>
</cp:coreProperties>
</file>