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9BAD-7E17-4E3B-BD74-3149EAD6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9C5F-33F9-4205-A3B3-03105A1C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85F0-FED5-4A97-A8EC-0693EF35F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E8A6-0DEB-49A6-B021-B30CF90A6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9847-A13C-4404-9B70-7A659A972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CDC9-B65E-4BC1-A124-681790BA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7141-9EC8-4DE1-97FB-FBD94F6A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2B6C-5659-4AA5-99C9-544AB041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E766-240C-435E-B495-442F4B64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04EE-6F33-47DB-B0E4-001F2B2F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F1F3-B9DC-4A46-9A71-E9397494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BA05-CB43-449F-9EB1-466965E9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60A0-D9CD-471F-A0C6-0C19BC60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FECD-6F30-44A7-9883-EF7887F0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1D6A-F2B1-4BB4-BE38-6F346A27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A13B-E1B3-4E5B-98D3-907C3C587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D592-0A10-4ADA-B109-04781C9D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9502-3BE8-4477-A83F-0DA5FD32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3E1E-DDA8-4541-A4A5-5279020E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C3CE-BC86-4958-8CCD-1F0A2B71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4380-5080-44E5-A3A4-C309413F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3E94-828D-415B-91DE-C088EF69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B043-9273-42A6-88EF-3F12DB0C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E56F-F94D-4A44-9418-886DF496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C457-1F6D-493E-884D-2172D18D55A4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C05E-314F-4FAE-B6C0-496FE65E3C84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1709640"/>
            <a:ext cx="76230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Ademhalingsstelsel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itwisseling O2 en CO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rslikk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dselbrok komt in luchtpij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chtpijp niet goed afgesloten tijdens het sli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ig sluit neusholte a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ottenklep sluit luchtpijp a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rslik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slikreflex"/>
          <p:cNvPicPr/>
          <p:nvPr/>
        </p:nvPicPr>
        <p:blipFill>
          <a:blip r:embed="rId1"/>
          <a:stretch/>
        </p:blipFill>
        <p:spPr>
          <a:xfrm>
            <a:off x="6172200" y="395280"/>
            <a:ext cx="251460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medie:heimlichgree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heimlichgreep"/>
          <p:cNvPicPr/>
          <p:nvPr/>
        </p:nvPicPr>
        <p:blipFill>
          <a:blip r:embed="rId1"/>
          <a:stretch/>
        </p:blipFill>
        <p:spPr>
          <a:xfrm>
            <a:off x="2743200" y="2590920"/>
            <a:ext cx="3286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Ademhal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D:\Documents and Settings\bugelj\Mijn documenten\Mijn afbeeldingen\ademhaling.gif"/>
          <p:cNvPicPr/>
          <p:nvPr/>
        </p:nvPicPr>
        <p:blipFill>
          <a:blip r:embed="rId1"/>
          <a:stretch/>
        </p:blipFill>
        <p:spPr>
          <a:xfrm>
            <a:off x="1905120" y="1947960"/>
            <a:ext cx="51051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Inadem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platten van het middenrif.Het middenrif gaat naar ben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mentrekken van de tussenribspieren.De borstkas gaat omho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erdoor krijg je een verruiming van de borstkas en lo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lucht stroomt naar bin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Alveol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er uitwisseling van O2 en CO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Afbeelding 1" descr=""/>
          <p:cNvPicPr/>
          <p:nvPr/>
        </p:nvPicPr>
        <p:blipFill>
          <a:blip r:embed="rId1"/>
          <a:stretch/>
        </p:blipFill>
        <p:spPr>
          <a:xfrm>
            <a:off x="611280" y="2674800"/>
            <a:ext cx="2954160" cy="2119320"/>
          </a:xfrm>
          <a:prstGeom prst="rect">
            <a:avLst/>
          </a:prstGeom>
          <a:ln w="0">
            <a:noFill/>
          </a:ln>
        </p:spPr>
      </p:pic>
      <p:pic>
        <p:nvPicPr>
          <p:cNvPr id="139" name="Afbeelding 2" descr=""/>
          <p:cNvPicPr/>
          <p:nvPr/>
        </p:nvPicPr>
        <p:blipFill>
          <a:blip r:embed="rId2"/>
          <a:stretch/>
        </p:blipFill>
        <p:spPr>
          <a:xfrm>
            <a:off x="4284720" y="2565360"/>
            <a:ext cx="3938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uitadem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middenrif ontspant en komt omho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tussenribspieren ontspannen.De borstkas zakt weer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erdoor borstkast en longen klein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ucht stroomt naar bui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Soorten ademhal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borstademha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buikademha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.neusademha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.mondademha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eling van de ademhaling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geling van de ademhaling komt vanuit het ademhalingscentrum in de hers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ze krijgt informatie over de concentratie van O2 en CO2 in het 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hoging van de CO2 concentratie geeft een prikkel tot ademhal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en verlaging van de O2 concentratie speelt hierbij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ge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Aantal ademingen per minuu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2-20 keer per minu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D:\Documents and Settings\bugelj\Mijn documenten\Mijn afbeeldingen\ademhaling.jpg"/>
          <p:cNvPicPr/>
          <p:nvPr/>
        </p:nvPicPr>
        <p:blipFill>
          <a:blip r:embed="rId1"/>
          <a:stretch/>
        </p:blipFill>
        <p:spPr>
          <a:xfrm>
            <a:off x="1079640" y="2770200"/>
            <a:ext cx="448308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ovenste Luchtwe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ushol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elhol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neus2"/>
          <p:cNvPicPr/>
          <p:nvPr/>
        </p:nvPicPr>
        <p:blipFill>
          <a:blip r:embed="rId1"/>
          <a:stretch/>
        </p:blipFill>
        <p:spPr>
          <a:xfrm>
            <a:off x="4643280" y="1052640"/>
            <a:ext cx="3511800" cy="3263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LocatiesKeelholte"/>
          <p:cNvPicPr/>
          <p:nvPr/>
        </p:nvPicPr>
        <p:blipFill>
          <a:blip r:embed="rId2"/>
          <a:stretch/>
        </p:blipFill>
        <p:spPr>
          <a:xfrm>
            <a:off x="684360" y="2781360"/>
            <a:ext cx="378144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mer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j een rustige ademhaling wordt het onderste gedeelte van de longcapaciteit niet gebruikt en verver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volg hiervan kan zijn:longontste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st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iertjes van de luchtwegen blijven gespan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erdoor een vernauwing van de luchtwe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nauwd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echt adem kunnen hal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st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astmatische bronchien"/>
          <p:cNvPicPr/>
          <p:nvPr/>
        </p:nvPicPr>
        <p:blipFill>
          <a:blip r:embed="rId1"/>
          <a:stretch/>
        </p:blipFill>
        <p:spPr>
          <a:xfrm>
            <a:off x="2438280" y="22096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ronchitu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ijmvlies in de luchtwegen is ontsto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erdoor productie van teveel sput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erdoor :hoestprikk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edie:klop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ven schrikk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rokenrslongen"/>
          <p:cNvPicPr/>
          <p:nvPr/>
        </p:nvPicPr>
        <p:blipFill>
          <a:blip r:embed="rId1"/>
          <a:stretch/>
        </p:blipFill>
        <p:spPr>
          <a:xfrm>
            <a:off x="3048120" y="2514600"/>
            <a:ext cx="3657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ste luchtwe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chtpij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te luchtweg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nchi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inere luchtweg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nchi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ngblaasj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veo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on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ongen"/>
          <p:cNvPicPr/>
          <p:nvPr/>
        </p:nvPicPr>
        <p:blipFill>
          <a:blip r:embed="rId1"/>
          <a:stretch/>
        </p:blipFill>
        <p:spPr>
          <a:xfrm>
            <a:off x="2209680" y="2362320"/>
            <a:ext cx="48387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orstk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borstkas"/>
          <p:cNvPicPr/>
          <p:nvPr/>
        </p:nvPicPr>
        <p:blipFill>
          <a:blip r:embed="rId1"/>
          <a:stretch/>
        </p:blipFill>
        <p:spPr>
          <a:xfrm>
            <a:off x="2201760" y="2209680"/>
            <a:ext cx="3627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eushol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kleed met slijmvlies(trilhaa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ngt stofdeeltjes op(Zuivering van de luch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uring van de lucht(Kwaliteit van de luch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akt slij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sterk doorblo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arming van de lu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vochtiging van de lu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Keelhol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eiding van voedsel en ademlu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luchtpijp staat altijd open, behalve bij doorslikken van een voedselbro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LocatiesKeelholte"/>
          <p:cNvPicPr/>
          <p:nvPr/>
        </p:nvPicPr>
        <p:blipFill>
          <a:blip r:embed="rId1"/>
          <a:stretch/>
        </p:blipFill>
        <p:spPr>
          <a:xfrm>
            <a:off x="4788000" y="3500280"/>
            <a:ext cx="32176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rottenhoof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paar stemb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lse stemban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n de bovens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en voor bevochtiging van de onderste stemban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e stemban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n spieren,die door een bepaalde stand geluid ma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are stemba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stem3"/>
          <p:cNvPicPr/>
          <p:nvPr/>
        </p:nvPicPr>
        <p:blipFill>
          <a:blip r:embed="rId1"/>
          <a:stretch/>
        </p:blipFill>
        <p:spPr>
          <a:xfrm>
            <a:off x="942840" y="1474920"/>
            <a:ext cx="701388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0:04:30Z</dcterms:created>
  <dc:creator>BugelJ</dc:creator>
  <dc:description/>
  <dc:language>en-US</dc:language>
  <cp:lastModifiedBy>J.W.P. Bugel</cp:lastModifiedBy>
  <dcterms:modified xsi:type="dcterms:W3CDTF">2014-12-16T12:47:29Z</dcterms:modified>
  <cp:revision>10</cp:revision>
  <dc:subject/>
  <dc:title>Ademhalingsstelsel</dc:title>
</cp:coreProperties>
</file>