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4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8.jpeg" ContentType="image/jpeg"/>
  <Override PartName="/ppt/media/image44.jpeg" ContentType="image/jpe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13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884-5001-45B2-A827-8BD1BF1C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4C6-382F-474F-BC18-66FC93E2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C99-543E-4966-86A5-6D99591F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2A5-3B74-4346-AEFE-5E56CB7A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1388-EE2C-4B7A-9B32-B9DCF73C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F09F-A3FA-4A7C-9F8E-C1A94F64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0C99-51A0-4C4E-BCFC-58FB3C54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4BC4-D3D0-446C-BA73-6A720CA9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315C-574C-4CE0-9045-A85C740D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C909-D99A-4159-A514-0E1B7E10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80E0-600C-4142-B4FA-E04CFAD7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163-DB5D-4B71-9CB8-EB6F2E22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3765-431B-4F2C-8295-FE55D6DE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4718-3B00-415C-8410-E2F8E7D7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20A3-0D6B-46E6-A5DF-EB65A2A6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FFB2-059F-429C-ADF7-F53A1D86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340D-1346-4C24-997D-A84FE8C5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5990A-2DA3-483B-8167-CD57BBF2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FE611-F5C6-4025-9761-7A0B7060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865C0-1B5F-465B-955A-D7028B34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72BDB-3E67-4D5E-8854-F97FD8EF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9644C-0CB1-484E-A31B-2C62F10C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0DF-D43B-48D9-91C2-AE701B82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13812-B453-4C08-8913-8F9FBC33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86375-665B-4C8E-96A3-DBCEA704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5E168-D1E1-4B46-931A-56AA53A4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30787-D22C-4249-9D5A-8CCF18BF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1A8D3-A09D-47D7-98ED-8F42C429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D9BB5-1FFB-4DB1-9279-6E929C19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F28D-81F9-491B-B3F8-239C1571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08B9F-66D7-44EF-BF31-9A5EB4FB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8917D-1D5E-4403-B1A0-C42BF5CA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1E863-B631-47FB-98A4-3F523EF2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CF1-16F7-4B2C-AA4F-243481FE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BD405-D620-4A41-9046-EB306B50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A19A4-BE81-4216-BD50-0270A0D6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E1447-63B7-4616-B69F-9BF2D1DA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EE5EA-F708-4FC1-9066-A9FE9D3E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3BFFE-9904-485B-ABBF-BD97BDA1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5DAAE-06A7-4D29-AD32-D2DB76DE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52938-FD59-4CE3-AE6C-7040FD3E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DB000-3ED0-4F83-92A2-CFB5F519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67C28-3C65-492C-81E5-AE681CBF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ABA62-C5F8-4B88-AF19-F57D27A0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2D1-9A70-4F4E-B1FC-A184BA70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DE1F6-FA1D-4160-818E-C206703D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2D3E9-C2DF-4D79-879F-9C965AE1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05996-8805-405D-A498-EE57DC59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20266-4A9B-4CA6-A0B5-321A6D00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4C649-A485-460C-AC58-20BCD1CC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0F159-48B8-43A7-818F-852DABEA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43EEA-EE60-4479-B636-6EF3663F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A7CC2-D20B-445D-B813-4580D974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FDB74-6C6B-45CD-ACC6-8F19059B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C029D-05F2-4D93-99AC-8E653E65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E8C-044E-4C28-849E-D3084212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C11BD-1F91-48F7-873C-552576F9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D65E8-B7A8-43F1-9BB0-3F46F197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C3ECB-663A-41C9-862A-3F733D2E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99720-65AF-4D63-867D-CC737E9D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0FD6A-4ECD-45EC-845C-C33CEE53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5C4D5-C200-413E-9262-0203E74E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4B651-BF27-46F2-A975-A752B348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393F6-74AA-4BC4-9543-DEE47B31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39C99-3BC6-4924-A62D-1E26FD81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CB71A-4C95-4CF9-9A61-9EF0E772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603-3155-4C74-A82A-8F500880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4F4F9-5952-4F32-848B-21F63906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22662-80D5-4052-9FD4-60580E01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B07EE-64E9-4B05-9B3A-4257B27E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251A0-2EDE-48F0-98E6-5AA202EC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1B111-6DF1-4FFF-A72F-A3764D23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EA6A1-D2D0-4A02-B262-209868B7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E22F2-D99D-41C7-89F6-392F5C05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0CE9D-6DB6-4C90-90F2-A274738A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1DB6F-40B1-4DD4-9FC5-AB8566E1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1F450-8055-4E0F-A234-9F527EE9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E71-8F10-4CE1-A537-66E6D180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FAF2B-21D1-4599-8481-09E42F56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4FECA-8CA9-4FDF-8A74-98FFD488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46655-6EC2-4524-A535-7CF09EE1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5FFCE-B1A9-4232-827E-96CA803C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E7F04-6250-4A1D-B9CB-A4CFF90A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CAC15-D0F7-4B29-A248-0031212F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49414-B009-409C-A82F-C05CDE57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1E4B2-36E0-4E07-8A90-F1A181F4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6D735-0F2C-4225-9374-FE48308B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00D6A-AF10-4910-BB37-D7FAA0D5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2C0-DB6B-4CE8-929D-B6EA4565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2DB56-2A81-4AA9-98BA-E404B060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75F4F-E3DC-474B-8C98-859C9945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E859B-F481-4ED7-807C-2159A5A4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24880-08F6-47B4-8A6F-1E7C482F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17B71-806A-4CC2-805D-D4D9AD7C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EEA6E-5476-4727-9670-6E8B8305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F0606-8EDA-4480-AB0D-D351CE87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5E05-4E69-42F9-94E5-0D060C43E653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EBB4-30DB-476C-84F5-1D214D4CE57D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823A-585C-471E-819A-2EF427763977}" type="datetime">
              <a:rPr b="0" lang="nl-NL" sz="10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e8f0f4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164C-8FF1-4D81-85D0-C3C0309E7F5A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F1C7-496D-4006-B0DB-34C6A26C55AA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4049-7AF1-48E8-A4F8-6BAC88E46466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FE0B-C645-4A18-852D-2DCF69410A61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2C4A-369E-4008-BA00-DF6D9A65341C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6495-A147-49CB-98F7-B0757B2B587D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05EA-11F8-40EA-BE98-0176487581EE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8F38-9445-4458-89AD-69309B26268B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3330-E812-4B8C-AB1F-2149EF309C73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21DD-064F-40FB-92F4-8B0E6FC8CDAF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DF70-F118-4CDF-A667-6B033376B624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F94B-E358-474A-9D8E-DAAACDE6029B}" type="datetime">
              <a:rPr b="0" lang="nl-NL" sz="10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ED89-EB70-439D-B119-5E90F2A7657F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AutoShape 2" descr=""/>
          <p:cNvPicPr/>
          <p:nvPr/>
        </p:nvPicPr>
        <p:blipFill>
          <a:blip r:embed="rId1"/>
          <a:stretch/>
        </p:blipFill>
        <p:spPr>
          <a:xfrm>
            <a:off x="914400" y="993600"/>
            <a:ext cx="8229600" cy="1901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1307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464646"/>
                </a:solidFill>
                <a:latin typeface="Lucida Sans Unicode"/>
              </a:rPr>
              <a:t>College Anatomie/Fysiolog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2859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lei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a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bu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4" descr="D:\Documents and Settings\BugelJ\Mijn documenten\Mijn afbeeldingen\incontinentie_blaas.jpg"/>
          <p:cNvPicPr/>
          <p:nvPr/>
        </p:nvPicPr>
        <p:blipFill>
          <a:blip r:embed="rId2"/>
          <a:stretch/>
        </p:blipFill>
        <p:spPr>
          <a:xfrm>
            <a:off x="4191120" y="2514600"/>
            <a:ext cx="2666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edere nier is opgebouwd uit een aantal(1.000.000) urineproducerende en filterende niereenhe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zogenaamde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efron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78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D:\Documents and Settings\BugelJ\Mijn documenten\Mijn afbeeldingen\nephron.jpg"/>
          <p:cNvPicPr/>
          <p:nvPr/>
        </p:nvPicPr>
        <p:blipFill>
          <a:blip r:embed="rId2"/>
          <a:stretch/>
        </p:blipFill>
        <p:spPr>
          <a:xfrm>
            <a:off x="2071800" y="2714760"/>
            <a:ext cx="41432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chaam van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alpighi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         (ligt in de nierschor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s van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enle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                    (ligt in het niermer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amelbuis                            (ligt ook in het niermer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 u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lomerulus                                        ( is een kluwen van bloedvat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Kapsel van Bowman                              ( is het opvangbekken van het eerste filtraa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ier vindt de terugresorptie plaats van het eerste filtr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t is een zeer belangrijk onderdeel van de filtratie. Dit voorkomt uitdroging!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arna de geconcentreerde urine wordt opgevangen in de verzamelbu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uit de verzamelbuis gaat de urine via de urineleiders naar de urinebla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20" name="Tijdelijke aanduiding voor inhoud 3" descr="nieren.jpg"/>
          <p:cNvPicPr/>
          <p:nvPr/>
        </p:nvPicPr>
        <p:blipFill>
          <a:blip r:embed="rId2"/>
          <a:stretch/>
        </p:blipFill>
        <p:spPr>
          <a:xfrm>
            <a:off x="3346560" y="1854360"/>
            <a:ext cx="579744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6146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er dag gaat er 1800 liter bloed door deze nefro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nefronen halen hier ongeveer 180 liter ultrafiltraat u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geveer 178.5 liter gaat weer terug het lichaam in(dit heet terugresorpti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ijft er ongeveer 1.5 liter urine ov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ze urine wordt opgevangen in het nierbek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ia de urineleiders gaat dat naar de blaas.                                        (oa door een peristaltische beweging van de urineleide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blaas verzamelt zich de urine(200-max 900 m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AutoShape 2" descr=""/>
          <p:cNvPicPr/>
          <p:nvPr/>
        </p:nvPicPr>
        <p:blipFill>
          <a:blip r:embed="rId1"/>
          <a:stretch/>
        </p:blipFill>
        <p:spPr>
          <a:xfrm>
            <a:off x="1609560" y="298440"/>
            <a:ext cx="7534440" cy="11890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laas heeft 2 kringsp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inwendige(onwillekeurig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uitwendige(willekeurig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Verwijderen van afvalstoff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4" descr="toilet"/>
          <p:cNvPicPr/>
          <p:nvPr/>
        </p:nvPicPr>
        <p:blipFill>
          <a:blip r:embed="rId2"/>
          <a:stretch/>
        </p:blipFill>
        <p:spPr>
          <a:xfrm>
            <a:off x="5554800" y="2048040"/>
            <a:ext cx="35892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De blaas is vol (ong.350 ml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Wand van de blaas rekt op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Er gaat een seintje naar de hersen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Bewustwording van de blaas is vol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In een reflex is er een ontspanning van de inwendige en aanspanning van de uitwendige kringspi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Lozingsplaats zoek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Bewust ontspannen van de uitwendige spi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Hierdoor gecontroleerde lozing van de urin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Picture 5" descr="D:\Documents and Settings\BugelJ\Mijn documenten\Mijn afbeeldingen\incontinentie.jpg"/>
          <p:cNvPicPr/>
          <p:nvPr/>
        </p:nvPicPr>
        <p:blipFill>
          <a:blip r:embed="rId2"/>
          <a:stretch/>
        </p:blipFill>
        <p:spPr>
          <a:xfrm>
            <a:off x="5486400" y="838080"/>
            <a:ext cx="310356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et niet kunnen ophouden van feces of urine tot het moment waarop lozing sociaal aanvaardbaar i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.stress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2.urge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.overloop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4.functionele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.reflex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45" name="Tijdelijke aanduiding voor inhoud 3" descr="Dialyse1.jpg"/>
          <p:cNvPicPr/>
          <p:nvPr/>
        </p:nvPicPr>
        <p:blipFill>
          <a:blip r:embed="rId2"/>
          <a:stretch/>
        </p:blipFill>
        <p:spPr>
          <a:xfrm>
            <a:off x="0" y="2571840"/>
            <a:ext cx="2714760" cy="3929040"/>
          </a:xfrm>
          <a:prstGeom prst="rect">
            <a:avLst/>
          </a:prstGeom>
          <a:ln w="0">
            <a:noFill/>
          </a:ln>
        </p:spPr>
      </p:pic>
      <p:pic>
        <p:nvPicPr>
          <p:cNvPr id="446" name="Afbeelding 4" descr="kunstnier-kolff.jpg"/>
          <p:cNvPicPr/>
          <p:nvPr/>
        </p:nvPicPr>
        <p:blipFill>
          <a:blip r:embed="rId3"/>
          <a:stretch/>
        </p:blipFill>
        <p:spPr>
          <a:xfrm>
            <a:off x="5310360" y="2809800"/>
            <a:ext cx="269064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49" name="Tijdelijke aanduiding voor inhoud 3" descr="-kolff..jpg"/>
          <p:cNvPicPr/>
          <p:nvPr/>
        </p:nvPicPr>
        <p:blipFill>
          <a:blip r:embed="rId2"/>
          <a:stretch/>
        </p:blipFill>
        <p:spPr>
          <a:xfrm>
            <a:off x="5205240" y="2147760"/>
            <a:ext cx="393876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52" name="Tijdelijke aanduiding voor inhoud 3" descr="Nieuwe kunstnier.bmp"/>
          <p:cNvPicPr/>
          <p:nvPr/>
        </p:nvPicPr>
        <p:blipFill>
          <a:blip r:embed="rId2"/>
          <a:stretch/>
        </p:blipFill>
        <p:spPr>
          <a:xfrm>
            <a:off x="0" y="2452680"/>
            <a:ext cx="5929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Tijdelijke aanduiding voor inhoud 3" descr="donornier.jpg"/>
          <p:cNvPicPr/>
          <p:nvPr/>
        </p:nvPicPr>
        <p:blipFill>
          <a:blip r:embed="rId1"/>
          <a:stretch/>
        </p:blipFill>
        <p:spPr>
          <a:xfrm>
            <a:off x="0" y="2325600"/>
            <a:ext cx="47149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kke darm/ endel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Vaste afvalstoff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Water en koolzuurg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ev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galkleurstoff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Water en zout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AutoShape 2" descr=""/>
          <p:cNvPicPr/>
          <p:nvPr/>
        </p:nvPicPr>
        <p:blipFill>
          <a:blip r:embed="rId1"/>
          <a:stretch/>
        </p:blipFill>
        <p:spPr>
          <a:xfrm>
            <a:off x="1646280" y="244440"/>
            <a:ext cx="7497720" cy="14083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.Hulp kunnen bieden bij toiletga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2.Observeren van feces en ur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.Kunnen geven van voorlich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4.Hulp kunnen bieden bij ophoesten van sput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.Hulp bij bra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6.Observeren van zweetsecreti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AutoShape 2" descr=""/>
          <p:cNvPicPr/>
          <p:nvPr/>
        </p:nvPicPr>
        <p:blipFill>
          <a:blip r:embed="rId1"/>
          <a:stretch/>
        </p:blipFill>
        <p:spPr>
          <a:xfrm>
            <a:off x="1646280" y="298440"/>
            <a:ext cx="7686720" cy="11462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e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put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weet/transpira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nstrua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aaks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uitscheiding"/>
          <p:cNvPicPr/>
          <p:nvPr/>
        </p:nvPicPr>
        <p:blipFill>
          <a:blip r:embed="rId2"/>
          <a:stretch/>
        </p:blipFill>
        <p:spPr>
          <a:xfrm>
            <a:off x="0" y="1773360"/>
            <a:ext cx="4464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391" name="Tijdelijke aanduiding voor inhoud 5" descr="nier schematisch.jpg"/>
          <p:cNvPicPr/>
          <p:nvPr/>
        </p:nvPicPr>
        <p:blipFill>
          <a:blip r:embed="rId2"/>
          <a:stretch/>
        </p:blipFill>
        <p:spPr>
          <a:xfrm>
            <a:off x="0" y="1844640"/>
            <a:ext cx="4448160" cy="45277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5559120" y="184464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schors (Cortex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Gespikkeld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Smalle laa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Lichaampjes van Malpighi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merg (Medulla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Streperi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Lissen van Henl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verzamelbuisj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bekken (Pelvis Renalis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Opvangen van het ultrafiltraa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oonvorm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50 gram zwa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2cm lang,7 cm breed en 3 cm d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nks en rechts van wervelkol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chternier ligt iets lag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gging in steunv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2859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ge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terhuishoud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uten huishoud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uurgraad( ph waard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cheiding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an ureum en urinezuu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an lichaamsvreemde stoffen (medicijn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gemeen doel is het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filte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van het blo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9:28:31Z</dcterms:created>
  <dc:creator>Bugel</dc:creator>
  <dc:description/>
  <dc:language>en-US</dc:language>
  <cp:lastModifiedBy>J.W.P. Bugel</cp:lastModifiedBy>
  <dcterms:modified xsi:type="dcterms:W3CDTF">2016-03-09T09:09:29Z</dcterms:modified>
  <cp:revision>25</cp:revision>
  <dc:subject/>
  <dc:title>Uitscheiding</dc:title>
</cp:coreProperties>
</file>