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D6E-89E8-4F50-8842-A66814B7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5B2-1018-4FFE-BCD5-71510B1F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9E9-D4D8-4927-91F8-D8BB6ECE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B1C-9B23-4C4B-8691-3BE61242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E8E15-0A42-4FBD-B155-1E7061B2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9011A-FBF8-4072-BED0-5C8940E7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CFEF9-B0D1-4185-850E-7DD662F4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065D9-B64D-48D6-9F7C-831713A3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BFF71-E375-4F74-B170-50D1BEAD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63667-FC79-4B6B-A8C7-F7771379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49457-4A9D-4903-B494-C4D7EF5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4D9-3747-4F85-A2B1-E7BE500A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C638F-EE67-4A5C-97E0-5B7DE08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91AEF-B221-462A-B1DF-CD4E3276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7DEFC-8B7A-43D7-9DB8-85C9678D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944AB-7AC6-45CC-99F9-1F0CEF77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CBCFE-7339-446D-930A-7337CB9E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BF49E-455E-4EBC-BB1C-35043DC2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653CB-DC9E-43E0-8FE0-5E22B3C1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A4C29-1D0D-4774-8BB3-1E8AC859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D8E25-E2D9-4823-AC6B-298B6869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8D870-A08D-484B-A9C7-EDFF7328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FE4-A754-4BBE-9A9C-426A8AA3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0DAE9-CA55-4CB4-98BB-07D0F401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86642-E08B-4980-AA15-7443F107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78DAD-F91D-4614-9C16-04CDC31B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FB1E5-5628-483D-BB59-5AB539D6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B4EA1-B673-4319-998C-3DA29038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17979-E6BD-4AFC-BD4D-A905AE3A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A893B-7230-48FC-B217-E16FEA3D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AFDA-5FD8-4E27-8498-80417BB6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AC324-8ADE-4988-8E81-77388412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054C7-19C8-45FD-9139-4ACD4C3A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BD2-C50E-4263-A3F7-328D83FC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0435-D46D-49BE-A983-2D49B32A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EE83-8CF1-4252-BB0F-130A0299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2836-C67C-4419-A51C-3FE59923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A0CE-2E21-4E8E-8494-18102DAB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93B49-9506-4FAE-AF43-C6F6F301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B1820-AA76-4380-9674-BA37D46C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20BE1-3543-4327-8DE0-2E26F5E0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5BAB-5200-4AA1-8289-D138BBCC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7BE6F-EA8E-4B8D-9782-CE9536A3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5EC70-B2A6-4FEF-A33E-F829F730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4D0-FC7E-4D9D-8811-3C4A2CD4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7208E-C0AC-4F9A-867C-3B62D47A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BDCB1-0DCD-42C4-946F-4410D7AD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F338B-7A6C-4E84-9948-97011FB5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B9F86-794E-4E0C-92FB-8ADA2DC0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8E1E5-7C06-4DC7-921F-8CE8DA90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25B3E-2BCD-4D05-9D6F-9385F7AA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12DC7-4E9D-4B2B-AFAF-B343B999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B0908-4F86-403C-852E-971299AF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25A2D-57A5-48D0-8C83-C19A0200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098E3-E595-4612-801C-CF1E2E1D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0F2-5364-4430-A6CC-39D7567E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1C02E-FD54-4F31-9E51-BB5039D2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98C4-29C5-405F-A09B-27AD350E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8E812-57B3-430A-AF93-FDC564F7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FDF5C-8EA3-4FD3-B5F3-0785791F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E831A-AAF1-4FF4-A9B7-D3F60415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A00D7-8769-43D6-92E7-374ED5B2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A9A4D-D9FB-4C26-A13A-1948978F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5CE3C-CCA8-475D-9289-7AB39B5F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82061-DAB4-40EC-9B7F-73F8912D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9D432-7CE0-40BA-9C70-EB85ACD3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367-624E-45E2-98F4-EDB29BAF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94654-952E-485C-88F7-2D8B95C8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B385D-0CDD-4013-92A6-1AD2B668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1727D-8D21-41AD-970F-3EE0DFA4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82CFF-EE44-4628-8452-10AEAF7C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C783A-6190-4253-BBB3-567A50AE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87DCB-B594-4436-88D2-7E48212F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F2E27-E53C-4D2C-9881-28B48557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083DF-3E78-4D0B-8D31-6720BF19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8F045-BE8F-4731-9AC7-DF671D78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3D8AD-7662-4D09-B26C-19351CC8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C40-9D25-405D-8E80-ABD666BC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1090A-55D1-4B63-83DF-C5F7990A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4887F-4FB7-4C2D-9913-8748660B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23189-7C23-4A2A-92A9-A3A7B0CD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97051-D8CB-49F8-B4BB-F02AE038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1FB10-EBEA-4C18-80A1-9889E531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6CC-1F0E-4595-88FD-13FD6FDF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5D26-E4F0-448A-85DC-01C95497DB56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9F47-68A0-41A5-9610-897540CE9B56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9EA5-D594-4149-86EA-0AC2DC11E0F1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07DC-8A86-452E-A2EF-D6053A8747C1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07DD-2384-40CC-BD44-7522A1ABC9CB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515E-2DD4-4F86-A09A-A21D2EC4C5EB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3046-A86A-49FE-9726-14296D66FEE9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_tfic_F_04g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oTaOhGD-OQ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College anatomie/fysiologie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Basisjaar V&amp;V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2" name="Rectangle 24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INDE VLEK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36" name="Picture 4" descr="blinde vlek"/>
          <p:cNvPicPr/>
          <p:nvPr/>
        </p:nvPicPr>
        <p:blipFill>
          <a:blip r:embed="rId1"/>
          <a:stretch/>
        </p:blipFill>
        <p:spPr>
          <a:xfrm>
            <a:off x="685800" y="2209680"/>
            <a:ext cx="4038480" cy="3713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AnatomieOog"/>
          <p:cNvPicPr/>
          <p:nvPr/>
        </p:nvPicPr>
        <p:blipFill>
          <a:blip r:embed="rId2"/>
          <a:stretch/>
        </p:blipFill>
        <p:spPr>
          <a:xfrm>
            <a:off x="4267080" y="2666880"/>
            <a:ext cx="44020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de opening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 zich groter en kleiner maken dmv lengtespiertjes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roter bij minder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leiner bij veel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een reflex (is dus een onwillekeurige spie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zich platter of boller mak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latter voor veraf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oller voor dichtbij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ACHTER DE PUPIL ZIT DE 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44" name="Picture 4" descr="AnatomieOog"/>
          <p:cNvPicPr/>
          <p:nvPr/>
        </p:nvPicPr>
        <p:blipFill>
          <a:blip r:embed="rId1"/>
          <a:stretch/>
        </p:blipFill>
        <p:spPr>
          <a:xfrm>
            <a:off x="4572000" y="3048120"/>
            <a:ext cx="4572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af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Platt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niet veel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ichtbij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oll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meer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ond de ooglens zit  een kringspier die de lens boller of platter kan maken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ij het ouder worden gaat dat steeds moeilijker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emedie: Leesbril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leden-bescherm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spieren(6)-zorgen voor beweging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aanklier-bacteriedodend/bevochtig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enkbrauwen-opvangen stof en 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ULPORGANEN VAN 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9900"/>
                </a:solidFill>
                <a:uFillTx/>
                <a:latin typeface="Franklin Gothic Medium"/>
                <a:hlinkClick r:id="rId1"/>
              </a:rPr>
              <a:t>https://www.youtube.com/watch?v=_tfic_F_04g</a:t>
            </a: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FILMPJ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itte staar is een afwijking van de lens.Het is een vertroebelde 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Is te verhel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ITTE /GRIJZ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57" name="Picture 4" descr="staar"/>
          <p:cNvPicPr/>
          <p:nvPr/>
        </p:nvPicPr>
        <p:blipFill>
          <a:blip r:embed="rId1"/>
          <a:stretch/>
        </p:blipFill>
        <p:spPr>
          <a:xfrm>
            <a:off x="2743200" y="3581280"/>
            <a:ext cx="51166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eveel oogkamer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te hoge druk op het 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slechter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leiden tot blindhe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emedie:toedienen van oogdruppels waardoor de druk afneemt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GROENE STAAR/GLAUCOOM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ROEN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4" name="Picture 1028" descr="glaucoom"/>
          <p:cNvPicPr/>
          <p:nvPr/>
        </p:nvPicPr>
        <p:blipFill>
          <a:blip r:embed="rId1"/>
          <a:stretch/>
        </p:blipFill>
        <p:spPr>
          <a:xfrm>
            <a:off x="2133720" y="1676520"/>
            <a:ext cx="4724280" cy="39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 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opv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Midd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geleid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inn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verwer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7" name="Picture 4" descr="zintuigen"/>
          <p:cNvPicPr/>
          <p:nvPr/>
        </p:nvPicPr>
        <p:blipFill>
          <a:blip r:embed="rId1"/>
          <a:stretch/>
        </p:blipFill>
        <p:spPr>
          <a:xfrm>
            <a:off x="2286000" y="2514600"/>
            <a:ext cx="46292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uidsgolv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Zijn schommelingen in de luchtdruk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Hebben een snelheid van 330 m/sec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Gaan in alle richting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ADEQUATE PRIKKEL VOOR HET GEHOORORGAAN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4" name="Picture 4" descr="oor1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8" name="Picture 4" descr="oor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rschelp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e gehoorg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2.5 cm la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ommel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De hamer (het eerste middenoorbeentje) zit aan het trommelvlies vas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0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UITWENDIG 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Middenoorbeen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Ham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ambeel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Stijgbeugel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Brengen de geluidsgolven over van het trommelvlies op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sterken het geluid 20 x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MIDDEN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rmt de verbinding tussen het middenoor en de keel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ornaamste taak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uchtdruk aan weerszijden van het trommelvlies gelijk mak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s op middenoorontste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jdelijke aanduiding voor inhoud 4" descr="buis van.jpg"/>
          <p:cNvPicPr/>
          <p:nvPr/>
        </p:nvPicPr>
        <p:blipFill>
          <a:blip r:embed="rId1"/>
          <a:stretch/>
        </p:blipFill>
        <p:spPr>
          <a:xfrm>
            <a:off x="2308320" y="2236680"/>
            <a:ext cx="4552920" cy="3372120"/>
          </a:xfrm>
          <a:prstGeom prst="rect">
            <a:avLst/>
          </a:prstGeom>
          <a:ln w="0">
            <a:noFill/>
          </a:ln>
        </p:spPr>
      </p:pic>
      <p:sp>
        <p:nvSpPr>
          <p:cNvPr id="38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lakkenhuis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Omzetting van geluidsgolven in elektrische impulsen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 + voorh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Rotatiezintuig en evenwichtsorga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INNENOOR/LABYRI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mzetting van geluidsgolven in zenuwimpuls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tijgbeugel grenst a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t ovale venster is het begin van het slakkenhu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0" name="Picture 4" descr="slakkenhuis"/>
          <p:cNvPicPr/>
          <p:nvPr/>
        </p:nvPicPr>
        <p:blipFill>
          <a:blip r:embed="rId1"/>
          <a:stretch/>
        </p:blipFill>
        <p:spPr>
          <a:xfrm>
            <a:off x="1619280" y="1844640"/>
            <a:ext cx="603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lgemeen: Zorgen voor contact met de buitenwerel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Factoren die een rol hierbij spel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is slechts gevoelig voor bepaalde prikkel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kan niet alles waarnem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Je kunt de aandacht van de zintuigen stur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Bij uitval nemen andere zintuigen taken gedeeltelijk ov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TAAK VAN DE 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0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pgerolde buis gevuld met vloeist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eze vloeistof beweegt door de bewegingen v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het slakkenhuis zitten zintuigcellen, die bewegingen van de vloeistof omzetten in elektrische impuls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ia de gehoorzenuw gaan deze impulsen naar de hersen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2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WERKING 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4" name="Rechthoek 1"/>
          <p:cNvSpPr/>
          <p:nvPr/>
        </p:nvSpPr>
        <p:spPr>
          <a:xfrm>
            <a:off x="270036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s://www.youtube.com/watch?v=ioTaOhGD-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hof=evenwichts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=rotatie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EVENWICHTSORGAAN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8" name="Picture 4" descr="evenwichtsorgaan"/>
          <p:cNvPicPr/>
          <p:nvPr/>
        </p:nvPicPr>
        <p:blipFill>
          <a:blip r:embed="rId1"/>
          <a:stretch/>
        </p:blipFill>
        <p:spPr>
          <a:xfrm>
            <a:off x="762120" y="3429000"/>
            <a:ext cx="3276360" cy="2978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evenwicht"/>
          <p:cNvPicPr/>
          <p:nvPr/>
        </p:nvPicPr>
        <p:blipFill>
          <a:blip r:embed="rId2"/>
          <a:stretch/>
        </p:blipFill>
        <p:spPr>
          <a:xfrm>
            <a:off x="5486400" y="3505320"/>
            <a:ext cx="2438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roen=zoe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aars=zuu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lauw=zou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ood=bit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3" name="Picture 4" descr="tong"/>
          <p:cNvPicPr/>
          <p:nvPr/>
        </p:nvPicPr>
        <p:blipFill>
          <a:blip r:embed="rId1"/>
          <a:stretch/>
        </p:blipFill>
        <p:spPr>
          <a:xfrm>
            <a:off x="5105520" y="1905120"/>
            <a:ext cx="33652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7" name="Picture 4" descr="neus2"/>
          <p:cNvPicPr/>
          <p:nvPr/>
        </p:nvPicPr>
        <p:blipFill>
          <a:blip r:embed="rId1"/>
          <a:stretch/>
        </p:blipFill>
        <p:spPr>
          <a:xfrm>
            <a:off x="1905120" y="1981080"/>
            <a:ext cx="495288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alleen maar via de neus in het reukslijmvlies.Dit ligt boven in linker en rechter neus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svormige stoff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Neus is erg gevoel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reacties oproe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rak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roductie speeksel of maagsap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/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4" name="Picture 4" descr="neusmond zintuig"/>
          <p:cNvPicPr/>
          <p:nvPr/>
        </p:nvPicPr>
        <p:blipFill>
          <a:blip r:embed="rId1"/>
          <a:stretch/>
        </p:blipFill>
        <p:spPr>
          <a:xfrm>
            <a:off x="1143000" y="1981080"/>
            <a:ext cx="6858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Zie lessen verplaatsingstechnieken en college Hu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AS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Lens minder elastisch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Arcus senilis=afzetting van cholesterol in het hoornvlie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Degeneratie van het netvlies= afname van kegeltjes op de gele vlek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Groen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Witte /grijz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OUDERDOMSVERSCHIJNSELEN VAN HET OOGZINTUI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eid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orsmeerprop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aatjes in het trommelvli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fwijking van de gehoorbeentj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Middenoorontsteki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Pus in het middenoor.Geeft druk op het trommelvlies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Waarnem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uderdomsslechthorend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in het slakkenhuis gaan in functie achteruit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zenuw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centrum hersenen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waai doof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zijn onherstelbaar beschadigd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eenmalig(ontploffing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langdurig(harde muziek of werklawaai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arde 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aa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og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ulporganen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evenwichts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ngere gewenning na veranderen van positie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reuk en smaak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waliteitsverlies van het lev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an gevaarlijk zijn(reukverlies)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UDERDOMSVERSCHIJNSEL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7" name="Picture 1028" descr="AnatomieOog"/>
          <p:cNvPicPr/>
          <p:nvPr/>
        </p:nvPicPr>
        <p:blipFill>
          <a:blip r:embed="rId1"/>
          <a:stretch/>
        </p:blipFill>
        <p:spPr>
          <a:xfrm>
            <a:off x="1676520" y="1905120"/>
            <a:ext cx="63658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it en hard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Voorkant is het hoornvlies/doorzichti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eft stevigheid en beschermin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ARDE OOG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1" name="Picture 4" descr="AnatomieOog"/>
          <p:cNvPicPr/>
          <p:nvPr/>
        </p:nvPicPr>
        <p:blipFill>
          <a:blip r:embed="rId1"/>
          <a:stretch/>
        </p:blipFill>
        <p:spPr>
          <a:xfrm>
            <a:off x="3962520" y="3882960"/>
            <a:ext cx="35812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ziet het oog van blo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eel bloedvat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kant is iris/regenb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t in iris=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3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VAA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5" name="Picture 4" descr="AnatomieOog"/>
          <p:cNvPicPr/>
          <p:nvPr/>
        </p:nvPicPr>
        <p:blipFill>
          <a:blip r:embed="rId1"/>
          <a:stretch/>
        </p:blipFill>
        <p:spPr>
          <a:xfrm>
            <a:off x="4038480" y="3657600"/>
            <a:ext cx="37162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de iris zitten kleurstoffen. Deze geven de kleur aan je iri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Een albino heeft deze kleurstoffen niet. Dus een ro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7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RIS EN 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9" name="Picture 4" descr="iris"/>
          <p:cNvPicPr/>
          <p:nvPr/>
        </p:nvPicPr>
        <p:blipFill>
          <a:blip r:embed="rId1"/>
          <a:stretch/>
        </p:blipFill>
        <p:spPr>
          <a:xfrm>
            <a:off x="5219640" y="3933720"/>
            <a:ext cx="289584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le dunne laag ( ong 0,2 mm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125 miljoen staaf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zwart/wit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7 miljoen kegel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kleu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le vlek is meest lichtgevoelige plek met alleen kegeltje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linde vlek is de plek waar de </a:t>
            </a:r>
            <a:r>
              <a:rPr b="0" lang="en-US" sz="1800" spc="-1" strike="noStrike">
                <a:solidFill>
                  <a:srgbClr val="ff0000"/>
                </a:solidFill>
                <a:latin typeface="Franklin Gothic Medium"/>
              </a:rPr>
              <a:t>oogzenuw 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het oog verlaat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NE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8:11:34Z</dcterms:created>
  <dc:creator>BugelJ</dc:creator>
  <dc:description/>
  <dc:language>en-US</dc:language>
  <cp:lastModifiedBy>J.W.P. Bugel</cp:lastModifiedBy>
  <dcterms:modified xsi:type="dcterms:W3CDTF">2016-02-24T10:35:46Z</dcterms:modified>
  <cp:revision>25</cp:revision>
  <dc:subject/>
  <dc:title>Zintuigen</dc:title>
</cp:coreProperties>
</file>