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6E1-D14C-48AC-9151-3EE41069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972-64E3-4F50-BF05-F7EDE2F6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720F-3547-4287-A927-DC1D4E71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21E-D8A9-439E-B2AB-9A34F6FB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2F83-CD30-49D8-9198-4A1AECAD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2709-C884-4F28-9521-28710B55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9331-B8D0-4573-9740-989F486D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4372-F5C5-468B-B10F-393FCF68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26CE-C69A-4666-AD08-7ECC6F68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82CC-AB8A-4A89-9795-EDCAA942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9E15-0B8E-4BAD-A306-90973B8A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26D-FFEB-470E-9D94-5E344848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6901-3048-42F9-A228-D3C2DB06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39BD-4A7D-4690-958D-4DFA7280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212F-A69F-4AB9-889F-372A88E8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0DA7-1086-42EE-8433-61ACDE10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5E0B-CB9B-4526-86DA-5508AACB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D67D-60B8-40DA-A566-F6D76F81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F24-9E1B-4939-A109-0A8B2B1A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A59-D280-46E9-9AC2-11CFDB70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6CE4-9A64-4B7A-BC4B-B57142A3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9AD-AE47-4B56-B78C-69C7E0FF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7D6-834E-4F5E-96EC-3126AF60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4A0-674E-41F4-8CC7-5662956F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26AE-FB9C-4EC3-BBB5-ADAAA4CF5F9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200" y="278568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3360" y="274464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7120" y="2642760"/>
                <a:ext cx="9885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160" y="277776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5360" y="2690640"/>
                <a:ext cx="98856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1920" y="2648880"/>
                <a:ext cx="98892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9480" y="277776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532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EB3A-6C02-4CDB-B1CB-7FBC167BF2C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98000"/>
            <a:ext cx="7772400" cy="228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3366"/>
                </a:solidFill>
                <a:latin typeface="Times New Roman"/>
              </a:rPr>
              <a:t>Spieren en spierstelsel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Motorische uni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Tijdelijke aanduiding voor inhoud 3" descr="synaps_et_spier.jpg"/>
          <p:cNvPicPr/>
          <p:nvPr/>
        </p:nvPicPr>
        <p:blipFill>
          <a:blip r:embed="rId1"/>
          <a:stretch/>
        </p:blipFill>
        <p:spPr>
          <a:xfrm>
            <a:off x="2201760" y="2254320"/>
            <a:ext cx="57150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terkte van de spiercontract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.Impulsfrequ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pier krijgt door de hoge frequentie geen tijd om zich te ontsp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gn stapeling van contrac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.Aantal motor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een grotere stimulus van uit de hersenen worden er  meer spieren ingez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Glad spierweefs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willekeurige 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nig k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ageren tr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al in de wand van org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Afbeelding 3" descr="gladspier.jpg"/>
          <p:cNvPicPr/>
          <p:nvPr/>
        </p:nvPicPr>
        <p:blipFill>
          <a:blip r:embed="rId1"/>
          <a:stretch/>
        </p:blipFill>
        <p:spPr>
          <a:xfrm>
            <a:off x="5214960" y="4381560"/>
            <a:ext cx="2428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Hart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 hiervan lijkt op dat van het dwarsgestreepte spierweef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willekeu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ermoeiba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3" descr="hartspier.jpg"/>
          <p:cNvPicPr/>
          <p:nvPr/>
        </p:nvPicPr>
        <p:blipFill>
          <a:blip r:embed="rId1"/>
          <a:stretch/>
        </p:blipFill>
        <p:spPr>
          <a:xfrm>
            <a:off x="5000760" y="3786120"/>
            <a:ext cx="3500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ynerg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der spieren die samen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gspieren van boven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ekspieren van de 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gspieren van de b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Antagon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jn spieren die met elkaar een beweging mogelij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de ene spier aanspant,ontspant de andere 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b: biceps en tric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2 spieren zorgen voor de buiging en strekking van de 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e bekendste antagon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D:\Documents and Settings\bugelj\Mijn documenten\Mijn afbeeldingen\spiers34.jpg"/>
          <p:cNvPicPr/>
          <p:nvPr/>
        </p:nvPicPr>
        <p:blipFill>
          <a:blip r:embed="rId1"/>
          <a:stretch/>
        </p:blipFill>
        <p:spPr>
          <a:xfrm>
            <a:off x="838080" y="1905120"/>
            <a:ext cx="2724120" cy="40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D:\Documents and Settings\bugelj\Mijn documenten\Mijn afbeeldingen\spieren2.jpg"/>
          <p:cNvPicPr/>
          <p:nvPr/>
        </p:nvPicPr>
        <p:blipFill>
          <a:blip r:embed="rId2"/>
          <a:stretch/>
        </p:blipFill>
        <p:spPr>
          <a:xfrm>
            <a:off x="3500280" y="1857240"/>
            <a:ext cx="40863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spanning/tonu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rust heeft lichaam een bepaalde spiert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zorgt voor de handhaving van de lichaams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spasticiteit is de rusttonus te ho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Termen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alys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ier niet bewust kunnen aansp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ier wel kunnen aanspannen,maar geen kr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ieratro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r worden van d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ierhypertro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r worden van d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atrof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Tijdelijke aanduiding voor inhoud 3" descr="spieratrofie.jpg"/>
          <p:cNvPicPr/>
          <p:nvPr/>
        </p:nvPicPr>
        <p:blipFill>
          <a:blip r:embed="rId1"/>
          <a:stretch/>
        </p:blipFill>
        <p:spPr>
          <a:xfrm>
            <a:off x="1928880" y="2071800"/>
            <a:ext cx="2500200" cy="1919160"/>
          </a:xfrm>
          <a:prstGeom prst="rect">
            <a:avLst/>
          </a:prstGeom>
          <a:ln w="0">
            <a:noFill/>
          </a:ln>
        </p:spPr>
      </p:pic>
      <p:pic>
        <p:nvPicPr>
          <p:cNvPr id="172" name="Afbeelding 4" descr="spieratrofie1.jpg"/>
          <p:cNvPicPr/>
          <p:nvPr/>
        </p:nvPicPr>
        <p:blipFill>
          <a:blip r:embed="rId2"/>
          <a:stretch/>
        </p:blipFill>
        <p:spPr>
          <a:xfrm>
            <a:off x="5500800" y="264312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Taak van de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andhouding van de lichaams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en voor bewe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erming  botten en inge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en van de tempe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Overzicht van de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D:\Documents and Settings\bugelj\Mijn documenten\Mijn afbeeldingen\spieren.jpg"/>
          <p:cNvPicPr/>
          <p:nvPr/>
        </p:nvPicPr>
        <p:blipFill>
          <a:blip r:embed="rId1"/>
          <a:stretch/>
        </p:blipFill>
        <p:spPr>
          <a:xfrm>
            <a:off x="1523880" y="1752480"/>
            <a:ext cx="6400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en kunnen maar 2 ding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trek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p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lles of niets reg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beweging ontstaat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wisselend aanspannen en ontspannen van de sp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artekr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oorten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warsgestreept/willekeu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ageren s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el vermo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ad/onwillekeu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in de org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ngza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rmoei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ur lijkt op dat van dwarsgestre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ing van glad spierweef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al een skelet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tten aan het bot vast dmv een p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ken beweging mogelijk door contra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llekeurig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activeerd door een motorische zen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ze zenuw komt vanuit de hers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Tijdelijke aanduiding voor inhoud 3" descr="spiee.jpg"/>
          <p:cNvPicPr/>
          <p:nvPr/>
        </p:nvPicPr>
        <p:blipFill>
          <a:blip r:embed="rId1"/>
          <a:stretch/>
        </p:blipFill>
        <p:spPr>
          <a:xfrm>
            <a:off x="1403280" y="2708280"/>
            <a:ext cx="2306880" cy="2306520"/>
          </a:xfrm>
          <a:prstGeom prst="rect">
            <a:avLst/>
          </a:prstGeom>
          <a:ln w="0">
            <a:noFill/>
          </a:ln>
        </p:spPr>
      </p:pic>
      <p:pic>
        <p:nvPicPr>
          <p:cNvPr id="140" name="Afbeelding 3" descr="dwarsgestreep.jpg"/>
          <p:cNvPicPr/>
          <p:nvPr/>
        </p:nvPicPr>
        <p:blipFill>
          <a:blip r:embed="rId2"/>
          <a:stretch/>
        </p:blipFill>
        <p:spPr>
          <a:xfrm>
            <a:off x="4356000" y="2781360"/>
            <a:ext cx="303228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Opbouw van de 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vez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bu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mgeven door bindweef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omgeven door een bindweefselv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fas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ezels van de fascie komen uit in de pees,die de spier verbindt met het b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Afbeelding 3" descr="spier1.jpg"/>
          <p:cNvPicPr/>
          <p:nvPr/>
        </p:nvPicPr>
        <p:blipFill>
          <a:blip r:embed="rId1"/>
          <a:stretch/>
        </p:blipFill>
        <p:spPr>
          <a:xfrm>
            <a:off x="6443640" y="1341360"/>
            <a:ext cx="21495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Tijdelijke aanduiding voor inhoud 3" descr="spier.jpg"/>
          <p:cNvPicPr/>
          <p:nvPr/>
        </p:nvPicPr>
        <p:blipFill>
          <a:blip r:embed="rId1"/>
          <a:stretch/>
        </p:blipFill>
        <p:spPr>
          <a:xfrm>
            <a:off x="2509920" y="2065320"/>
            <a:ext cx="50864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Motorische unit bestaat uit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torische zen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de motorische zenuw aan gestuurde spiervez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grootte van de mototische unit  vari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laats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d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en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09:23:09Z</dcterms:created>
  <dc:creator>custom</dc:creator>
  <dc:description/>
  <dc:language>en-US</dc:language>
  <cp:lastModifiedBy>J.W.P. Bugel</cp:lastModifiedBy>
  <dcterms:modified xsi:type="dcterms:W3CDTF">2012-03-22T10:34:41Z</dcterms:modified>
  <cp:revision>13</cp:revision>
  <dc:subject/>
  <dc:title>Spieren en spierstelsel</dc:title>
</cp:coreProperties>
</file>