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998-B14A-4553-80C6-C44B0588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A58-3D90-4DB1-B8DF-0555E03E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AF9-A588-4935-A506-15C372F5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0AA-A7D0-42EF-9CA9-2AA5AE6B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D99B-1817-45B3-AA4D-D0847A71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264E-6535-46AD-A9DE-71C896D4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89D6-CA40-4C3B-87B5-1E9A6AA3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11A8-8E40-4F78-9B7A-8FEA6A61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5A89-0C53-46BE-BD6B-D307596E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6D4F-453F-46BA-B487-4F131424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7450-5F33-4FE7-9B36-EFDFC928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016-903E-4AF3-9C05-11B9BD90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1E9F-E783-4E3E-B0AB-D67021D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A788-F94E-4432-820A-354A6254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7D01-CFCD-484E-98C2-4E6C4F59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82DF-21F1-4421-AF08-D604DF16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14D0-4291-4545-AA5E-BB8C8148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FD2-9F48-4B3C-8BEB-56FDBEC4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C77-28C0-4BC7-A4E5-2E005FE1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985-DAAE-423E-B5E9-8DF3CEEC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914-9344-4B20-9AB6-D51D46BE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6F6-D2C7-40C9-AC8B-EB5F794C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501-FA20-495F-A7D2-C2CEFC48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91C-061F-4B8A-B3DF-283DA00C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8437-CA45-44BE-9E5F-698F415AE72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3132-FDD9-41AC-B550-52FD9118696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Bloedsomloop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62320" y="1600200"/>
            <a:ext cx="2619360" cy="453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naar het hart to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oppervlakk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unne slapp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447640" cy="34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e komt het bloed terug naar het hart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ppen voorkomen terugstro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po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uigende werking van het 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gang van slagader naar 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hele dunn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en kleppen en 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twisseling van 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slagcycl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ast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spannings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ysto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actie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496872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eddruk/Tens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druk in de slag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e druk 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onder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boven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2714760"/>
            <a:ext cx="292896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lastische bloedvaten zorgen voor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inde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druk in de bloedvat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643040"/>
            <a:ext cx="6121440" cy="389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cema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art krijgt een elektrisch impuls waardoor het hart gaat samentr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usknoo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eft deze impu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t in de wand van de rechter boez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willekeu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us een soort van pacem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6000" y="3906720"/>
            <a:ext cx="252108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warsgestreept spierweefs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del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boezems(atri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kamers(ventrik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uskn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3240" y="1994040"/>
            <a:ext cx="4457520" cy="28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4643280" cy="48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er AV klep=Mitralis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hter AV klep=Tricuspidale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ze kleppen voorkomen het terugstromen van het bloed naar de boez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ortaklep=klep tussen linkerkamer en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monalisklep=klep tussen rechterkamer en longslag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386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rans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ziet het hart van bloed.                       (het hart heeft ook  zuurstof en voedingsstoffen nodig om te kunnen wer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ansslagader is de 1e aftakking van de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nauwing van kransslagader geeft een tekort aan zuurstof naar de hartspier toe.Gevolg:hartinfarct!!!!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19280" y="1495440"/>
            <a:ext cx="532908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matische bloedsoml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58444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357360" cy="40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van het hart 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ge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die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ikke elastische spier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56:08Z</dcterms:created>
  <dc:creator> Bugel</dc:creator>
  <dc:description/>
  <dc:language>en-US</dc:language>
  <cp:lastModifiedBy>J.W.P. Bugel</cp:lastModifiedBy>
  <dcterms:modified xsi:type="dcterms:W3CDTF">2010-12-08T07:48:28Z</dcterms:modified>
  <cp:revision>14</cp:revision>
  <dc:subject/>
  <dc:title>Bloedsomloop</dc:title>
</cp:coreProperties>
</file>