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A1B-B881-446B-BCA8-0464BC31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92F-A464-4530-94FF-D6B612F2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652-090F-46A7-8F4C-79FDE8BF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578-C5EA-4E35-AF37-1072CC31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78F6-1517-454E-A2A4-7A9633F3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B540-8D43-4BD9-BF72-D58A4B5A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1201-11CA-4307-879A-78CD1CF0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5988-0B41-41B8-BE7A-A5E297F6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17AF-A63F-4B33-B59F-D87758C4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9A88-76AA-47FB-8617-2AF3E555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12B7-2446-4E1A-8436-5A1AD104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D3E-F710-4128-B40B-9A10390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F5A8-5A74-442E-843A-74CE656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A5B6-0882-4DC8-B8F5-3633500B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4EEA-D0DB-44BC-B101-E1F6ED3C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FEDF-294C-4ADF-91F6-CF788EF2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D693-C281-4B1A-B946-C4B2082F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464-8E6D-4EB7-BC18-5E95F5CD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E58-B7B1-4CB9-9C36-662B0DF6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53D-9C5A-4E85-A2F5-34E7F596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57B-A51B-4CF2-B535-D5A5A28E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14D-79EF-4083-AFCC-43FC63D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ED3-A22C-4083-9272-048DCAD3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BE5-392D-428C-8779-C508790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F133-1132-4398-AEC7-E7E68ABEE3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A662-9557-4941-BA74-B48FE581CA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plaatj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enuwc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2" name="-Neuron-nl" descr=""/>
          <p:cNvPicPr/>
          <p:nvPr/>
        </p:nvPicPr>
        <p:blipFill>
          <a:blip r:embed="rId1"/>
          <a:stretch/>
        </p:blipFill>
        <p:spPr>
          <a:xfrm>
            <a:off x="2666880" y="2044800"/>
            <a:ext cx="3810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_hersenschors2" descr=""/>
          <p:cNvPicPr/>
          <p:nvPr/>
        </p:nvPicPr>
        <p:blipFill>
          <a:blip r:embed="rId1"/>
          <a:stretch/>
        </p:blipFill>
        <p:spPr>
          <a:xfrm>
            <a:off x="2819520" y="2782800"/>
            <a:ext cx="38098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der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_2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wabb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hersenen2" descr=""/>
          <p:cNvPicPr/>
          <p:nvPr/>
        </p:nvPicPr>
        <p:blipFill>
          <a:blip r:embed="rId1"/>
          <a:stretch/>
        </p:blipFill>
        <p:spPr>
          <a:xfrm>
            <a:off x="2670120" y="1857240"/>
            <a:ext cx="36352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e zenuwstelsel en perifere zenuwstels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zenewstelsel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ijaanzicht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hersenen%204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7545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 in 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0" name="kwabben" descr=""/>
          <p:cNvPicPr/>
          <p:nvPr/>
        </p:nvPicPr>
        <p:blipFill>
          <a:blip r:embed="rId1"/>
          <a:stretch/>
        </p:blipFill>
        <p:spPr>
          <a:xfrm>
            <a:off x="2133720" y="3013200"/>
            <a:ext cx="4190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 hersen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hersenen%201" descr=""/>
          <p:cNvPicPr/>
          <p:nvPr/>
        </p:nvPicPr>
        <p:blipFill>
          <a:blip r:embed="rId1"/>
          <a:stretch/>
        </p:blipFill>
        <p:spPr>
          <a:xfrm>
            <a:off x="2133720" y="1725480"/>
            <a:ext cx="4876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9:38:43Z</dcterms:created>
  <dc:creator>BugelJ</dc:creator>
  <dc:description/>
  <dc:language>en-US</dc:language>
  <cp:lastModifiedBy>BugelJ</cp:lastModifiedBy>
  <dcterms:modified xsi:type="dcterms:W3CDTF">2007-12-19T09:43:43Z</dcterms:modified>
  <cp:revision>1</cp:revision>
  <dc:subject/>
  <dc:title>De hersenen</dc:title>
</cp:coreProperties>
</file>