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52A-12BB-4B67-8743-50F95B01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018-B036-4662-9E12-202337D1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0EE-8279-434C-B494-9C50D8AD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4A9-385D-441A-9DA9-CB32065C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7AF7-F05D-4C9F-81D5-50032F56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55A5-0669-4276-96F0-18816562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7047-B0CE-419C-A09B-D51FB2B6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635D-319E-4F9D-ACFA-5EE2C390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4C6F-3395-4966-A9BB-46C6F628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BF9E-B777-4213-8BD7-527E675B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3EA4-5F99-484C-9FAA-B5CEA295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77C-CD73-4610-8FC8-1904F2AC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DB7-BFA8-4E20-96B6-627ADBEB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E5B7-E655-49CD-B2C4-96F9AD1B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E411-0518-4891-9AF8-4BBE6C19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9778-2C35-4600-A014-CF40FAFC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AD00-DF28-44FB-BA80-E6AEEE97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F08-6C50-4A25-A13A-BC4170E2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3C4-DDE4-46F3-BDC8-2423FADD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E2C-519C-46D9-8EB7-79BB35A4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30B-0612-409F-8C1E-62ECED97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A10-B906-4625-8D62-BA6EB233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962-9EBC-49EE-9DAA-F1388CC1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A41-DB00-4396-BDA5-722E68B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88D3-10DB-468F-B2A1-A9838D8893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6B4D-A20E-49B2-9667-6482945415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3366"/>
                </a:solidFill>
                <a:latin typeface="Times New Roman"/>
              </a:rPr>
              <a:t>Spieren en spierstelsel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Tijdelijke aanduiding voor inhoud 3" descr="synaps_et_spier.jpg"/>
          <p:cNvPicPr/>
          <p:nvPr/>
        </p:nvPicPr>
        <p:blipFill>
          <a:blip r:embed="rId1"/>
          <a:stretch/>
        </p:blipFill>
        <p:spPr>
          <a:xfrm>
            <a:off x="2201760" y="225432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terkte van de spiercontract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Impulsfrequ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pier krijgt door de hoge frequentie geen tijd om zich te ont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gn stapeling van contr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Aantal motor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een grotere stimulus van uit de hersenen worden er  meer spieren inge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lad spierweefs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geren t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al in de wand van org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Afbeelding 3" descr="gladspier.jpg"/>
          <p:cNvPicPr/>
          <p:nvPr/>
        </p:nvPicPr>
        <p:blipFill>
          <a:blip r:embed="rId1"/>
          <a:stretch/>
        </p:blipFill>
        <p:spPr>
          <a:xfrm>
            <a:off x="5214960" y="4381560"/>
            <a:ext cx="2428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Hart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 hiervan lijkt op dat van het dwarsgestreepte spierweef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3" descr="hartspier.jpg"/>
          <p:cNvPicPr/>
          <p:nvPr/>
        </p:nvPicPr>
        <p:blipFill>
          <a:blip r:embed="rId1"/>
          <a:stretch/>
        </p:blipFill>
        <p:spPr>
          <a:xfrm>
            <a:off x="5000760" y="378612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ynerg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der spieren die 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boven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kspieren van de 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de b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spieren die met elkaar een beweging mogelij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ene spier aanspant,ontspant de ander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b: biceps en t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2 spieren zorgen voor de buiging en strekking van de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e bekendste 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:\Documents and Settings\bugelj\Mijn documenten\Mijn afbeeldingen\spiers34.jpg"/>
          <p:cNvPicPr/>
          <p:nvPr/>
        </p:nvPicPr>
        <p:blipFill>
          <a:blip r:embed="rId1"/>
          <a:stretch/>
        </p:blipFill>
        <p:spPr>
          <a:xfrm>
            <a:off x="838080" y="1905120"/>
            <a:ext cx="2724120" cy="40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:\Documents and Settings\bugelj\Mijn documenten\Mijn afbeeldingen\spieren2.jpg"/>
          <p:cNvPicPr/>
          <p:nvPr/>
        </p:nvPicPr>
        <p:blipFill>
          <a:blip r:embed="rId2"/>
          <a:stretch/>
        </p:blipFill>
        <p:spPr>
          <a:xfrm>
            <a:off x="3500280" y="1857240"/>
            <a:ext cx="4086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spanning/ton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rust heeft lichaam een bepaalde spier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t voor de handhav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spasticiteit is de rusttonus te 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erme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lys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niet bewust kunnen aansp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wel kunnen aanspannen,maar geen k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a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hyper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atrof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Tijdelijke aanduiding voor inhoud 3" descr="spieratrofie.jpg"/>
          <p:cNvPicPr/>
          <p:nvPr/>
        </p:nvPicPr>
        <p:blipFill>
          <a:blip r:embed="rId1"/>
          <a:stretch/>
        </p:blipFill>
        <p:spPr>
          <a:xfrm>
            <a:off x="1928880" y="2071800"/>
            <a:ext cx="2500200" cy="1919160"/>
          </a:xfrm>
          <a:prstGeom prst="rect">
            <a:avLst/>
          </a:prstGeom>
          <a:ln w="0">
            <a:noFill/>
          </a:ln>
        </p:spPr>
      </p:pic>
      <p:pic>
        <p:nvPicPr>
          <p:cNvPr id="172" name="Afbeelding 4" descr="spieratrofie1.jpg"/>
          <p:cNvPicPr/>
          <p:nvPr/>
        </p:nvPicPr>
        <p:blipFill>
          <a:blip r:embed="rId2"/>
          <a:stretch/>
        </p:blipFill>
        <p:spPr>
          <a:xfrm>
            <a:off x="5500800" y="26431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aak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ndhoud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bewe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ing  botten en inge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en van de 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verzicht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D:\Documents and Settings\bugelj\Mijn documenten\Mijn afbeeldingen\spieren.jpg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en kunnen maar 2 ding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lles of niets reg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beweging ontstaat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wisselend aanspannen en ontspannen van de sp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oorten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warsgestreept/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s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mo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d/on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in de org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za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rmoei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ur lijkt op dat van dwarsgestre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glad spierweef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een skelet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en aan het bot vast dmv een p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 beweging mogelijk door contra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llekeurig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activeerd door een motorische zen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zenuw komt vanuit de hers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Tijdelijke aanduiding voor inhoud 3" descr="spiee.jpg"/>
          <p:cNvPicPr/>
          <p:nvPr/>
        </p:nvPicPr>
        <p:blipFill>
          <a:blip r:embed="rId1"/>
          <a:stretch/>
        </p:blipFill>
        <p:spPr>
          <a:xfrm>
            <a:off x="1403280" y="270828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140" name="Afbeelding 3" descr="dwarsgestreep.jpg"/>
          <p:cNvPicPr/>
          <p:nvPr/>
        </p:nvPicPr>
        <p:blipFill>
          <a:blip r:embed="rId2"/>
          <a:stretch/>
        </p:blipFill>
        <p:spPr>
          <a:xfrm>
            <a:off x="4356000" y="2781360"/>
            <a:ext cx="30322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pbouw van de 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vez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bu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geven door bindweef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omgeven door een bindweefselv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fas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ezels van de fascie komen uit in de pees,die de spier verbindt met het 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Afbeelding 3" descr="spier1.jpg"/>
          <p:cNvPicPr/>
          <p:nvPr/>
        </p:nvPicPr>
        <p:blipFill>
          <a:blip r:embed="rId1"/>
          <a:stretch/>
        </p:blipFill>
        <p:spPr>
          <a:xfrm>
            <a:off x="6443640" y="1341360"/>
            <a:ext cx="2149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Tijdelijke aanduiding voor inhoud 3" descr="spier.jpg"/>
          <p:cNvPicPr/>
          <p:nvPr/>
        </p:nvPicPr>
        <p:blipFill>
          <a:blip r:embed="rId1"/>
          <a:stretch/>
        </p:blipFill>
        <p:spPr>
          <a:xfrm>
            <a:off x="2509920" y="2065320"/>
            <a:ext cx="5086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 bestaat uit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torische zen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motorische zenuw aan gestuurde spiervez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rootte van de mototische unit  vari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laats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d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en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9:23:09Z</dcterms:created>
  <dc:creator>custom</dc:creator>
  <dc:description/>
  <dc:language>en-US</dc:language>
  <cp:lastModifiedBy>J.W.P. Bugel</cp:lastModifiedBy>
  <dcterms:modified xsi:type="dcterms:W3CDTF">2012-03-22T10:34:41Z</dcterms:modified>
  <cp:revision>13</cp:revision>
  <dc:subject/>
  <dc:title>Spieren en spierstelsel</dc:title>
</cp:coreProperties>
</file>