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9B1-C95F-44AA-8684-90861C3F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13E-B437-460F-8D0F-5BFDE171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F6F-D8AB-46AE-A735-741E80F7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CEE-1904-443A-A3B7-F943DEC6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9035-8848-4791-B558-E69050D3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895B-0DBA-4DE2-9E8E-C87C1B5C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9B36-05A8-4CF8-A641-C79D51D4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3F8E-7CEE-489F-8FC9-7FC660D3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9072-E659-48F2-8F84-0B74C373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987A-A318-405E-BD8D-0471D2B9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1576-65E9-4685-A760-CC89D9A7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581-4FEF-4882-AED1-B74DEC13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6DAA-DEB5-46FB-84E8-450810AB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D562-E136-44CB-AF65-34A8DE2D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07CC-6420-4667-9DD1-972D9C1F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A19A-B96A-4775-86CB-FFD584D6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1BD9-B681-4477-888F-8CD4B8DD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F17-8B4A-4507-BD35-ADCEBFDE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5D3-8953-4B28-A598-A2D0C0A7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989-DB5B-47EF-A6FA-ED48F8B1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3AF-2360-4B9F-A8A0-2449AE9B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585-B0C7-43FE-9A78-ECD54DA2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B06-FA6E-4A87-A342-24099C97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BDE-3A32-4CBC-AA57-8832D4D5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E4C1-0BC3-4806-A27E-852FD34E5B6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C478-7FB5-40AA-8FCA-38D55CDC083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Bloedsomloop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62320" y="1600200"/>
            <a:ext cx="2619360" cy="45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naar het hart to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oppervlakk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unne slapp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447640" cy="34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e komt het bloed terug naar het hart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ppen voorkomen terugstro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p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igende werking van het 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gang van slagader naar 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hele dunn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en kleppen en 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wisseling van 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slagcycl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spannings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ysto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actie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96872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eddruk/Tens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druk in de slag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e druk 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onder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boven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2714760"/>
            <a:ext cx="292896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lastische bloedvaten zorgen voor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inde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druk in de bloedvat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643040"/>
            <a:ext cx="6121440" cy="389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cema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art krijgt een elektrisch impuls waardoor het hart gaat samentr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usknoo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eft deze impu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t in de wand van de rechter boez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willekeu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us een soort van pace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3906720"/>
            <a:ext cx="252108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warsgestreept spierweefs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del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boezems(atri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kamers(ventrik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uskn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3240" y="1994040"/>
            <a:ext cx="4457520" cy="28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4643280" cy="48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er AV klep=Mitralis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hter AV klep=Tricuspidale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ze kleppen voorkomen het terugstromen van het bloed naar de boez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ortaklep=klep tussen linkerkamer en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monalisklep=klep tussen rechterkamer en longslag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386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rans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ziet het hart van bloed.                       (het hart heeft ook  zuurstof en voedingsstoffen nodig om te kunnen wer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ansslagader is de 1e aftakking van de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nauwing van kransslagader geeft een tekort aan zuurstof naar de hartspier toe.Gevolg:hartinfarct!!!!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1495440"/>
            <a:ext cx="532908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matische bloedsoml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58444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35736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van het hart 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ge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die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ikke elastische spier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56:08Z</dcterms:created>
  <dc:creator> Bugel</dc:creator>
  <dc:description/>
  <dc:language>en-US</dc:language>
  <cp:lastModifiedBy>J.W.P. Bugel</cp:lastModifiedBy>
  <dcterms:modified xsi:type="dcterms:W3CDTF">2010-12-08T07:48:28Z</dcterms:modified>
  <cp:revision>14</cp:revision>
  <dc:subject/>
  <dc:title>Bloedsomloop</dc:title>
</cp:coreProperties>
</file>