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1B77-E534-4B6D-BB49-69653BAEF87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7C28-9C59-4015-9EFA-20CF9A47A1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F10-EB4F-4314-981D-2268C74A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38F-70D7-4056-9EDC-A5365C07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10B-236A-48D4-B924-B84D20F2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52B-B5D8-4760-9B94-8E8BCB11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457F-5C5C-4DFD-8614-C9F6341C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2C2C-8278-4DE0-93A0-56FD7B3A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E30D-101A-4126-BB98-E2AF5C3D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C11D-E27A-4B61-9AFD-B6D54ECB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8DF4-2EC8-41B8-BBC8-A730653D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BB98-31C7-4E1D-BEDE-FDA9A7E1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470D-8154-46BE-9F8F-B340882B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225-B373-4BA2-BADE-396FE06D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3984-85F1-42D4-8C16-91FCEAEC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EAEE-A7D7-4422-92C6-17542378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BEF4-7FA6-48EA-8698-D7BB9CAC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1181-7865-4897-83BD-F63C9462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F250-F8DA-4B65-8EDE-46C5DA61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302-D13E-4AC7-A57A-7016F320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1A1-8922-45CF-AE03-C04690B4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856-FF6B-4BE7-AAB1-7F959641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E38-2212-44D0-9B76-2EDBEEBD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BE5-6C3E-4383-8EB6-A4A0ED51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565-43D3-4524-9296-D7FAD9C2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CE0-4D4F-44A5-9E90-48113442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B85D-2DF4-4B01-A6DF-D7C182F72D28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0749-3199-4730-ADCF-1870941D0F05}" type="slidenum">
              <a:rPr b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lle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Functie van deze sapp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zo klein maken van de moleculen , dat deze opgenomen kunnen worden in het 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s de voedingsstoffen opgenomen zijn in het bloed, gaan deze eerst via de poortader naar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ze lichaamsvreemde stoffen omgezet in lichaamseigen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atomie spijsverteringskana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keelho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slok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ma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5.dar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6.dikke 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7.endel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8.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spijsvertereing 3"/>
          <p:cNvPicPr/>
          <p:nvPr/>
        </p:nvPicPr>
        <p:blipFill>
          <a:blip r:embed="rId1"/>
          <a:stretch/>
        </p:blipFill>
        <p:spPr>
          <a:xfrm>
            <a:off x="5238720" y="2054160"/>
            <a:ext cx="2857680" cy="384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o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alen van het voed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engen met speeksel(1 -1.5 liter per d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 paar speekselk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voegen va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myl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ong heeft smaakpapi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eelholt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reflex:de luchtweg naar de neus en luchtpijp is afgeslo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neus:zachtgehemelte e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luchtpijp:strottenkl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lok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ransport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istaltische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slokdarmtekst_350"/>
          <p:cNvPicPr/>
          <p:nvPr/>
        </p:nvPicPr>
        <p:blipFill>
          <a:blip r:embed="rId1"/>
          <a:stretch/>
        </p:blipFill>
        <p:spPr>
          <a:xfrm>
            <a:off x="4788000" y="2060640"/>
            <a:ext cx="309888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aa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ijdelijk reser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secretie maag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ingang:maagmond   (car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uitgang:maagportier (pylo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maag_350"/>
          <p:cNvPicPr/>
          <p:nvPr/>
        </p:nvPicPr>
        <p:blipFill>
          <a:blip r:embed="rId1"/>
          <a:stretch/>
        </p:blipFill>
        <p:spPr>
          <a:xfrm>
            <a:off x="5003640" y="2114640"/>
            <a:ext cx="2881440" cy="268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NL" sz="3600" spc="-1" strike="noStrike">
                <a:solidFill>
                  <a:srgbClr val="420000"/>
                </a:solidFill>
                <a:latin typeface="Times New Roman"/>
              </a:rPr>
              <a:t>Samenstelling maagsap                 (2 liter per dag)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slijm(bescherming van de maagw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zoutzuur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pepsine(eiwitafbrekend enzy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ylorusreflex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pylorus(maagportier)laat beetje bij beetje de maaginhoud toe tot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het basisch worden van de darminhoud gaat de pylorus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3" name="Picture 4" descr="dunne darm"/>
          <p:cNvPicPr/>
          <p:nvPr/>
        </p:nvPicPr>
        <p:blipFill>
          <a:blip r:embed="rId1"/>
          <a:stretch/>
        </p:blipFill>
        <p:spPr>
          <a:xfrm>
            <a:off x="2587680" y="1828800"/>
            <a:ext cx="39733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waalfvingerige darm(duodenum)= ong.3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nuchtere darm(jejunum)= ong.2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kronkeldarm(ileum)= ong.3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12 vingerige"/>
          <p:cNvPicPr/>
          <p:nvPr/>
        </p:nvPicPr>
        <p:blipFill>
          <a:blip r:embed="rId1"/>
          <a:stretch/>
        </p:blipFill>
        <p:spPr>
          <a:xfrm>
            <a:off x="4859280" y="1974960"/>
            <a:ext cx="367344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Levend organism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t vocht en voe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voor is aanvulling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eten en drin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darm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ipsine(splitsing eiwitten tot aminozur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acharidasen(splitsing van suikers tot monosachari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-3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Twaalfvingerig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de alvleesklierbuis komen uit in de twaalfvingerige da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ats:papil van Vater(een spiertje zorgt er voor dat de darminhoud niet terug stroomt naar alvleesklier en galbla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alvleesklierbuis transporteren gal en alvleeskliersap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aakt in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slagen in de galblaas(vesica fell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uctus choledochus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0.75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HCO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zo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sto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kleurst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alvleesklier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lase(afbreken koolhydra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ripsyne(afbreken eiw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pase(afbreken v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triumbicarbonaat(NaHCO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lvleeskli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alvleesklier"/>
          <p:cNvPicPr/>
          <p:nvPr/>
        </p:nvPicPr>
        <p:blipFill>
          <a:blip r:embed="rId1"/>
          <a:stretch/>
        </p:blipFill>
        <p:spPr>
          <a:xfrm>
            <a:off x="4716360" y="1773360"/>
            <a:ext cx="3240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Officiele latijnse te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choledochu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gal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pancreaticus= alvleesklier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alvleesk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ductus pancreas"/>
          <p:cNvPicPr/>
          <p:nvPr/>
        </p:nvPicPr>
        <p:blipFill>
          <a:blip r:embed="rId1"/>
          <a:stretch/>
        </p:blipFill>
        <p:spPr>
          <a:xfrm>
            <a:off x="4788000" y="1994040"/>
            <a:ext cx="367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uchter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transporteren van de darminh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afbreken van de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meestal leeg bij een overledene(vandaar de na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ronkel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het belangrijkste deel van de spijsverteringskanaal.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de verteerde voedingsstoffen word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armwand aan het blo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gege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hierdoor kan het lichaam de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sstoffen gebrui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oorta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 het bloed met de opgenomen voedingsstoffen verzamelt zich in de poortader(vena porta) en gaat dan naar de l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 voedingsstoffen omgezet in stoffen die het lichaam kan gebruik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Zorgvragers vragen speciale aandacht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Moeten verantwoorde voeding krij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Hebben soms hulp hierbij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Bijhouden van de vochtba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Kans op ondervoeding/uitdro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poortad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1" name="Picture 4" descr="poortader=4"/>
          <p:cNvPicPr/>
          <p:nvPr/>
        </p:nvPicPr>
        <p:blipFill>
          <a:blip r:embed="rId1"/>
          <a:stretch/>
        </p:blipFill>
        <p:spPr>
          <a:xfrm>
            <a:off x="3381480" y="1828800"/>
            <a:ext cx="23810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lev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4" name="Picture 4" descr="Maag"/>
          <p:cNvPicPr/>
          <p:nvPr/>
        </p:nvPicPr>
        <p:blipFill>
          <a:blip r:embed="rId1"/>
          <a:stretch/>
        </p:blipFill>
        <p:spPr>
          <a:xfrm>
            <a:off x="2103480" y="1828800"/>
            <a:ext cx="4937040" cy="430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0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Overgang kronkeldarm–dikke dar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7" name="Picture 7" descr="overgang dikke darm"/>
          <p:cNvPicPr/>
          <p:nvPr/>
        </p:nvPicPr>
        <p:blipFill>
          <a:blip r:embed="rId1"/>
          <a:stretch/>
        </p:blipFill>
        <p:spPr>
          <a:xfrm>
            <a:off x="3059280" y="2265480"/>
            <a:ext cx="32828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 (Colon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t stuwen van de darm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kken van deze 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rugresorptie va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teren van onverteerbare re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vitamine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meth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10" descr="endeldarm"/>
          <p:cNvPicPr/>
          <p:nvPr/>
        </p:nvPicPr>
        <p:blipFill>
          <a:blip r:embed="rId1"/>
          <a:stretch/>
        </p:blipFill>
        <p:spPr>
          <a:xfrm>
            <a:off x="2333520" y="2052720"/>
            <a:ext cx="4649760" cy="40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Endeldarm(rectum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5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slagpla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er indikken van de ma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Colon2"/>
          <p:cNvPicPr/>
          <p:nvPr/>
        </p:nvPicPr>
        <p:blipFill>
          <a:blip r:embed="rId1"/>
          <a:stretch/>
        </p:blipFill>
        <p:spPr>
          <a:xfrm>
            <a:off x="4950000" y="2112840"/>
            <a:ext cx="34398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u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o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staat uit 2 sluitspieren(sfinc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n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8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98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98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98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98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98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98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efecatie pro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 rust is de rectumwand ontspannen en is de inwendige sluitspier aangespa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 een bepaalde vullingsgraad van het rectum worden reksensoren geprikk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inwendige sluitspier ontspant en tegelijkertijd spant zich de uitwendige sluits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 een geschikt moment kan defecatie plaats vi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steem van afbraak en opname van voedingsstoffen in ons 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armstelsel"/>
          <p:cNvPicPr/>
          <p:nvPr/>
        </p:nvPicPr>
        <p:blipFill>
          <a:blip r:embed="rId1"/>
          <a:stretch/>
        </p:blipFill>
        <p:spPr>
          <a:xfrm>
            <a:off x="5478480" y="2622600"/>
            <a:ext cx="23796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oodzakelijke voedingsstoff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koolhydr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v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eiw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5.vitam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6.miner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Beschuit_40_kcal_2"/>
          <p:cNvPicPr/>
          <p:nvPr/>
        </p:nvPicPr>
        <p:blipFill>
          <a:blip r:embed="rId1"/>
          <a:stretch/>
        </p:blipFill>
        <p:spPr>
          <a:xfrm>
            <a:off x="472428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Noodzakelijke voedings en bouwstoffe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ouw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voor opbouw nieuwe cellen en 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inera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 (aminozu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n (co en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edings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als energieleveranc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olhydr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antal calorie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calorien"/>
          <p:cNvPicPr/>
          <p:nvPr/>
        </p:nvPicPr>
        <p:blipFill>
          <a:blip r:embed="rId1"/>
          <a:stretch/>
        </p:blipFill>
        <p:spPr>
          <a:xfrm>
            <a:off x="3276720" y="1828800"/>
            <a:ext cx="2666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chijf van vijf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schijfvvijf"/>
          <p:cNvPicPr/>
          <p:nvPr/>
        </p:nvPicPr>
        <p:blipFill>
          <a:blip r:embed="rId1"/>
          <a:stretch/>
        </p:blipFill>
        <p:spPr>
          <a:xfrm>
            <a:off x="2438280" y="1981080"/>
            <a:ext cx="4505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einer maken van de grote voedingsmolecu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 het kleiner maken van deze moleculen produceert het lichaam een aantal sappen die dit proces volbre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pee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g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rm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vleesklier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0:03:46Z</dcterms:created>
  <dc:creator> Bugel</dc:creator>
  <dc:description/>
  <dc:language>en-US</dc:language>
  <cp:lastModifiedBy>J.W.P. Bugel</cp:lastModifiedBy>
  <dcterms:modified xsi:type="dcterms:W3CDTF">2014-12-04T19:13:23Z</dcterms:modified>
  <cp:revision>18</cp:revision>
  <dc:subject/>
  <dc:title>Spijsvertering</dc:title>
</cp:coreProperties>
</file>