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21F-B51F-44F5-94C4-1E4B4685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FA5-8A22-406F-90AB-CEE3FF8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889-A68A-4856-9FE3-B5F8AF41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2A4F-BBDF-407F-A0CD-BD255090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F36D-5F02-444E-BC00-7AA304FE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F62-BB08-4784-ACB3-DC0F47FF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FE9-87A6-433D-846A-8559A523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504-16A0-4B91-804E-13EAA09B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5633-A378-467A-9538-676AE19D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787C-9E3B-4D28-BF53-A24C7751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9E59-B408-4A78-96D3-F9A0BBC7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E91-77F9-441A-913D-5C0DB5A7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FC31-3791-422F-BD56-5B34417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E2E9-A901-4E1C-AEA0-B866E0F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507-1E52-4945-8D65-61A5D361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FDB-6C62-47BF-A5F7-D776692F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80B-9DCE-485F-9B5E-16545C60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B12-5027-4E46-82FC-CFA8143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3FE-5AC6-41C8-8650-0F4FBBE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2B8-6CCF-4117-A99D-7D35B3A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BF7-F582-41B1-847C-E4F1415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2BA-0E7D-4732-9216-149D5E7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E28-1C24-4872-9DCF-337BE55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DF3-1693-4FAF-BE68-B91508C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A19-7E1D-4E91-8724-8A2E23B1A95D}" type="slidenum">
              <a:rPr b="0" lang="nl-N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000-28BD-482C-88D3-E51706FCA5D9}" type="slidenum">
              <a:rPr b="0" lang="nl-N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eling bij de m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4" descr="D:\Documents and Settings\bugelj\Mijn documenten\Mijn afbeeldingen\temp regeling\37graden.jpg"/>
          <p:cNvPicPr/>
          <p:nvPr/>
        </p:nvPicPr>
        <p:blipFill>
          <a:blip r:embed="rId1"/>
          <a:stretch/>
        </p:blipFill>
        <p:spPr>
          <a:xfrm>
            <a:off x="3581280" y="4495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regulat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Het centrum voor deze temperatuurregulatie zit in bepaalde delen va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ersensta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Hypothalam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In dit centrum komt alle informatie van de thermosensoren binnen en volgt eventueel een rea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het blo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van het blo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 centrum in de hersen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hermosensoren in de hu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Deze meten voortdurend de temperatuur in de hu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r een afwijking dan :actie van uit het temperatuurcentr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Mens is 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Constante temperatuur van ongeveer 37 grad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Ook bij lage en hoge buitentemperatuu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Is een optimale temperatuur voor de werking van enzymen en eiwitt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Warm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Picture 3" descr="D:\Documents and Settings\bugelj\Mijn documenten\Mijn afbeeldingen\temp regeling\warmbloedig_bestanden\NudN_ mens, zoogdier, warme en koude plekken op het menselijk lichaam, warmbloedig.jpeg"/>
          <p:cNvPicPr/>
          <p:nvPr/>
        </p:nvPicPr>
        <p:blipFill>
          <a:blip r:embed="rId1"/>
          <a:stretch/>
        </p:blipFill>
        <p:spPr>
          <a:xfrm>
            <a:off x="533520" y="2209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Documents and Settings\bugelj\Mijn documenten\Mijn afbeeldingen\temp regeling\omjs_olifant.jpg"/>
          <p:cNvPicPr/>
          <p:nvPr/>
        </p:nvPicPr>
        <p:blipFill>
          <a:blip r:embed="rId2"/>
          <a:stretch/>
        </p:blipFill>
        <p:spPr>
          <a:xfrm>
            <a:off x="3200400" y="2666880"/>
            <a:ext cx="5753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koudbloedig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0" name="Picture 3" descr="D:\Documents and Settings\bugelj\Mijn documenten\Mijn afbeeldingen\temp regeling\kikker.jpg"/>
          <p:cNvPicPr/>
          <p:nvPr/>
        </p:nvPicPr>
        <p:blipFill>
          <a:blip r:embed="rId1"/>
          <a:stretch/>
        </p:blipFill>
        <p:spPr>
          <a:xfrm>
            <a:off x="609480" y="2209680"/>
            <a:ext cx="3314880" cy="349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D:\Documents and Settings\bugelj\Mijn documenten\Mijn afbeeldingen\temp regeling\koudbloedig.jpg"/>
          <p:cNvPicPr/>
          <p:nvPr/>
        </p:nvPicPr>
        <p:blipFill>
          <a:blip r:embed="rId2"/>
          <a:stretch/>
        </p:blipFill>
        <p:spPr>
          <a:xfrm>
            <a:off x="4572000" y="3200400"/>
            <a:ext cx="430524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lichaamstemperatuu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Schil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de perifer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v handen en voet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28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Kerntemperatuu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In het binnenste van het menselijk lichaa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37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Lever :39 gra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te doen bij een te la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hoging van de activiteit in de cellen.Hierdoor geven de cellen meer warmte af,waardoor de temperatuur omhoog gaa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Vermindering van huiddoorbloeding.Hierdoor ontsnapt er minder warmte naar buiten en hou  je de warmte binn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kleding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3d7a"/>
                </a:solidFill>
                <a:latin typeface="Times New Roman"/>
              </a:rPr>
              <a:t>Wat doe je bij een te hoge lichaamstemperatuur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Celactiviteit neemt af.Hierdoor krijg je een futloos gevo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oorbloeding van de huid neemt toe.Hierdoor een  toename van de warmte afgifte en zweetproducti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5b5249"/>
                </a:solidFill>
                <a:latin typeface="Times New Roman"/>
              </a:rPr>
              <a:t>Dragen van minder kledin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a3d7a"/>
                </a:solidFill>
                <a:latin typeface="Times New Roman"/>
              </a:rPr>
              <a:t>Temperatuurverhoging oa doo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Te warme douch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5b5249"/>
                </a:solidFill>
                <a:latin typeface="Times New Roman"/>
              </a:rPr>
              <a:t>Spierarbe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4" descr="D:\Documents and Settings\bugelj\Mijn documenten\Mijn afbeeldingen\temp regeling\shower1.jpg"/>
          <p:cNvPicPr/>
          <p:nvPr/>
        </p:nvPicPr>
        <p:blipFill>
          <a:blip r:embed="rId1"/>
          <a:stretch/>
        </p:blipFill>
        <p:spPr>
          <a:xfrm>
            <a:off x="4876920" y="2209680"/>
            <a:ext cx="327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Documents and Settings\bugelj\Mijn documenten\Mijn afbeeldingen\temp regeling\spieren.jpg"/>
          <p:cNvPicPr/>
          <p:nvPr/>
        </p:nvPicPr>
        <p:blipFill>
          <a:blip r:embed="rId2"/>
          <a:stretch/>
        </p:blipFill>
        <p:spPr>
          <a:xfrm>
            <a:off x="4191120" y="4648320"/>
            <a:ext cx="2706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a3d7a"/>
                </a:solidFill>
                <a:latin typeface="Times New Roman"/>
              </a:rPr>
              <a:t>Het lichaam geeft warmte af op de volgende 4 maniere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Betere doorbloeding van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Uitstraling van warmte door de hui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erdamping van zweet.Hiervoor is warmte nodig.Deze wordt aan de huid onttrokken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Door luchtstroming kan de warme lucht rond de huid weggevoerd worde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b5249"/>
                </a:solidFill>
                <a:latin typeface="Times New Roman"/>
              </a:rPr>
              <a:t>Vb:ventilator(Vergroot de kans op verkoudheid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38:11Z</dcterms:created>
  <dc:creator>custom</dc:creator>
  <dc:description/>
  <dc:language>en-US</dc:language>
  <cp:lastModifiedBy>J.W.P. Bugel</cp:lastModifiedBy>
  <dcterms:modified xsi:type="dcterms:W3CDTF">2013-03-07T09:19:17Z</dcterms:modified>
  <cp:revision>2</cp:revision>
  <dc:subject/>
  <dc:title>Temperatuurregeling bij de mens</dc:title>
</cp:coreProperties>
</file>