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3E6-DE63-4E7C-B489-6306ED8B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5AE-F564-48DA-B2B2-F2072ED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71E-2172-4BD7-B429-BBA528C7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F6C-31AB-4B37-AA3D-7B7761E5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57166-4E72-4D8A-BB3D-2C41B2CC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8A905-AECE-480B-9F55-C9C66AA4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62FC0-4638-4493-BD7D-40F82BD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B30D6-9E5F-47B8-BC3E-7970DAC1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EFAC-FAE4-433A-B1C5-E216D3E3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EDC49-93B7-4314-A262-BAD1F6A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85845-0FFA-49C2-A5FF-0D806896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C6D-D433-4194-8A68-EFB52EF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8B596-476D-45AE-8EDD-A8C98882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C29A9-ABF1-4178-878B-6B45D75B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BE911-95E5-4BC6-963E-2D064045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160F8-B0B6-4059-BF39-222D1EC6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4A279-F4E1-443B-82EE-527F24DE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CAA83-7AEE-4BD9-A305-733686CE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26C14-B5A4-43B1-9DBF-8108BA02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CFD1D-F88E-4DCC-843B-6BBCB324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0B260-E530-414E-B5A3-289E2739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95C42-586A-4A3A-85FD-6DBB76E9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F0A-0156-46DF-90D1-C9E0A6B4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EE6FF-4333-42A0-97BE-55B58E68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70A30-3C56-42C5-A53B-F06BA7F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E35E9-E5DB-48F1-9552-280C8A92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943AD-056A-4D89-881D-CBB4F6EB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10532-C75D-4692-B7FB-A0BD6431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B5725-0F29-4CE6-BDBE-A47C1944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45CA6-A5BF-496B-AF78-54AD4EA0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B0DD-B4E6-4952-8A73-301986DF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1532A-649C-4A4C-B1F0-5DB0D8BD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53C5-FDDA-46A7-8D03-599D64B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78F-A641-4064-ADF2-1A6113E7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765C-8608-4410-A452-0F270C60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7150-AA67-4512-8006-6C08ECD1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AA10-6599-45B4-9397-BE53AB21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5B782-4964-4D93-A2FB-AD570E5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5BE7A-3A9F-4CF9-BAB2-BF55ED2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A1FE-39B6-4AD8-96B7-C39220A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EDE2-728A-457C-AE86-D61A825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DF98B-53AB-4A26-9FD7-261DED59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62EE-00BD-4499-964E-59E03469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D7A83-8F7A-443F-9F99-62538E20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981-018D-4E8F-80CB-CEA1F6D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728A6-7AE1-4E54-94F9-C1389E81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39E8-677B-4F22-9337-D7F05D7B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7FA8A-1C0D-4F9F-9A6C-6ADBAD1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01BDB-48EE-4214-8068-5316305A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D1850-3E13-4718-BD6C-55F8508D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ACB93-6A52-4D09-9D66-71E54E21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46012-B12A-448D-A06B-F545C631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6DAF-C189-4990-88FD-1B0F300C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846DD-F826-4F3C-B890-03447767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1FEA-9832-42A7-A122-3BEF8896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297-463E-49A8-85C3-0C23C55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27E6C-DBE3-4747-BB3E-49498330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113C3-5415-46DF-A107-FA58F36B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1F69-429A-4AA7-BAFC-50602808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D1986-9FDE-4566-9FD4-8A0CAB3B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55B2-ED5E-4FA6-A48F-CAA212D3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431B1-1B41-43D8-8109-516F7359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53133-C943-417B-B02C-685E7F4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54EFC-3579-4D5A-BDD2-21DE1283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2E3F8-473B-4F82-B7E3-0DBED95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5C52-C303-4C5B-8207-E6ECE14F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97F-7821-4844-A68B-DD33C755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22388-FB2E-4A53-B056-0F931F29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1ECE9-3C7B-4F53-B6F5-308750BE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A819F-AE0E-450C-BF03-32AEFC4C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CEE47-4BB9-4B82-B214-8085EE04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EF1AA-8A8D-41CB-97E4-DC6E9705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D57F2-6EC0-4B02-A41F-39D4EB6B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038CA-B755-470B-BBB9-4B51EC3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D5644-8065-45C9-A41A-15DCD5C7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55EC2-E62D-4D73-94F4-A610217C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1E47-E5B9-4A67-9361-09685B6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633-A8B2-4B4F-AA4A-7FB3CB6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2B0F0-2279-4666-9B1C-B86CB6D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C3F25-CDE4-489C-A427-4740B177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0016-C197-44D7-88A4-CD78FD1F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30D8D-D8E9-4486-931F-1B2BB783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77A8-C2B2-4D82-AFF1-1E6EFCD7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640-A86F-40B0-AFB1-4560E7B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024D-6DC0-4E4C-9AF2-AA0AA5E8307C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A69-F824-4EE0-8D92-5626EEE2FA5B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2E12-D9BD-4098-9F21-7B1AB0940087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AF5-013A-4821-862A-5B71AF7A074A}" type="slidenum"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FCEE-DA09-47DF-9D5F-C7859C7FE181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22B-CA78-456C-9B63-5A51D9AB33B9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E06-EE43-4230-AE43-B56B1EF085E7}" type="slidenum">
              <a:rPr b="0" lang="nl-NL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_tfic_F_04g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ioTaOhGD-OQ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College anatomie/fysiologie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Franklin Gothic Medium"/>
              </a:rPr>
              <a:t>Basisjaar V&amp;V 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2" name="Rectangle 24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4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4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LINDE VLEK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36" name="Picture 4" descr="blinde vlek"/>
          <p:cNvPicPr/>
          <p:nvPr/>
        </p:nvPicPr>
        <p:blipFill>
          <a:blip r:embed="rId1"/>
          <a:stretch/>
        </p:blipFill>
        <p:spPr>
          <a:xfrm>
            <a:off x="685800" y="2209680"/>
            <a:ext cx="4038480" cy="3713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AnatomieOog"/>
          <p:cNvPicPr/>
          <p:nvPr/>
        </p:nvPicPr>
        <p:blipFill>
          <a:blip r:embed="rId2"/>
          <a:stretch/>
        </p:blipFill>
        <p:spPr>
          <a:xfrm>
            <a:off x="4267080" y="2666880"/>
            <a:ext cx="44020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de opening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 zich groter en kleiner maken dmv lengtespiertjes in 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roter bij minder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leiner bij veel lich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s een reflex (is dus een onwillekeurige spier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zich platter of boller mak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latter voor veraf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oller voor dichtbij zi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ACHTER DE PUPIL ZIT DE 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44" name="Picture 4" descr="AnatomieOog"/>
          <p:cNvPicPr/>
          <p:nvPr/>
        </p:nvPicPr>
        <p:blipFill>
          <a:blip r:embed="rId1"/>
          <a:stretch/>
        </p:blipFill>
        <p:spPr>
          <a:xfrm>
            <a:off x="4572000" y="3048120"/>
            <a:ext cx="4572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af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Platt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niet veel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ichtbij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olle lens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Kost meer energie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ond de ooglens zit  een kringspier die de lens boller of platter kan maken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Bij het ouder worden gaat dat steeds moeilijker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34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Franklin Gothic Medium"/>
              </a:rPr>
              <a:t>Remedie: Leesbril</a:t>
            </a:r>
            <a:endParaRPr b="0" lang="en-US" sz="1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OGLEN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leden-bescherm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gspieren(6)-zorgen voor beweging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aanklier-bacteriedodend/bevochtig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enkbrauwen-opvangen stof en 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ULPORGANEN VAN 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9900"/>
                </a:solidFill>
                <a:uFillTx/>
                <a:latin typeface="Franklin Gothic Medium"/>
                <a:hlinkClick r:id="rId1"/>
              </a:rPr>
              <a:t>https://www.youtube.com/watch?v=_tfic_F_04g</a:t>
            </a: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FILMPJ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Witte staar is een afwijking van de lens.Het is een vertroebelde 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Is te verhel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ITTE /GRIJZ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57" name="Picture 4" descr="staar"/>
          <p:cNvPicPr/>
          <p:nvPr/>
        </p:nvPicPr>
        <p:blipFill>
          <a:blip r:embed="rId1"/>
          <a:stretch/>
        </p:blipFill>
        <p:spPr>
          <a:xfrm>
            <a:off x="2743200" y="3581280"/>
            <a:ext cx="51166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eveel oogkamervoc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te hoge druk op het 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ierdoor slechter zi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leiden tot blindhe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emedie:toedienen van oogdruppels waardoor de druk afneemt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GROENE STAAR/GLAUCOO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ROENE STAA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64" name="Picture 1028" descr="glaucoom"/>
          <p:cNvPicPr/>
          <p:nvPr/>
        </p:nvPicPr>
        <p:blipFill>
          <a:blip r:embed="rId1"/>
          <a:stretch/>
        </p:blipFill>
        <p:spPr>
          <a:xfrm>
            <a:off x="2133720" y="1676520"/>
            <a:ext cx="472428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 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opv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Midd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geleid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innenoor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rikkelverwer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07" name="Picture 4" descr="zintuigen"/>
          <p:cNvPicPr/>
          <p:nvPr/>
        </p:nvPicPr>
        <p:blipFill>
          <a:blip r:embed="rId1"/>
          <a:stretch/>
        </p:blipFill>
        <p:spPr>
          <a:xfrm>
            <a:off x="2286000" y="2514600"/>
            <a:ext cx="4629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uidsgolv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Zijn schommelingen in de luchtdruk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Hebben een snelheid van 330 m/sec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534949"/>
                </a:solidFill>
                <a:latin typeface="Franklin Gothic Medium"/>
              </a:rPr>
              <a:t>Gaan in alle richting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ADEQUATE PRIKKEL VOOR HET GEHOORORGAAN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4" name="Picture 4" descr="oor1"/>
          <p:cNvPicPr/>
          <p:nvPr/>
        </p:nvPicPr>
        <p:blipFill>
          <a:blip r:embed="rId1"/>
          <a:stretch/>
        </p:blipFill>
        <p:spPr>
          <a:xfrm>
            <a:off x="1905120" y="2057400"/>
            <a:ext cx="51814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7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78" name="Picture 4" descr="oor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orschelp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Uitwendige gehoorga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2.5 cm la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rommel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De hamer (het eerste middenoorbeentje) zit aan het trommelvlies vast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0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ITWENDIG 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Middenoorbeen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Ham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ambeel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Stijgbeugel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Brengen de geluidsgolven over van het trommelvlies op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ersterken het geluid 20 x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3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MIDDENOOR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rmt de verbinding tussen het middenoor en de keel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oornaamste taak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uchtdruk aan weerszijden van het trommelvlies gelijk mak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Kans op middenoorontstekin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86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jdelijke aanduiding voor inhoud 4" descr="buis van.jpg"/>
          <p:cNvPicPr/>
          <p:nvPr/>
        </p:nvPicPr>
        <p:blipFill>
          <a:blip r:embed="rId1"/>
          <a:stretch/>
        </p:blipFill>
        <p:spPr>
          <a:xfrm>
            <a:off x="2308320" y="2236680"/>
            <a:ext cx="4552920" cy="3372120"/>
          </a:xfrm>
          <a:prstGeom prst="rect">
            <a:avLst/>
          </a:prstGeom>
          <a:ln w="0">
            <a:noFill/>
          </a:ln>
        </p:spPr>
      </p:pic>
      <p:sp>
        <p:nvSpPr>
          <p:cNvPr id="389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BUIS VAN EUSTACHIU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lakkenhuis</a:t>
            </a: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Omzetting van geluidsgolven in elektrische impulsen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 + voorh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Rotatiezintuig en evenwichtsorgaa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INNENOOR/LABYRI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Omzetting van geluidsgolven in zenuwimpuls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tijgbeugel grenst a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t ovale venster is het begin van het slakkenhu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0" name="Picture 4" descr="slakkenhuis"/>
          <p:cNvPicPr/>
          <p:nvPr/>
        </p:nvPicPr>
        <p:blipFill>
          <a:blip r:embed="rId1"/>
          <a:stretch/>
        </p:blipFill>
        <p:spPr>
          <a:xfrm>
            <a:off x="1619280" y="184464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lgemeen: Zorgen voor contact met de buitenwerel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Factoren die een rol hierbij spel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is slechts gevoelig voor bepaalde prikkel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De zintuigcel kan niet alles waarnem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Je kunt de aandacht van de zintuigen stur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Bij uitval nemen andere zintuigen taken gedeeltelijk ove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TAAK VAN DE ZINTUIG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0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534949"/>
                </a:solidFill>
                <a:latin typeface="Times New Roman"/>
              </a:rPr>
              <a:t>J Bügel Noorderpoortcollege Winscho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pgerolde buis gevuld met vloeistof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Deze vloeistof beweegt door de bewegingen van het ovale vens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het slakkenhuis zitten zintuigcellen, die bewegingen van de vloeistof omzetten in elektrische impulsen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ia de gehoorzenuw gaan deze impulsen naar de hersen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2" name="Tijdelijke aanduiding voor voettekst 3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WERKING SLAKKENHUI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4" name="Rechthoek 1"/>
          <p:cNvSpPr/>
          <p:nvPr/>
        </p:nvSpPr>
        <p:spPr>
          <a:xfrm>
            <a:off x="270036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https://www.youtube.com/watch?v=ioTaOhGD-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hof=evenwichts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3 halfvormige kanalen=rotatiezintu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Medium"/>
              </a:rPr>
              <a:t>EVENWICHTSORGAAN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08" name="Picture 4" descr="evenwichtsorgaan"/>
          <p:cNvPicPr/>
          <p:nvPr/>
        </p:nvPicPr>
        <p:blipFill>
          <a:blip r:embed="rId1"/>
          <a:stretch/>
        </p:blipFill>
        <p:spPr>
          <a:xfrm>
            <a:off x="762120" y="3429000"/>
            <a:ext cx="3276360" cy="2978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evenwicht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roen=zoe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Paars=zuu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Blauw=zou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Rood=bitter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3" name="Picture 4" descr="tong"/>
          <p:cNvPicPr/>
          <p:nvPr/>
        </p:nvPicPr>
        <p:blipFill>
          <a:blip r:embed="rId1"/>
          <a:stretch/>
        </p:blipFill>
        <p:spPr>
          <a:xfrm>
            <a:off x="5105520" y="1905120"/>
            <a:ext cx="33652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17" name="Picture 4" descr="neus2"/>
          <p:cNvPicPr/>
          <p:nvPr/>
        </p:nvPicPr>
        <p:blipFill>
          <a:blip r:embed="rId1"/>
          <a:stretch/>
        </p:blipFill>
        <p:spPr>
          <a:xfrm>
            <a:off x="1905120" y="1981080"/>
            <a:ext cx="4952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alleen maar via de neus in het reukslijmvlies.Dit ligt boven in linker en rechter neusholte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svormige stoff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Neus is erg gevoeli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Kan reacties oproep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raken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oductie speeksel of maagsap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IKEN/PROEV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424" name="Picture 4" descr="neusmond zintuig"/>
          <p:cNvPicPr/>
          <p:nvPr/>
        </p:nvPicPr>
        <p:blipFill>
          <a:blip r:embed="rId1"/>
          <a:stretch/>
        </p:blipFill>
        <p:spPr>
          <a:xfrm>
            <a:off x="1143000" y="1981080"/>
            <a:ext cx="6858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Zie lessen verplaatsingstechnieken en college Hui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6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AS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Lens minder elastisch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Arcus senilis=afzetting van cholesterol in het hoornvlie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Degeneratie van het netvlies= afname van kegeltjes op de gele vlek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Groen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34949"/>
                </a:solidFill>
                <a:latin typeface="Franklin Gothic Medium"/>
              </a:rPr>
              <a:t>Witte /grijze staar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Franklin Gothic Medium"/>
              </a:rPr>
              <a:t>OUDERDOMSVERSCHIJNSELEN VAN HET OOGZINTUIG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Geleid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orsmeerprop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Gaatjes in het trommelvli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Afwijking van de gehoorbeentjes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Middenoorontsteking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Pus in het middenoor.Geeft druk op het trommelvlies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Waarnemingsstoorn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Ouderdomsslechthorend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in het slakkenhuis gaan in functie achteruit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zenuw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Beschadiging gehoorcentrum hersenen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waai doofheid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buClr>
                <a:srgbClr val="6f77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Gehoorcellen zijn onherstelbaar beschadigd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eenmalig(ontploffing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	</a:t>
            </a:r>
            <a:r>
              <a:rPr b="0" lang="nl-NL" sz="1300" spc="-1" strike="noStrike">
                <a:solidFill>
                  <a:srgbClr val="534949"/>
                </a:solidFill>
                <a:latin typeface="Franklin Gothic Medium"/>
              </a:rPr>
              <a:t>-langdurig(harde muziek of werklawaai)</a:t>
            </a:r>
            <a:endParaRPr b="0" lang="en-US" sz="13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GEHOORSTOORNISS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arde 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Vaa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Net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Ooglen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Hulporganen van het oog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evenwichts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Langere gewenning na veranderen van positie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Afname reuk en smaakzi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waliteitsverlies van het leven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534949"/>
                </a:solidFill>
                <a:latin typeface="Franklin Gothic Medium"/>
              </a:rPr>
              <a:t>Kan gevaarlijk zijn(reukverlies)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8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OUDERDOMSVERSCHIJNSELE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5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Franklin Gothic Medium"/>
              </a:rPr>
              <a:t>HET OO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17" name="Picture 1028" descr="AnatomieOog"/>
          <p:cNvPicPr/>
          <p:nvPr/>
        </p:nvPicPr>
        <p:blipFill>
          <a:blip r:embed="rId1"/>
          <a:stretch/>
        </p:blipFill>
        <p:spPr>
          <a:xfrm>
            <a:off x="1676520" y="1905120"/>
            <a:ext cx="63658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Wit en hard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Voorkant is het hoornvlies/doorzichti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eft stevigheid en bescherming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ARDE OOG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1" name="Picture 4" descr="AnatomieOog"/>
          <p:cNvPicPr/>
          <p:nvPr/>
        </p:nvPicPr>
        <p:blipFill>
          <a:blip r:embed="rId1"/>
          <a:stretch/>
        </p:blipFill>
        <p:spPr>
          <a:xfrm>
            <a:off x="3962520" y="3882960"/>
            <a:ext cx="3581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ziet het oog van bloed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eel bloedvaten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Voorkant is iris/regenboogvli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Gat in iris=pupi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3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AA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5" name="Picture 4" descr="AnatomieOog"/>
          <p:cNvPicPr/>
          <p:nvPr/>
        </p:nvPicPr>
        <p:blipFill>
          <a:blip r:embed="rId1"/>
          <a:stretch/>
        </p:blipFill>
        <p:spPr>
          <a:xfrm>
            <a:off x="4038480" y="3657600"/>
            <a:ext cx="37162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In de iris zitten kleurstoffen. Deze geven de kleur aan je iris.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534949"/>
                </a:solidFill>
                <a:latin typeface="Franklin Gothic Medium"/>
              </a:rPr>
              <a:t>Een albino heeft deze kleurstoffen niet. Dus een rode iri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7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RIS EN PUPI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329" name="Picture 4" descr="iris"/>
          <p:cNvPicPr/>
          <p:nvPr/>
        </p:nvPicPr>
        <p:blipFill>
          <a:blip r:embed="rId1"/>
          <a:stretch/>
        </p:blipFill>
        <p:spPr>
          <a:xfrm>
            <a:off x="5219640" y="3933720"/>
            <a:ext cx="289584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Hele dunne laag ( ong 0,2 mm)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125 miljoen staaf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zwart/wit 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7 miljoen kegeltj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00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4949"/>
                </a:solidFill>
                <a:latin typeface="Franklin Gothic Medium"/>
              </a:rPr>
              <a:t>Zien kleur</a:t>
            </a:r>
            <a:endParaRPr b="0" lang="en-US" sz="16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Gele vlek is meest lichtgevoelige plek met alleen kegeltjes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5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Blinde vlek is de plek waar de </a:t>
            </a:r>
            <a:r>
              <a:rPr b="0" lang="en-US" sz="1800" spc="-1" strike="noStrike">
                <a:solidFill>
                  <a:srgbClr val="ff0000"/>
                </a:solidFill>
                <a:latin typeface="Franklin Gothic Medium"/>
              </a:rPr>
              <a:t>oogzenuw </a:t>
            </a: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het oog verlaat.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31" name="Tijdelijke aanduiding voor voettekst 4"/>
          <p:cNvSpPr/>
          <p:nvPr/>
        </p:nvSpPr>
        <p:spPr>
          <a:xfrm>
            <a:off x="304812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34949"/>
                </a:solidFill>
                <a:latin typeface="Arial Narrow"/>
              </a:rPr>
              <a:t>J Bügel Noorderpoortcollege Winscho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TVLI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8:11:34Z</dcterms:created>
  <dc:creator>BugelJ</dc:creator>
  <dc:description/>
  <dc:language>en-US</dc:language>
  <cp:lastModifiedBy>J.W.P. Bugel</cp:lastModifiedBy>
  <dcterms:modified xsi:type="dcterms:W3CDTF">2016-02-24T10:35:46Z</dcterms:modified>
  <cp:revision>25</cp:revision>
  <dc:subject/>
  <dc:title>Zintuigen</dc:title>
</cp:coreProperties>
</file>