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999-B659-4011-B36D-C8C7E0E7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B2E-AA23-446B-84C0-E81103C9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2BC-FE6E-4903-87BE-9CE1B9A0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4AE-B5A0-464F-B757-73E8186D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4E8F-7D41-4914-A103-BAE147CF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0308-090C-4B92-8D9E-0C4544F3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B83F-B40F-45EA-96C6-9B13175A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0B00-6E37-48FA-984E-56D5B4E9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3010-60B7-48BF-B49A-53616227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123B-6958-4147-A906-2D79C68D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41B2-24F8-4AB1-B4D3-422EB80F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85A-1DAC-426D-B503-B8E3F910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E638-C76F-4D4F-A7E5-97309313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4BF2-0000-4BDA-B9F2-1E917586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B01A-B1D0-40E6-9AED-EE401BCF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F0D7-0A98-406B-8C39-69BFE22C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ABD9-19A9-4C00-92D7-A8B744AC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2D8-6462-4546-81AD-72C9DD59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392-2129-470F-A11B-46EBEAB1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949-03B9-4FFB-A62F-144B16C4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C48-C00B-46BC-AF08-25E0D659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4C6-339E-411E-8224-B71E293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11C-AA84-4BDE-814B-686169BB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F33-47AF-4DC8-BB1F-6441D6E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FE14-3365-44F0-A156-9C6EE3F0381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26F9-2204-42C3-B63A-B63FC36284F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Vrouwelijke en mannelijke geslachtsorga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in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uit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mment 4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ust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en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bij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laas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ro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klieren van Cow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6" descr="prostaat"/>
          <p:cNvPicPr/>
          <p:nvPr/>
        </p:nvPicPr>
        <p:blipFill>
          <a:blip r:embed="rId1"/>
          <a:stretch/>
        </p:blipFill>
        <p:spPr>
          <a:xfrm>
            <a:off x="1795320" y="1600200"/>
            <a:ext cx="555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en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rinebuis(ureth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ellichamen(2 bovenste en 1 onders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sexuele prikkels neemt de bloedtoevoer toe en de bloedafvoer 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erdoor een erectie van de p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de verwijding van het onderste zwel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hu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en losse huidploo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 terug geschov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 weggehaald(besnijdenis/circumsic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ballen(test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in een huidplooi(scrot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angen aan de zaadstre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testoste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ontwikkeling van secundaire geslachtskenmerken(zie blz 47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productie van zaadcellen en prostaat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aanmaak van spiermas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jballen(epididymi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achter de 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en voor de verdere rijping van de in de zaadballen gevormde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en opslagruimte voor zaadcel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adcellen zijn 3 weken te bewa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leiders en zaadblaasj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leider is de verbinding tussen bijbal en urinebuis en zorgt voor het transport van de zaadc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blaasjes produceren zaadvloeistof voor de voeding van de zaadcellen en deze vloeistof komt uit in de zaadle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erma bestaat voor 99% uit zaadvloeistof en voor 1% uit zaadcellen(spermatozöi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ste deel van spermavloeistof wordt gemaakt do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aadblaasjes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eren van Cowper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wtgrote klieren die een dik en kleverig slijm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ijm is basisch en neutraliseert het zure milieu van de plasb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Picture 4" descr="ProstaatvergrotingPlaatje"/>
          <p:cNvPicPr/>
          <p:nvPr/>
        </p:nvPicPr>
        <p:blipFill>
          <a:blip r:embed="rId1"/>
          <a:stretch/>
        </p:blipFill>
        <p:spPr>
          <a:xfrm>
            <a:off x="2700360" y="1822320"/>
            <a:ext cx="4103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t rondom het 1e gedeelte van de urinebu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 groot als een kast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de producent van zaadvloeist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vergro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s op vergroting bij alle m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unnen zich problemen voor doen bi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s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aadlo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ka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de nr 2 op de lijst van tumoren bij man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al na je 50e j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roeit langza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umor-beperkt-tot-prostaat"/>
          <p:cNvPicPr/>
          <p:nvPr/>
        </p:nvPicPr>
        <p:blipFill>
          <a:blip r:embed="rId1"/>
          <a:stretch/>
        </p:blipFill>
        <p:spPr>
          <a:xfrm>
            <a:off x="4140360" y="2421000"/>
            <a:ext cx="5003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br>
              <a:rPr sz="4200"/>
            </a:br>
            <a:br>
              <a:rPr sz="4200"/>
            </a:b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wendi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ersto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le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aarmoe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4" descr="poster impotentie"/>
          <p:cNvPicPr/>
          <p:nvPr/>
        </p:nvPicPr>
        <p:blipFill>
          <a:blip r:embed="rId1"/>
          <a:stretch/>
        </p:blipFill>
        <p:spPr>
          <a:xfrm>
            <a:off x="3459240" y="1844640"/>
            <a:ext cx="24415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het onvermogen om een erectie te krijgen of te handha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medicatie(bv morf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giftiging(bv alcohol/drugs/nicot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andering van de hormoonhuishou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nder testoster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erdoor vaak een afname van de geslachtsd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Oplossing???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Viagra"/>
          <p:cNvPicPr/>
          <p:nvPr/>
        </p:nvPicPr>
        <p:blipFill>
          <a:blip r:embed="rId1"/>
          <a:stretch/>
        </p:blipFill>
        <p:spPr>
          <a:xfrm>
            <a:off x="3071880" y="1770120"/>
            <a:ext cx="3000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vrouwgeslachts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         </a:t>
            </a: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erstokken(ovari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ing:in de buik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mandelvorm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5-4.5 cm lang en 1- 2 cm br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ontwikkeling van een maandelijkse eicel en de geslachtshormo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leider (tuba uterin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de verbinding tussen eierstok en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ongeveer 10 cm 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gt als het ware het eitje op en zorgt voor vervoer naar de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 vindt de conceptie pla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vruchte eicel verplaatst zich naar de baarmoeder(doet daar 5 dagen o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t bevruchte cel  wordt afgevoerd door de eileiderwand h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aarmoeder (uteru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vorm van een omgekeerde 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 cm bij 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vruchte cel nestelt zich in de baarmoederw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hele baarmoeder is meestal naar voren gebogen en ligt hierdoor op de urinebl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te deel van de baarmoeder is de baarmoederhals (cervix) en steekt uit in het achterste gedeelte van de vag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lte in de baarmoederhals noem je het cervixkan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 boek blz 4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agi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kanaal van ong. 8 cm en is verbinding tussen baarmoeder en buiten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paringsorg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eft een lage ph waarde(is zuu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omt van de melkzuur, afgescheiden door de Döderlein-bacil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waarde geeft bescherming tegen infec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funest voor zaadcellen(zijn neutraal/alkali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wendig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t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amheu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s7_vulva"/>
          <p:cNvPicPr/>
          <p:nvPr/>
        </p:nvPicPr>
        <p:blipFill>
          <a:blip r:embed="rId1"/>
          <a:stretch/>
        </p:blipFill>
        <p:spPr>
          <a:xfrm>
            <a:off x="4572000" y="2590920"/>
            <a:ext cx="45720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ul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schaamlippen (labia maj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behaarde,dikke huidploo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vatten veel onderhuidsvetweefsel en kl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nusheuvel (mons vene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dikking aan voorkant vu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e schaamlippen (labis min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ggen binnen de grote schaam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hof (vestibul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denvlies sluit voorhof gedeeltelijk of geheel 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ttelaar (clito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er dicht bezet met sens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08:11Z</dcterms:created>
  <dc:creator>custom</dc:creator>
  <dc:description/>
  <dc:language>en-US</dc:language>
  <cp:lastModifiedBy>J.W.P. Bugel</cp:lastModifiedBy>
  <dcterms:modified xsi:type="dcterms:W3CDTF">2015-05-29T07:37:21Z</dcterms:modified>
  <cp:revision>13</cp:revision>
  <dc:subject/>
  <dc:title>Vrouwelijke en mannelijke geslachtsorganen</dc:title>
</cp:coreProperties>
</file>