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866-65A6-4600-A240-28678D84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0EF-8329-4B5A-9208-AC29E5C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D12-82E5-42C4-B43F-30AE06F1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92C-3ABA-4EB2-91C3-3D6BEEFD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4B19-02CD-4CE4-9292-94AE7898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71CC-6C9E-40DF-AE9F-76A5D1B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3A25-486B-4C3F-A4A5-78BDC8DA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8E80-A489-4D3B-B1B0-E59DBE80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F1E2-0D61-4CFE-B2D3-BE36A187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26B9-8310-40CC-BAE5-D581375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DD02-D0FA-473A-B2C7-052AB96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B32-F8F6-421B-B590-7E8641F5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970B-8396-444E-A839-F07EA16F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7C04-0B12-4637-9410-5C5D7EE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4CF0-4D35-4951-AF1E-7742FD50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0166-7D80-4C95-94ED-BE3EA0AE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C28D-AECC-4546-9614-B3D03957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0B8-29DF-496D-9B71-1DA68CB9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390-E31C-46BF-A97F-921DF2F1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5DA-83CE-4798-9E30-F6765613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91E-3B5E-463C-95A7-2D066CD2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A2C-4157-43AB-A8DA-1724CD46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5D8-8598-4D2D-AEBB-6F24E7F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4F8-7BB7-4B74-8075-28CB3B8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9B34-67D8-44E9-8CA4-7CF52B545003}" type="slidenum">
              <a:rPr b="0" lang="nl-N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EDDC-B9EE-4E80-B1C4-6CBED1508A94}" type="slidenum">
              <a:rPr b="0" lang="nl-N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eling bij de m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D:\Documents and Settings\bugelj\Mijn documenten\Mijn afbeeldingen\temp regeling\37graden.jpg"/>
          <p:cNvPicPr/>
          <p:nvPr/>
        </p:nvPicPr>
        <p:blipFill>
          <a:blip r:embed="rId1"/>
          <a:stretch/>
        </p:blipFill>
        <p:spPr>
          <a:xfrm>
            <a:off x="3581280" y="4495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ulat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Het centrum voor deze temperatuurregulatie zit in bepaalde delen va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ersensta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In dit centrum komt alle informatie van de thermosensoren binnen en volgt eventueel een rea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het blo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van het blo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 centrum i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de hu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in de hu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centr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Mens is 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Constante temperatuur van ongeveer 37 grad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Ook bij lage en hoge buitentemperatu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en optimale temperatuur voor de werking van enzymen en eiwit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D:\Documents and Settings\bugelj\Mijn documenten\Mijn afbeeldingen\temp regeling\warmbloedig_bestanden\NudN_ mens, zoogdier, warme en koude plekken op het menselijk lichaam, warmbloedig.jpeg"/>
          <p:cNvPicPr/>
          <p:nvPr/>
        </p:nvPicPr>
        <p:blipFill>
          <a:blip r:embed="rId1"/>
          <a:stretch/>
        </p:blipFill>
        <p:spPr>
          <a:xfrm>
            <a:off x="533520" y="2209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Documents and Settings\bugelj\Mijn documenten\Mijn afbeeldingen\temp regeling\omjs_olifant.jpg"/>
          <p:cNvPicPr/>
          <p:nvPr/>
        </p:nvPicPr>
        <p:blipFill>
          <a:blip r:embed="rId2"/>
          <a:stretch/>
        </p:blipFill>
        <p:spPr>
          <a:xfrm>
            <a:off x="3200400" y="2666880"/>
            <a:ext cx="5753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koud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0" name="Picture 3" descr="D:\Documents and Settings\bugelj\Mijn documenten\Mijn afbeeldingen\temp regeling\kikker.jpg"/>
          <p:cNvPicPr/>
          <p:nvPr/>
        </p:nvPicPr>
        <p:blipFill>
          <a:blip r:embed="rId1"/>
          <a:stretch/>
        </p:blipFill>
        <p:spPr>
          <a:xfrm>
            <a:off x="609480" y="2209680"/>
            <a:ext cx="3314880" cy="349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D:\Documents and Settings\bugelj\Mijn documenten\Mijn afbeeldingen\temp regeling\koudbloedig.jpg"/>
          <p:cNvPicPr/>
          <p:nvPr/>
        </p:nvPicPr>
        <p:blipFill>
          <a:blip r:embed="rId2"/>
          <a:stretch/>
        </p:blipFill>
        <p:spPr>
          <a:xfrm>
            <a:off x="4572000" y="3200400"/>
            <a:ext cx="4305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lichaamstemperatuu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Schil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de perifer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v handen en voet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28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Kern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het binnenste van het menselijk lichaa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37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Lever :39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te doen bij een te la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hoging van de activiteit in de cellen.Hierdoor geven de cellen meer warmte af,waardoor de temperatuur omhoog ga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mindering van huiddoorbloeding.Hierdoor ontsnapt er minder warmte naar buiten en hou  je de warmte binn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kled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doe je bij een te ho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Celactiviteit neemt af.Hierdoor krijg je een futloos gevo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oorbloeding van de huid neemt toe.Hierdoor een  toename van de warmte afgifte en zweetprodu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minder kle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verhoging oa do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Te warme douch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Spierarbe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4" descr="D:\Documents and Settings\bugelj\Mijn documenten\Mijn afbeeldingen\temp regeling\shower1.jpg"/>
          <p:cNvPicPr/>
          <p:nvPr/>
        </p:nvPicPr>
        <p:blipFill>
          <a:blip r:embed="rId1"/>
          <a:stretch/>
        </p:blipFill>
        <p:spPr>
          <a:xfrm>
            <a:off x="4876920" y="220968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Documents and Settings\bugelj\Mijn documenten\Mijn afbeeldingen\temp regeling\spieren.jpg"/>
          <p:cNvPicPr/>
          <p:nvPr/>
        </p:nvPicPr>
        <p:blipFill>
          <a:blip r:embed="rId2"/>
          <a:stretch/>
        </p:blipFill>
        <p:spPr>
          <a:xfrm>
            <a:off x="4191120" y="4648320"/>
            <a:ext cx="27064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a3d7a"/>
                </a:solidFill>
                <a:latin typeface="Times New Roman"/>
              </a:rPr>
              <a:t>Het lichaam geeft warmte af op de volgende 4 maniere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etere doorbloeding van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Uitstraling van warmte door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erdamping van zweet.Hiervoor is warmte nodig.Deze wordt aan de huid onttrokke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Door luchtstroming kan de warme lucht rond de huid weggevoerd wor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b:ventilator(Vergroot de kans op verkoudhei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38:11Z</dcterms:created>
  <dc:creator>custom</dc:creator>
  <dc:description/>
  <dc:language>en-US</dc:language>
  <cp:lastModifiedBy>J.W.P. Bugel</cp:lastModifiedBy>
  <dcterms:modified xsi:type="dcterms:W3CDTF">2013-03-07T09:19:17Z</dcterms:modified>
  <cp:revision>2</cp:revision>
  <dc:subject/>
  <dc:title>Temperatuurregeling bij de mens</dc:title>
</cp:coreProperties>
</file>