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9A5F4-8E8A-4A1B-8E48-2CCB8676147F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92A64-4D76-40FC-ADA6-FD0215346D4C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0DFA-5DCE-4F71-B728-EE077817C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9D2A-A179-42B7-B615-B6F48745B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C114-9D4E-4E3A-A9DC-E7E6DEF6E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DA89-A35F-4277-8B6E-535A0527F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53378-7D84-4E10-AF98-23C6FBB2D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32D27-F8E8-411E-A74B-D9DD49C2A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DC538-6AE9-4BE7-94AF-0478BF7B9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3551F-F992-4E11-AB9E-2FCF6829C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81E74-58C9-4B54-B6ED-BF67FE06F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2D537-4506-4925-8616-B59FC48FE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BB8A9-9266-4709-9B33-E76CA2519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85A0-AECF-459D-8774-65322A5C5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F4563-3051-4514-976D-72193A992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D3DBF-4B34-41F4-91C7-F1938A1C7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290F9-E643-41EB-8843-D0961BC73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0D327-8AF7-4F17-ACB9-BC638921C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E2E4A-78D2-4456-AC21-3CBB25978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5275-842D-4EB5-B0A0-61BF76265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FA82-F2E5-4505-90C8-FFA62A13B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41DD-6AA1-412E-9667-AC555D13F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D3DE-492F-4E8C-9CFF-6B99B12B3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9E9E-5FA6-4997-8731-4FD06E239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899A-3548-48C5-87F4-7B1EA2B07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31F2-4E7F-43CD-8443-BE8683CA7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ügel Noorderpoortcolle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6CBA3-4D2C-4086-8B6E-5C55EDD4CCEA}" type="slidenum">
              <a:rPr b="0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Line 8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Group 8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49" name="Rectangle 9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10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11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Rectangle 12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Line 13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Rectangle 14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ügel Noorderpoortcolle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DD999-B9E2-44AE-9074-6A2498A0133F}" type="slidenum">
              <a:rPr b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ügel Noorderpoortcolle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420000"/>
                </a:solidFill>
                <a:latin typeface="Times New Roman"/>
              </a:rPr>
              <a:t>Spijsvertering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765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olleg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420000"/>
                </a:solidFill>
                <a:latin typeface="Times New Roman"/>
              </a:rPr>
              <a:t>Functie van deze sappen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Het zo klein maken van de moleculen , dat deze opgenomen kunnen worden in het blo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ls de voedingsstoffen opgenomen zijn in het bloed, gaan deze eerst via de poortader naar de le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Hier worden deze lichaamsvreemde stoffen omgezet in lichaamseigen voedingsstoff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ijdelijke aanduiding voor voettekst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ügel Noorderpoortcolle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ijdelijke aanduiding voor voettekst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ügel Noorderpoortcolle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420000"/>
                </a:solidFill>
                <a:latin typeface="Times New Roman"/>
              </a:rPr>
              <a:t>Anatomie spijsverteringskanaal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1.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2.keelhol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3.slokd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4.ma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5.dar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6.dikke d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7.endeld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8.an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7" descr="spijsvertereing 3"/>
          <p:cNvPicPr/>
          <p:nvPr/>
        </p:nvPicPr>
        <p:blipFill>
          <a:blip r:embed="rId1"/>
          <a:stretch/>
        </p:blipFill>
        <p:spPr>
          <a:xfrm>
            <a:off x="5238720" y="2054160"/>
            <a:ext cx="2857680" cy="3849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0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9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ügel Noorderpoortcolle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420000"/>
                </a:solidFill>
                <a:latin typeface="Times New Roman"/>
              </a:rPr>
              <a:t>Mond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ermalen van het voeds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ermengen met speeksel(1 -1.5 liter per da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3 paar speekselklie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Toevoegen van </a:t>
            </a:r>
            <a:r>
              <a:rPr b="0" lang="nl-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amyl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e tong heeft smaakpapill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0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ügel Noorderpoortcolle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420000"/>
                </a:solidFill>
                <a:latin typeface="Times New Roman"/>
              </a:rPr>
              <a:t>keelholte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likreflex:de luchtweg naar de neus en luchtpijp is afgeslot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fsluiting naar neus:zachtgehemelte en 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hui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fsluiting naar luchtpijp:strottenkl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0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898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898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898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898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898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ijdelijke aanduiding voor voettekst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ügel Noorderpoortcolle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420000"/>
                </a:solidFill>
                <a:latin typeface="Times New Roman"/>
              </a:rPr>
              <a:t>Slokdarm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Transportbu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Peristaltische beweg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Picture 8" descr="slokdarmtekst_350"/>
          <p:cNvPicPr/>
          <p:nvPr/>
        </p:nvPicPr>
        <p:blipFill>
          <a:blip r:embed="rId1"/>
          <a:stretch/>
        </p:blipFill>
        <p:spPr>
          <a:xfrm>
            <a:off x="4788000" y="2060640"/>
            <a:ext cx="3098880" cy="30765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0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898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898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898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ijdelijke aanduiding voor voettekst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ügel Noorderpoortcolle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420000"/>
                </a:solidFill>
                <a:latin typeface="Times New Roman"/>
              </a:rPr>
              <a:t>Maag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1.tijdelijk reservo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2.secretie maags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3.ingang:maagmond   (cardi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4.uitgang:maagportier (pyloru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Picture 4" descr="maag_350"/>
          <p:cNvPicPr/>
          <p:nvPr/>
        </p:nvPicPr>
        <p:blipFill>
          <a:blip r:embed="rId1"/>
          <a:stretch/>
        </p:blipFill>
        <p:spPr>
          <a:xfrm>
            <a:off x="5003640" y="2114640"/>
            <a:ext cx="2881440" cy="2682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0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4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ügel Noorderpoortcolle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nl-NL" sz="3600" spc="-1" strike="noStrike">
                <a:solidFill>
                  <a:srgbClr val="420000"/>
                </a:solidFill>
                <a:latin typeface="Times New Roman"/>
              </a:rPr>
              <a:t>Samenstelling maagsap                 (2 liter per dag)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1.w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2.slijm(bescherming van de maagwan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3.zoutzuur(HC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4.pepsine(eiwitafbrekend enzy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0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2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20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20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20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ügel Noorderpoortcolle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420000"/>
                </a:solidFill>
                <a:latin typeface="Times New Roman"/>
              </a:rPr>
              <a:t>Pylorusreflex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e pylorus(maagportier)laat beetje bij beetje de maaginhoud toe tot de twaalfvingerige da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nwillekeurige sp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oor het basisch worden van de darminhoud gaat de pylorus op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nodeType="clickEffect" fill="hold">
                      <p:stCondLst>
                        <p:cond delay="0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1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6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1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ügel Noorderpoortcolle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420000"/>
                </a:solidFill>
                <a:latin typeface="Times New Roman"/>
              </a:rPr>
              <a:t>darmen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63" name="Picture 4" descr="dunne darm"/>
          <p:cNvPicPr/>
          <p:nvPr/>
        </p:nvPicPr>
        <p:blipFill>
          <a:blip r:embed="rId1"/>
          <a:stretch/>
        </p:blipFill>
        <p:spPr>
          <a:xfrm>
            <a:off x="2587680" y="1828800"/>
            <a:ext cx="3973320" cy="43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ijdelijke aanduiding voor voettekst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ügel Noorderpoortcolle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420000"/>
                </a:solidFill>
                <a:latin typeface="Times New Roman"/>
              </a:rPr>
              <a:t>Darmen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1.twaalfvingerige darm(duodenum)= ong.30 cm la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2.nuchtere darm(jejunum)= ong.250 cm la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3.kronkeldarm(ileum)= ong.350 cm la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Picture 4" descr="12 vingerige"/>
          <p:cNvPicPr/>
          <p:nvPr/>
        </p:nvPicPr>
        <p:blipFill>
          <a:blip r:embed="rId1"/>
          <a:stretch/>
        </p:blipFill>
        <p:spPr>
          <a:xfrm>
            <a:off x="4859280" y="1974960"/>
            <a:ext cx="3673440" cy="33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nodeType="clickEffect" fill="hold">
                      <p:stCondLst>
                        <p:cond delay="0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ügel Noorderpoortcolle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420000"/>
                </a:solidFill>
                <a:latin typeface="Times New Roman"/>
              </a:rPr>
              <a:t>Levend organisme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erliest vocht en voed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Hiervoor is aanvulling nodi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us eten en drin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ügel Noorderpoortcolle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420000"/>
                </a:solidFill>
                <a:latin typeface="Times New Roman"/>
              </a:rPr>
              <a:t>Samenstelling darmsap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W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lij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Eripsine(splitsing eiwitten tot aminozure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isacharidasen(splitsing van suikers tot monosacharide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2-3 liter per da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nodeType="clickEffect" fill="hold">
                      <p:stCondLst>
                        <p:cond delay="0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ügel Noorderpoortcolle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420000"/>
                </a:solidFill>
                <a:latin typeface="Times New Roman"/>
              </a:rPr>
              <a:t>Twaalfvingerige darm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e galbuis en de alvleesklierbuis komen uit in de twaalfvingerige dar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Plaats:papil van Vater(een spiertje zorgt er voor dat de darminhoud niet terug stroomt naar alvleesklier en galblaa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e galbuis en alvleesklierbuis transporteren gal en alvleeskliersap naar de twaalfvingerige da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nodeType="clickEffect" fill="hold">
                      <p:stCondLst>
                        <p:cond delay="0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ügel Noorderpoortcolle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420000"/>
                </a:solidFill>
                <a:latin typeface="Times New Roman"/>
              </a:rPr>
              <a:t>Gal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Gemaakt in de le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pgeslagen in de galblaas(vesica felle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ia de ductus choledochus naar de twaalfvingerige da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0.75 liter per da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nodeType="clickEffect" fill="hold">
                      <p:stCondLst>
                        <p:cond delay="0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2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20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20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20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12" dur="1" fill="hold"/>
                                  <p:tgtEl>
                                    <p:spTgt spid="17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ügel Noorderpoortcolle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420000"/>
                </a:solidFill>
                <a:latin typeface="Times New Roman"/>
              </a:rPr>
              <a:t>Samenstelling gal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W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lij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NaHCO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Galzou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Cholesto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Galkleursto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nodeType="clickEffect" fill="hold">
                      <p:stCondLst>
                        <p:cond delay="0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4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9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4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9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4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9" dur="5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ügel Noorderpoortcolle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420000"/>
                </a:solidFill>
                <a:latin typeface="Times New Roman"/>
              </a:rPr>
              <a:t>Samenstelling alvleeskliersap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W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lij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mylase(afbreken koolhydrate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Tripsyne(afbreken eiwitte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Lipase(afbreken ve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Natriumbicarbonaat(NaHCO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1 liter per da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nodeType="clickEffect" fill="hold">
                      <p:stCondLst>
                        <p:cond delay="0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ügel Noorderpoortcolle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420000"/>
                </a:solidFill>
                <a:latin typeface="Times New Roman"/>
              </a:rPr>
              <a:t>Alvleesklier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85" name="Picture 4" descr="alvleesklier"/>
          <p:cNvPicPr/>
          <p:nvPr/>
        </p:nvPicPr>
        <p:blipFill>
          <a:blip r:embed="rId1"/>
          <a:stretch/>
        </p:blipFill>
        <p:spPr>
          <a:xfrm>
            <a:off x="4716360" y="1773360"/>
            <a:ext cx="324036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ijdelijke aanduiding voor voettekst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ügel Noorderpoortcolle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420000"/>
                </a:solidFill>
                <a:latin typeface="Times New Roman"/>
              </a:rPr>
              <a:t>Officiele latijnse termen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Ductus choledochus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= galbu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Ductus pancreaticus= alvleesklierbu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Pancreas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= alvleeskl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Picture 4" descr="ductus pancreas"/>
          <p:cNvPicPr/>
          <p:nvPr/>
        </p:nvPicPr>
        <p:blipFill>
          <a:blip r:embed="rId1"/>
          <a:stretch/>
        </p:blipFill>
        <p:spPr>
          <a:xfrm>
            <a:off x="4788000" y="1994040"/>
            <a:ext cx="3671640" cy="38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nodeType="clickEffect" fill="hold">
                      <p:stCondLst>
                        <p:cond delay="0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5" dur="2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0" dur="20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5" dur="20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ügel Noorderpoortcolle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420000"/>
                </a:solidFill>
                <a:latin typeface="Times New Roman"/>
              </a:rPr>
              <a:t>Nuchtere darm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Taak:verder transporteren van de darminhou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Taak:verder afbreken van de voedingsstoff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Is meestal leeg bij een overledene(vandaar de naa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nodeType="clickEffect" fill="hold">
                      <p:stCondLst>
                        <p:cond delay="0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7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7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ügel Noorderpoortcolle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420000"/>
                </a:solidFill>
                <a:latin typeface="Times New Roman"/>
              </a:rPr>
              <a:t>Kronkeldarm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Is het belangrijkste deel van de spijsverteringskanaal.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-de verteerde voedingsstoffen word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ia de darmwand aan het blo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fgegev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-hierdoor kan het lichaam dez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oedingsstoffen gebruik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nodeType="clickEffect" fill="hold">
                      <p:stCondLst>
                        <p:cond delay="0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9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4" dur="5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9" dur="5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nodeType="clickEffect" fill="hold">
                      <p:stCondLst>
                        <p:cond delay="indefinite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4" dur="50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9" dur="50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ügel Noorderpoortcolle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420000"/>
                </a:solidFill>
                <a:latin typeface="Times New Roman"/>
              </a:rPr>
              <a:t>Poortader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l het bloed met de opgenomen voedingsstoffen verzamelt zich in de poortader(vena porta) en gaat dan naar de lev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Hier worden de voedingsstoffen omgezet in stoffen die het lichaam kan gebruik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nodeType="clickEffect" fill="hold">
                      <p:stCondLst>
                        <p:cond delay="0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6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2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6" dur="20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ügel Noorderpoortcolle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420000"/>
                </a:solidFill>
                <a:latin typeface="Times New Roman"/>
              </a:rPr>
              <a:t>Zorgvragers vragen speciale aandacht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1.Moeten verantwoorde voeding krij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2.Hebben soms hulp hierbij nodi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3.Bijhouden van de vochtbal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4.Kans op ondervoeding/uitdrog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ügel Noorderpoortcolle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420000"/>
                </a:solidFill>
                <a:latin typeface="Times New Roman"/>
              </a:rPr>
              <a:t>Waar zit de poortader?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201" name="Picture 4" descr="poortader=4"/>
          <p:cNvPicPr/>
          <p:nvPr/>
        </p:nvPicPr>
        <p:blipFill>
          <a:blip r:embed="rId1"/>
          <a:stretch/>
        </p:blipFill>
        <p:spPr>
          <a:xfrm>
            <a:off x="3381480" y="1828800"/>
            <a:ext cx="2381040" cy="43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nodeType="clickEffect" fill="hold">
                      <p:stCondLst>
                        <p:cond delay="0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15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15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ügel Noorderpoortcolle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420000"/>
                </a:solidFill>
                <a:latin typeface="Times New Roman"/>
              </a:rPr>
              <a:t>Waar zit de lever?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204" name="Picture 4" descr="Maag"/>
          <p:cNvPicPr/>
          <p:nvPr/>
        </p:nvPicPr>
        <p:blipFill>
          <a:blip r:embed="rId1"/>
          <a:stretch/>
        </p:blipFill>
        <p:spPr>
          <a:xfrm>
            <a:off x="2103480" y="1828800"/>
            <a:ext cx="4937040" cy="4302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nodeType="clickEffect" fill="hold">
                      <p:stCondLst>
                        <p:cond delay="0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ügel Noorderpoortcolle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420000"/>
                </a:solidFill>
                <a:latin typeface="Times New Roman"/>
              </a:rPr>
              <a:t>Overgang kronkeldarm–dikke darm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207" name="Picture 7" descr="overgang dikke darm"/>
          <p:cNvPicPr/>
          <p:nvPr/>
        </p:nvPicPr>
        <p:blipFill>
          <a:blip r:embed="rId1"/>
          <a:stretch/>
        </p:blipFill>
        <p:spPr>
          <a:xfrm>
            <a:off x="3059280" y="2265480"/>
            <a:ext cx="3282840" cy="36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nodeType="clickEffect" fill="hold">
                      <p:stCondLst>
                        <p:cond delay="0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ügel Noorderpoortcolle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420000"/>
                </a:solidFill>
                <a:latin typeface="Times New Roman"/>
              </a:rPr>
              <a:t>Dikke darm (Colon)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oort stuwen van de darmmas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Indikken van deze mas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Terugresorptie van w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erteren van onverteerbare res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Productie vitamine 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Productie metha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nodeType="clickEffect" fill="hold">
                      <p:stCondLst>
                        <p:cond delay="0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nodeType="clickEffect" fill="hold">
                      <p:stCondLst>
                        <p:cond delay="indefinite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ügel Noorderpoortcolle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420000"/>
                </a:solidFill>
                <a:latin typeface="Times New Roman"/>
              </a:rPr>
              <a:t>Dikke darm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213" name="Picture 10" descr="endeldarm"/>
          <p:cNvPicPr/>
          <p:nvPr/>
        </p:nvPicPr>
        <p:blipFill>
          <a:blip r:embed="rId1"/>
          <a:stretch/>
        </p:blipFill>
        <p:spPr>
          <a:xfrm>
            <a:off x="2333520" y="2052720"/>
            <a:ext cx="4649760" cy="40669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747" dur="indefinite" restart="never" nodeType="tmRoot">
          <p:childTnLst>
            <p:seq>
              <p:cTn id="748" dur="indefinite" nodeType="mainSeq">
                <p:childTnLst>
                  <p:par>
                    <p:cTn id="749" nodeType="clickEffect" fill="hold">
                      <p:stCondLst>
                        <p:cond delay="0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7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ijdelijke aanduiding voor voettekst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ügel Noorderpoortcolle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420000"/>
                </a:solidFill>
                <a:latin typeface="Times New Roman"/>
              </a:rPr>
              <a:t>Endeldarm(rectum)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35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Opslagplaa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Verder indikken van de mas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Picture 4" descr="Colon2"/>
          <p:cNvPicPr/>
          <p:nvPr/>
        </p:nvPicPr>
        <p:blipFill>
          <a:blip r:embed="rId1"/>
          <a:stretch/>
        </p:blipFill>
        <p:spPr>
          <a:xfrm>
            <a:off x="4950000" y="2112840"/>
            <a:ext cx="3439800" cy="3733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58" dur="indefinite" restart="never" nodeType="tmRoot">
          <p:childTnLst>
            <p:seq>
              <p:cTn id="759" dur="indefinite" nodeType="mainSeq">
                <p:childTnLst>
                  <p:par>
                    <p:cTn id="760" nodeType="clickEffect" fill="hold">
                      <p:stCondLst>
                        <p:cond delay="0"/>
                      </p:stCondLst>
                      <p:childTnLst>
                        <p:par>
                          <p:cTn id="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nodeType="clickEffect" fill="hold">
                      <p:stCondLst>
                        <p:cond delay="indefinite"/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ügel Noorderpoortcolle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420000"/>
                </a:solidFill>
                <a:latin typeface="Times New Roman"/>
              </a:rPr>
              <a:t>Anus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armope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estaat uit 2 sluitspieren(sfincter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Uitwendi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willekeuri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Inwendi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onwillekeuri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nodeType="clickEffect" fill="hold">
                      <p:stCondLst>
                        <p:cond delay="0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783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nodeType="clickEffect" fill="hold">
                      <p:stCondLst>
                        <p:cond delay="indefinite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8" dur="10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898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6" dur="10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898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2" dur="10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898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8" dur="10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9" dur="10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898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4" dur="1000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898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0" dur="1000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898" fill="hold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ügel Noorderpoortcolle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420000"/>
                </a:solidFill>
                <a:latin typeface="Times New Roman"/>
              </a:rPr>
              <a:t>Defecatie proces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In rust is de rectumwand ontspannen en is de inwendige sluitspier aangespann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Bij een bepaalde vullingsgraad van het rectum worden reksensoren geprikkl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De inwendige sluitspier ontspant en tegelijkertijd spant zich de uitwendige sluitsp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Op een geschikt moment kan defecatie plaats vind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ijdelijke aanduiding voor voettekst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ügel Noorderpoortcolle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420000"/>
                </a:solidFill>
                <a:latin typeface="Times New Roman"/>
              </a:rPr>
              <a:t>Spijsvertering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Systeem van afbraak en opname van voedingsstoffen in ons licha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darmstelsel"/>
          <p:cNvPicPr/>
          <p:nvPr/>
        </p:nvPicPr>
        <p:blipFill>
          <a:blip r:embed="rId1"/>
          <a:stretch/>
        </p:blipFill>
        <p:spPr>
          <a:xfrm>
            <a:off x="5478480" y="2622600"/>
            <a:ext cx="2379600" cy="27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ügel Noorderpoortcolle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420000"/>
                </a:solidFill>
                <a:latin typeface="Times New Roman"/>
              </a:rPr>
              <a:t>Noodzakelijke voedingsstoffen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1.koolhydra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2.vet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3.eiwit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4.w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5.vitamin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6.mineral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4" descr="Beschuit_40_kcal_2"/>
          <p:cNvPicPr/>
          <p:nvPr/>
        </p:nvPicPr>
        <p:blipFill>
          <a:blip r:embed="rId1"/>
          <a:stretch/>
        </p:blipFill>
        <p:spPr>
          <a:xfrm>
            <a:off x="4724280" y="2362320"/>
            <a:ext cx="36576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420000"/>
                </a:solidFill>
                <a:latin typeface="Times New Roman"/>
              </a:rPr>
              <a:t>Noodzakelijke voedings en bouwstoffen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Bouwstoff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Dienen voor opbouw nieuwe cellen en groe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4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Wa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4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Mineral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4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Eiwitten (aminozure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4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Vitaminen (co enzy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Voedingsstoff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Dienen als energieleveranc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4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Koolhydra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4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Eiwit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4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V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ijdelijke aanduiding voor voettekst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ügel Noorderpoortcolle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ügel Noorderpoortcolle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420000"/>
                </a:solidFill>
                <a:latin typeface="Times New Roman"/>
              </a:rPr>
              <a:t>Aantal calorieen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4" descr="calorien"/>
          <p:cNvPicPr/>
          <p:nvPr/>
        </p:nvPicPr>
        <p:blipFill>
          <a:blip r:embed="rId1"/>
          <a:stretch/>
        </p:blipFill>
        <p:spPr>
          <a:xfrm>
            <a:off x="3276720" y="1828800"/>
            <a:ext cx="26668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ügel Noorderpoortcolle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420000"/>
                </a:solidFill>
                <a:latin typeface="Times New Roman"/>
              </a:rPr>
              <a:t>Schijf van vijf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4" descr="schijfvvijf"/>
          <p:cNvPicPr/>
          <p:nvPr/>
        </p:nvPicPr>
        <p:blipFill>
          <a:blip r:embed="rId1"/>
          <a:stretch/>
        </p:blipFill>
        <p:spPr>
          <a:xfrm>
            <a:off x="2438280" y="1981080"/>
            <a:ext cx="4505400" cy="45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J Bügel Noorderpoortcolle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420000"/>
                </a:solidFill>
                <a:latin typeface="Times New Roman"/>
              </a:rPr>
              <a:t>Spijsvertering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55400" indent="-4554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Kleiner maken van de grote voedingsmolecul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5400" indent="-4554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oor het kleiner maken van deze moleculen produceert het lichaam een aantal sappen die dit proces volbren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36680" indent="-45396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Speek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36680" indent="-45396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Maags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36680" indent="-45396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Darms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36680" indent="-45396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Alvleeskliers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36680" indent="-45396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G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5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5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5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30T20:03:46Z</dcterms:created>
  <dc:creator> Bugel</dc:creator>
  <dc:description/>
  <dc:language>en-US</dc:language>
  <cp:lastModifiedBy>J.W.P. Bugel</cp:lastModifiedBy>
  <dcterms:modified xsi:type="dcterms:W3CDTF">2014-12-04T19:13:23Z</dcterms:modified>
  <cp:revision>18</cp:revision>
  <dc:subject/>
  <dc:title>Spijsvertering</dc:title>
</cp:coreProperties>
</file>