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145-F2FD-4AEC-A564-E31CFC7C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ED5-639A-4275-8070-624C1926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9C7-75F2-4294-9D5E-2E270BAC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EF2-6FA6-4B41-8D2D-D7008B88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BA8D-0100-4FDA-8420-5E0BA894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91B7-2790-4109-B2E3-BF055F7B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BEA8-3D94-4F11-B7DB-0758B1E6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03D7-AED6-4969-B271-4D2ACC9F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EFF7-75EB-4220-BEB7-BB8CC598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124E-7411-4308-989B-854510D8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5525-6524-493F-9DCC-AAC622E3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E8E-9CDD-4786-85F2-FDD1A588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9FDF-69B4-41A5-B781-BD6F1D77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9241-F0DB-43D2-B9D5-1B860262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BCE5-4B73-4235-B518-BB8D061D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F213-DCD0-419C-8689-787FF675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8ABB-2C8C-40E4-8999-9A6C8956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8D8-4B16-4BEF-A0FD-DE2E2297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502-CE82-403A-B7E9-5B6EF8CC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AEA-F19A-4AB5-9DEE-7224DB24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B4B-320F-475A-8AE7-11D12111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CB2-8ACC-4E48-B466-1746F872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2A3-1341-4A82-A150-524B774D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6D2-E9CC-4E7E-9EA1-DF24CDAF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CB99-41A8-4E65-9C1C-460FE70492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8568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3360" y="274464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7120" y="2642760"/>
                <a:ext cx="9885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16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5360" y="2690640"/>
                <a:ext cx="988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1920" y="264888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948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532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FB06-2044-4328-9543-7FDA027F0C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3366"/>
                </a:solidFill>
                <a:latin typeface="Times New Roman"/>
              </a:rPr>
              <a:t>Spieren en spierstelsel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Tijdelijke aanduiding voor inhoud 3" descr="synaps_et_spier.jpg"/>
          <p:cNvPicPr/>
          <p:nvPr/>
        </p:nvPicPr>
        <p:blipFill>
          <a:blip r:embed="rId1"/>
          <a:stretch/>
        </p:blipFill>
        <p:spPr>
          <a:xfrm>
            <a:off x="2201760" y="2254320"/>
            <a:ext cx="57150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terkte van de spiercontract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Impulsfrequ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pier krijgt door de hoge frequentie geen tijd om zich te ont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gn stapeling van contrac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Aantal motor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een grotere stimulus van uit de hersenen worden er  meer spieren ingez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lad spierweefs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geren t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al in de wand van org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Afbeelding 3" descr="gladspier.jpg"/>
          <p:cNvPicPr/>
          <p:nvPr/>
        </p:nvPicPr>
        <p:blipFill>
          <a:blip r:embed="rId1"/>
          <a:stretch/>
        </p:blipFill>
        <p:spPr>
          <a:xfrm>
            <a:off x="5214960" y="4381560"/>
            <a:ext cx="2428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Hart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 hiervan lijkt op dat van het dwarsgestreepte spierweef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3" descr="hartspier.jpg"/>
          <p:cNvPicPr/>
          <p:nvPr/>
        </p:nvPicPr>
        <p:blipFill>
          <a:blip r:embed="rId1"/>
          <a:stretch/>
        </p:blipFill>
        <p:spPr>
          <a:xfrm>
            <a:off x="5000760" y="3786120"/>
            <a:ext cx="350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ynerg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der spieren die samen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boven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ekspieren van de 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de b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spieren die met elkaar een beweging mogelij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ene spier aanspant,ontspant de ander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b: biceps en tr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2 spieren zorgen voor de buiging en strekking van de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e bekendste 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D:\Documents and Settings\bugelj\Mijn documenten\Mijn afbeeldingen\spiers34.jpg"/>
          <p:cNvPicPr/>
          <p:nvPr/>
        </p:nvPicPr>
        <p:blipFill>
          <a:blip r:embed="rId1"/>
          <a:stretch/>
        </p:blipFill>
        <p:spPr>
          <a:xfrm>
            <a:off x="838080" y="1905120"/>
            <a:ext cx="2724120" cy="40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D:\Documents and Settings\bugelj\Mijn documenten\Mijn afbeeldingen\spieren2.jpg"/>
          <p:cNvPicPr/>
          <p:nvPr/>
        </p:nvPicPr>
        <p:blipFill>
          <a:blip r:embed="rId2"/>
          <a:stretch/>
        </p:blipFill>
        <p:spPr>
          <a:xfrm>
            <a:off x="3500280" y="1857240"/>
            <a:ext cx="4086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spanning/ton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rust heeft lichaam een bepaalde spier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t voor de handhav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spasticiteit is de rusttonus te 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erme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alys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niet bewust kunnen aansp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wel kunnen aanspannen,maar geen kr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a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hyper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atrof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Tijdelijke aanduiding voor inhoud 3" descr="spieratrofie.jpg"/>
          <p:cNvPicPr/>
          <p:nvPr/>
        </p:nvPicPr>
        <p:blipFill>
          <a:blip r:embed="rId1"/>
          <a:stretch/>
        </p:blipFill>
        <p:spPr>
          <a:xfrm>
            <a:off x="1928880" y="2071800"/>
            <a:ext cx="2500200" cy="1919160"/>
          </a:xfrm>
          <a:prstGeom prst="rect">
            <a:avLst/>
          </a:prstGeom>
          <a:ln w="0">
            <a:noFill/>
          </a:ln>
        </p:spPr>
      </p:pic>
      <p:pic>
        <p:nvPicPr>
          <p:cNvPr id="172" name="Afbeelding 4" descr="spieratrofie1.jpg"/>
          <p:cNvPicPr/>
          <p:nvPr/>
        </p:nvPicPr>
        <p:blipFill>
          <a:blip r:embed="rId2"/>
          <a:stretch/>
        </p:blipFill>
        <p:spPr>
          <a:xfrm>
            <a:off x="5500800" y="264312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aak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ndhoud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bewe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erming  botten en inge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en van de 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verzicht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D:\Documents and Settings\bugelj\Mijn documenten\Mijn afbeeldingen\spieren.jpg"/>
          <p:cNvPicPr/>
          <p:nvPr/>
        </p:nvPicPr>
        <p:blipFill>
          <a:blip r:embed="rId1"/>
          <a:stretch/>
        </p:blipFill>
        <p:spPr>
          <a:xfrm>
            <a:off x="1523880" y="1752480"/>
            <a:ext cx="6400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en kunnen maar 2 ding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lles of niets reg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beweging ontstaat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wisselend aanspannen en ontspannen van de sp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oorten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warsgestreept/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s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mo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d/on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in de org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za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rmoei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ur lijkt op dat van dwarsgestre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glad spierweef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een skelet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en aan het bot vast dmv een p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 beweging mogelijk door contra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llekeurig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activeerd door een motorische zen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zenuw komt vanuit de hers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Tijdelijke aanduiding voor inhoud 3" descr="spiee.jpg"/>
          <p:cNvPicPr/>
          <p:nvPr/>
        </p:nvPicPr>
        <p:blipFill>
          <a:blip r:embed="rId1"/>
          <a:stretch/>
        </p:blipFill>
        <p:spPr>
          <a:xfrm>
            <a:off x="1403280" y="2708280"/>
            <a:ext cx="2306880" cy="2306520"/>
          </a:xfrm>
          <a:prstGeom prst="rect">
            <a:avLst/>
          </a:prstGeom>
          <a:ln w="0">
            <a:noFill/>
          </a:ln>
        </p:spPr>
      </p:pic>
      <p:pic>
        <p:nvPicPr>
          <p:cNvPr id="140" name="Afbeelding 3" descr="dwarsgestreep.jpg"/>
          <p:cNvPicPr/>
          <p:nvPr/>
        </p:nvPicPr>
        <p:blipFill>
          <a:blip r:embed="rId2"/>
          <a:stretch/>
        </p:blipFill>
        <p:spPr>
          <a:xfrm>
            <a:off x="4356000" y="2781360"/>
            <a:ext cx="30322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pbouw van de 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vez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bu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mgeven door bindweef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omgeven door een bindweefselv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fas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ezels van de fascie komen uit in de pees,die de spier verbindt met het 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Afbeelding 3" descr="spier1.jpg"/>
          <p:cNvPicPr/>
          <p:nvPr/>
        </p:nvPicPr>
        <p:blipFill>
          <a:blip r:embed="rId1"/>
          <a:stretch/>
        </p:blipFill>
        <p:spPr>
          <a:xfrm>
            <a:off x="6443640" y="1341360"/>
            <a:ext cx="21495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Tijdelijke aanduiding voor inhoud 3" descr="spier.jpg"/>
          <p:cNvPicPr/>
          <p:nvPr/>
        </p:nvPicPr>
        <p:blipFill>
          <a:blip r:embed="rId1"/>
          <a:stretch/>
        </p:blipFill>
        <p:spPr>
          <a:xfrm>
            <a:off x="2509920" y="2065320"/>
            <a:ext cx="5086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 bestaat uit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torische zen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motorische zenuw aan gestuurde spiervez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rootte van de mototische unit  vari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laats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d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en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9:23:09Z</dcterms:created>
  <dc:creator>custom</dc:creator>
  <dc:description/>
  <dc:language>en-US</dc:language>
  <cp:lastModifiedBy>J.W.P. Bugel</cp:lastModifiedBy>
  <dcterms:modified xsi:type="dcterms:W3CDTF">2012-03-22T10:34:41Z</dcterms:modified>
  <cp:revision>13</cp:revision>
  <dc:subject/>
  <dc:title>Spieren en spierstelsel</dc:title>
</cp:coreProperties>
</file>