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54BA-0F92-4373-B58A-C0CAFF1C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D7B4-2AB5-4B3A-8B0E-8697C8EC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6EDF-217F-4137-8976-6FB42AC6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CD2D-0BD7-496B-B269-E69099E1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29F5-1A8F-4BE0-A36F-DDEC9692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900D-56F2-4B2E-B8CB-375F8076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1AC8-4BD4-4F70-9EE7-8FED3F8C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34D0-9D42-4057-AC7C-1006666A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8731-12EE-4F44-8D70-C72652BF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E1F0-1CC5-4B95-AF6D-37615A27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1B04-A044-4D58-9FD2-AF081B84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11DA-9797-40EE-A551-4DEFEDA5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50C5-25A4-4A35-A80C-79FB62A1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FFD1-0391-4276-87F1-9DEFB9A3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C1D8-FE2F-4BC3-B655-68AFB3EC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A532-D894-4A90-B775-1833FA60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C847-1A75-4C59-B173-0C9296E9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4B5B-7272-4032-8FA8-31143C71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3DB9-AA37-4094-AE8C-CE2BCA27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E542-C5F1-4A13-86B1-C4FC8567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171F-5EFF-45A9-A06A-9B0DD757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9F8E-0646-425D-A2C3-8C9B4314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9ED5-BB16-4850-9B16-2E3449EA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58EE-229A-495C-AC7F-52A7A492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17E8-8B2D-42D4-8F37-5D37BA5E4FBF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D482-40E1-4B28-935F-8A60C599B777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709640"/>
            <a:ext cx="76230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Vrouwelijke en mannelijke geslachtsorgan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inwend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uitwend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omment 4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usto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nnelijke geslachtsorga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wen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pen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zaadb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bijb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wen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zaadblaas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prost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klieren van Cowp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nnelijke geslachtorga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Picture 6" descr="prostaat"/>
          <p:cNvPicPr/>
          <p:nvPr/>
        </p:nvPicPr>
        <p:blipFill>
          <a:blip r:embed="rId1"/>
          <a:stretch/>
        </p:blipFill>
        <p:spPr>
          <a:xfrm>
            <a:off x="1795320" y="1600200"/>
            <a:ext cx="5553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en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rinebuis(urethr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wellichamen(2 bovenste en 1 onders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sexuele prikkels neemt de bloedtoevoer toe en de bloedafvoer a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erdoor een erectie van de pe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ik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de verwijding van het onderste zwellicha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hu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een losse huidploo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n terug geschoven wo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ms weggehaald(besnijdenis/circumsici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adballen(teste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ggen in een huidplooi(scrotu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angen aan de zaadstre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oduceren zaadce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oduceren testoster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muleert de ontwikkeling van secundaire geslachtskenmerken(zie blz 47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muleert de productie van zaadcellen en prostaat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muleert de aanmaak van spiermass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ijballen(epididymi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ggen achter de zaadb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en voor de verdere rijping van de in de zaadballen gevormde zaadce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een opslagruimte voor zaadcell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zaadcellen zijn 3 weken te bewa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adleiders en zaadblaasj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zaadleider is de verbinding tussen bijbal en urinebuis en zorgt voor het transport van de zaadc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zaadblaasjes produceren zaadvloeistof voor de voeding van de zaadcellen en deze vloeistof komt uit in de zaadle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erma bestaat voor 99% uit zaadvloeistof en voor 1% uit zaadcellen(spermatozöid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grootste deel van spermavloeistof wordt gemaakt do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aadblaasjes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st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eren van Cowper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-329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wtgrote klieren die een dik en kleverig slijm ma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-329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lijm is basisch en neutraliseert het zure milieu van de plasb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rosta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Picture 4" descr="ProstaatvergrotingPlaatje"/>
          <p:cNvPicPr/>
          <p:nvPr/>
        </p:nvPicPr>
        <p:blipFill>
          <a:blip r:embed="rId1"/>
          <a:stretch/>
        </p:blipFill>
        <p:spPr>
          <a:xfrm>
            <a:off x="2700360" y="1822320"/>
            <a:ext cx="410364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rosta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gt rondom het 1e gedeelte van de urinebu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 groot als een kasta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de producent van zaadvloeist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rostaatvergrot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s op vergroting bij alle ma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erdoor kunnen zich problemen voor doen bi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lass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aadloz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rostaatkank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s de nr 2 op de lijst van tumoren bij man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al na je 50e ja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roeit langza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tumor-beperkt-tot-prostaat"/>
          <p:cNvPicPr/>
          <p:nvPr/>
        </p:nvPicPr>
        <p:blipFill>
          <a:blip r:embed="rId1"/>
          <a:stretch/>
        </p:blipFill>
        <p:spPr>
          <a:xfrm>
            <a:off x="4140360" y="2421000"/>
            <a:ext cx="5003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rouwelijke geslachtsorganen</a:t>
            </a:r>
            <a:br>
              <a:rPr sz="4200"/>
            </a:br>
            <a:br>
              <a:rPr sz="4200"/>
            </a:b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Inwendi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iersto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ilei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aarmoe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gi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Impoten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9" name="Picture 4" descr="poster impotentie"/>
          <p:cNvPicPr/>
          <p:nvPr/>
        </p:nvPicPr>
        <p:blipFill>
          <a:blip r:embed="rId1"/>
          <a:stretch/>
        </p:blipFill>
        <p:spPr>
          <a:xfrm>
            <a:off x="3459240" y="1844640"/>
            <a:ext cx="24415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Impoten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het onvermogen om een erectie te krijgen of te handha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oor medicatie(bv morf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oor vergiftiging(bv alcohol/drugs/nicot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oor verandering van de hormoonhuishou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nder testoster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erdoor vaak een afname van de geslachtsdr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Oplossing????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5" name="Picture 4" descr="Viagra"/>
          <p:cNvPicPr/>
          <p:nvPr/>
        </p:nvPicPr>
        <p:blipFill>
          <a:blip r:embed="rId1"/>
          <a:stretch/>
        </p:blipFill>
        <p:spPr>
          <a:xfrm>
            <a:off x="3071880" y="1770120"/>
            <a:ext cx="3000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rouwelijke geslachtsorga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vrouwgeslachts"/>
          <p:cNvPicPr/>
          <p:nvPr/>
        </p:nvPicPr>
        <p:blipFill>
          <a:blip r:embed="rId1"/>
          <a:stretch/>
        </p:blipFill>
        <p:spPr>
          <a:xfrm>
            <a:off x="1371600" y="2057400"/>
            <a:ext cx="60958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         </a:t>
            </a: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Eierstokken(ovaria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gging:in de buikhol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mandelvorm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5-4.5 cm lang en 1- 2 cm bre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oel:ontwikkeling van een maandelijkse eicel en de geslachtshormo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Eileider (tuba uterina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de verbinding tussen eierstok en baarmo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ongeveer 10 cm 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gt als het ware het eitje op en zorgt voor vervoer naar de baarmo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 vindt de conceptie pla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vruchte eicel verplaatst zich naar de baarmoeder(doet daar 5 dagen o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t bevruchte cel  wordt afgevoerd door de eileiderwand h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aarmoeder (uteru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vorm van een omgekeerde 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 cm bij 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vruchte cel nestelt zich in de baarmoederw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ehele baarmoeder is meestal naar voren gebogen en ligt hierdoor op de urinebl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ste deel van de baarmoeder is de baarmoederhals (cervix) en steekt uit in het achterste gedeelte van de vag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olte in de baarmoederhals noem je het cervixkan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e boek blz 4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agin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en kanaal van ong. 8 cm en is verbinding tussen baarmoeder en buiten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paringsorga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eft een lage ph waarde(is zuu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omt van de melkzuur, afgescheiden door de Döderlein-bacill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waarde geeft bescherming tegen infec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s funest voor zaadcellen(zijn neutraal/alkalisc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Uitwendige geslachtsorga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ul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ote schaamlipp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leine schaamlipp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litor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h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aamheu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ns7_vulva"/>
          <p:cNvPicPr/>
          <p:nvPr/>
        </p:nvPicPr>
        <p:blipFill>
          <a:blip r:embed="rId1"/>
          <a:stretch/>
        </p:blipFill>
        <p:spPr>
          <a:xfrm>
            <a:off x="4572000" y="2590920"/>
            <a:ext cx="45720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ulv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schaamlippen (labia majo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wee behaarde,dikke huidploo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vatten veel onderhuidsvetweefsel en kl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nusheuvel (mons vener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dikking aan voorkant vu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eine schaamlippen (labis mino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ggen binnen de grote schaamli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hof (vestibul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gdenvlies sluit voorhof gedeeltelijk of geheel 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ttelaar (clitor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er dicht bezet met senso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9:08:11Z</dcterms:created>
  <dc:creator>custom</dc:creator>
  <dc:description/>
  <dc:language>en-US</dc:language>
  <cp:lastModifiedBy>J.W.P. Bugel</cp:lastModifiedBy>
  <dcterms:modified xsi:type="dcterms:W3CDTF">2015-05-29T07:37:21Z</dcterms:modified>
  <cp:revision>13</cp:revision>
  <dc:subject/>
  <dc:title>Vrouwelijke en mannelijke geslachtsorganen</dc:title>
</cp:coreProperties>
</file>