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BAC8-58E4-4F81-81D0-64CED6B4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4261-4045-4F4A-8272-C85862F0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0BB8-C5CC-43E7-8569-EE5AF5FC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1ACD-6814-4382-B56D-265A0A28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CB7E-9CB8-4FD6-AA21-8064BEA6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2BE8-CFC5-49E7-A96D-195B222A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4C14-E087-486F-A39D-3320121C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020C-F472-4306-B319-320C8615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4E3D-399F-4163-81A4-C56D552E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956F-EEC1-40A3-B361-E4182ABA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32A6-D26E-4F39-8232-10B5C61F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4876-A807-4F88-AF98-86C6CF7D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633E-AD8B-4564-828B-54F4C93F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23EA-A60D-479E-A67B-23AAFE10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D51C-5445-4CE1-AD2E-058EC2CC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7125-22B1-498A-A1C7-F7C466C1D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BF2D-36BE-435A-84F2-D821E0035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D20E-8FC5-4550-BD4D-04DD577F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9ECB-54AA-4D7A-85A0-F2FE7A81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F42C-CFB4-4C5E-BEBB-33B15143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BAA0-D24E-49A5-B376-BDB907B0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83A4-71CF-44D6-85EA-3EB03272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E060-653F-425D-B852-3A103324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71D8-61A7-46E7-A050-93842420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EBC7-2BE4-4E51-80DD-2A012CDF3711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44BC-4A1D-4C45-871B-280A12C43C62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Inleiding Stofwissel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stofwissel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Is een proces waarbij uit voeding en inademingslucht stoffen opgenomen worden en daarna omgezet in voor het lichaam nuttige stoffen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Hierbij komen afbraakproducten vrij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De vier stofwisselingsstelsel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pijsverter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irculatiestel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demhalingsstel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itscheidingsstel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Spijsverter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s het verteren van het eten dat we binnen krijge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et eten dat we binnen krijgen moet heel klein gemaakt worde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iervoor gebruiken we sappen/enzymen die een bepaalde stof kleiner maakt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Functie spijsvertering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pnemen van het voed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jnmaken van het voed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ervoer van het voed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fbreken/kleiner maken van het voed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pname in het bloed van het voeds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fvoer van onverteerbare voed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07:38:20Z</dcterms:created>
  <dc:creator>custom</dc:creator>
  <dc:description/>
  <dc:language>en-US</dc:language>
  <cp:lastModifiedBy>J.W.P. Bugel</cp:lastModifiedBy>
  <dcterms:modified xsi:type="dcterms:W3CDTF">2011-10-11T09:39:42Z</dcterms:modified>
  <cp:revision>4</cp:revision>
  <dc:subject/>
  <dc:title>Inleiding Stofwisseling</dc:title>
</cp:coreProperties>
</file>