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4AF-FC89-449E-A3B7-57045E1E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B9C-7761-41A3-93CA-5475F3E6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010-FAE0-4D59-9A86-3824123A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F42-3DC9-4BFA-93A8-97F7DD14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5646-8202-488F-9BAC-74ED0C20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420C-4EF7-404A-A732-04436320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2714-06E5-4EC7-B4D9-74F6EE3C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B62D-636A-49DE-A4F1-50826289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B875-39C6-4E0C-BB23-165825B7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B259-B38F-4F6E-A3D2-18900536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4660-BF42-46AD-818F-9FCD0D3D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627-E255-4758-9117-0A9DA45C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9835-9A8E-43E0-92CA-E8493A91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AED5-3575-4719-BE77-01176DA5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FE30-F6B1-44C6-ADDE-B93DB93A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92F0-88D6-4C37-A3A8-95BE84EF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8275-403C-4A9A-ABA9-31877C5C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0B2-49F9-49DF-B906-A277299C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794-2415-495D-9929-A1DE7C06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61B-DC21-4238-9C10-0CB19A4A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CE2-8FE8-420F-96F8-89A48185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72B6-EBAC-4196-B28B-578C1295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A18-CB4A-48D6-AC89-A1836603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AB5-A80C-41DB-9DEF-AD7BF702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C476-1556-4737-8976-8F4076A02DB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BD97-2CD4-4572-97A2-C4AA4F56D21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De huid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oel:het verwoorden van het belang van de huid  voor het verlenen van persoonlijke zorg aan de zorgvrag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Lederhuid/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bindweefsella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isol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orgt voor vetopsl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ev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loedvaten(voeden epidermi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Lymfeva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enuw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ntuig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dermis"/>
          <p:cNvPicPr/>
          <p:nvPr/>
        </p:nvPicPr>
        <p:blipFill>
          <a:blip r:embed="rId1"/>
          <a:stretch/>
        </p:blipFill>
        <p:spPr>
          <a:xfrm>
            <a:off x="4646520" y="1812960"/>
            <a:ext cx="4040280" cy="410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rm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rk golvend met talrijke papillen(soort veranker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epidermis"/>
          <p:cNvPicPr/>
          <p:nvPr/>
        </p:nvPicPr>
        <p:blipFill>
          <a:blip r:embed="rId1"/>
          <a:stretch/>
        </p:blipFill>
        <p:spPr>
          <a:xfrm>
            <a:off x="4716360" y="2081160"/>
            <a:ext cx="3189240" cy="40165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Klier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wee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alg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orstkl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1" name="Picture 4" descr="epidermis"/>
          <p:cNvPicPr/>
          <p:nvPr/>
        </p:nvPicPr>
        <p:blipFill>
          <a:blip r:embed="rId1"/>
          <a:stretch/>
        </p:blipFill>
        <p:spPr>
          <a:xfrm>
            <a:off x="3132000" y="1341360"/>
            <a:ext cx="46800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zweet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rold buis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omt uit op de hoorn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2000000 stu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ndpa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etz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hoof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ks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amenstelling</a:t>
            </a: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eukenz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uren ( onder ander boterzu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oterzuur geeft de transpiratieluch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 zweetproduc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7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te regulatie door verdam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voer van afvalproduc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Ure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elkzu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4" descr="zweten%20huid"/>
          <p:cNvPicPr/>
          <p:nvPr/>
        </p:nvPicPr>
        <p:blipFill>
          <a:blip r:embed="rId1"/>
          <a:stretch/>
        </p:blipFill>
        <p:spPr>
          <a:xfrm>
            <a:off x="5219640" y="2852640"/>
            <a:ext cx="374508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Picture 4" descr="zweet"/>
          <p:cNvPicPr/>
          <p:nvPr/>
        </p:nvPicPr>
        <p:blipFill>
          <a:blip r:embed="rId1"/>
          <a:stretch/>
        </p:blipFill>
        <p:spPr>
          <a:xfrm>
            <a:off x="977760" y="2413080"/>
            <a:ext cx="73152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lg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rosvorm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roductie tal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ttig houden van haren en 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stopte talgporie=ac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0" dur="indefinite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4" dur="indefinite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58" dur="indefinite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0" name="Picture 4" descr="acnetherapie_talgklier"/>
          <p:cNvPicPr/>
          <p:nvPr/>
        </p:nvPicPr>
        <p:blipFill>
          <a:blip r:embed="rId1"/>
          <a:stretch/>
        </p:blipFill>
        <p:spPr>
          <a:xfrm>
            <a:off x="977760" y="2575080"/>
            <a:ext cx="67582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bserveren van de huid tijdens de zor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 moet je op lett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t is normaal en wat zijn de afwijk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uidstelsel bestaat ui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u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age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ieren(borst,geur,zweet en tal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urkli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cheiden specifieke geur a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 invloed van hormonen en de maandelijkse cycl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twikkeling na de pubertij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 plaatsen met haargro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oral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ks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ogled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eusinga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chaam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naalstre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p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cher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d materi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vensduur:4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engtegroei:8-12 cm per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oeit van onder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4" descr="Haarfollikel"/>
          <p:cNvPicPr/>
          <p:nvPr/>
        </p:nvPicPr>
        <p:blipFill>
          <a:blip r:embed="rId1"/>
          <a:stretch/>
        </p:blipFill>
        <p:spPr>
          <a:xfrm>
            <a:off x="3352680" y="2438280"/>
            <a:ext cx="419112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a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deel van de hoornlaag en bestaat ui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chac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wor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zakje(met daarnaast de talgkl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aarspiert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Taken van 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erming tegen schadelijke invloed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mperatuurregula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itscheid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ntuigelijke waarne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komen van uitdro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roductie vitamine D(sterke bot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slag van vet in het onderhuidse bindweefsel(subcutaa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orsnede hui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1" name="Picture 4" descr="dehuid"/>
          <p:cNvPicPr/>
          <p:nvPr/>
        </p:nvPicPr>
        <p:blipFill>
          <a:blip r:embed="rId1"/>
          <a:stretch/>
        </p:blipFill>
        <p:spPr>
          <a:xfrm>
            <a:off x="1073160" y="1989000"/>
            <a:ext cx="7311960" cy="38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nkele cijfert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ppervlakte:1.65 vierkante 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 vierkante c</a:t>
            </a:r>
            <a:r>
              <a:rPr b="0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zweet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 ha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5 talgklier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00 cm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pilair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350 </a:t>
            </a:r>
            <a:r>
              <a:rPr b="0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 zenuw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0 zintuiglijke orgaantj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weetproductie per dag:0,3-0,6 li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ngertoppen:1000 tastlichaampjes per c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pperhuid/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7" name="Picture 4" descr="hoornlaaag"/>
          <p:cNvPicPr/>
          <p:nvPr/>
        </p:nvPicPr>
        <p:blipFill>
          <a:blip r:embed="rId1"/>
          <a:stretch/>
        </p:blipFill>
        <p:spPr>
          <a:xfrm>
            <a:off x="1690560" y="2708280"/>
            <a:ext cx="583560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staat 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oornlaag ( dode 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ldere 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rel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kelcellenlaa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iemlaag ( aanmaak van nieuwe hoornce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ellen in de kiemlaag worden platter en gaan uitdrogen en de kern verdwij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Huidskleur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paald doo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in de opperh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wordt gemaakt door pigmentcellen in de kiemla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oor de zon worden de pigmentcellen geactivee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ierdoor meer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Verdana"/>
              </a:rPr>
              <a:t>melanine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gem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el: bescherming van de huid/kiemlaa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peenhoping pigmentcellen is e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moedervl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Johan Bugel Noorderpoortcollege winscho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Epidermi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rmt klieren,haren en nag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geen bloedvaten en zenuw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dermis"/>
          <p:cNvPicPr/>
          <p:nvPr/>
        </p:nvPicPr>
        <p:blipFill>
          <a:blip r:embed="rId1"/>
          <a:stretch/>
        </p:blipFill>
        <p:spPr>
          <a:xfrm>
            <a:off x="4403880" y="2138400"/>
            <a:ext cx="4282920" cy="37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9:06:55Z</dcterms:created>
  <dc:creator>Bugel</dc:creator>
  <dc:description/>
  <dc:language>en-US</dc:language>
  <cp:lastModifiedBy>Johan</cp:lastModifiedBy>
  <dcterms:modified xsi:type="dcterms:W3CDTF">2013-09-16T09:13:02Z</dcterms:modified>
  <cp:revision>12</cp:revision>
  <dc:subject/>
  <dc:title>De huid</dc:title>
</cp:coreProperties>
</file>