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BA8-A8A9-4A2D-B229-159FF8EC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361-EAA9-431B-ACDA-E8588549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D24-31DE-4E49-9799-AED1871D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786-62C7-4B44-86E9-DEC52DF7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579D-A399-45E3-A11C-24A7A106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384D-7AC1-42FD-8E07-FD0D622B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6EAF-F753-42B0-A663-1695E540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08C3-5530-47B1-A926-48E09FD2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CA65-3990-4CDB-9585-BBF20D22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2231-7122-4BCB-8551-14360AD4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C65F-7C2B-4766-A175-1FF927D0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572-FB5B-4F57-BD87-A045B78F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FA48-24F3-46DD-A998-AD8F402B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9253-415A-42C8-9E33-05D92E2F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AE6C-1B6C-44FC-8A86-267A7C9D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6337-BD22-4A17-A3E0-B5176B51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D405-2BCE-4567-A294-F43EFAAF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F1A-E0E9-499D-81B4-A7F0C66C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37D-59EF-498E-B598-033E33BE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2E5-D2ED-483E-ACE2-8271A3D2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0C5-82D3-4D08-964A-42A95A8C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AF7-E583-4A04-A95B-47DF801A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D54-AA74-4CEE-99D9-FDBBC8BE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813-5F0F-4961-A9C6-0D2BF0FB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E7B1-59B7-465A-B645-9441C37AD2F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4394-FC86-4E73-AE4D-EA73D989F91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De huid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oel:het verwoorden van het belang van de huid  voor het verlenen van persoonlijke zorg aan de zorgvrag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Lederhuid/derm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bindweefsella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orgt voor isol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orgt voor vetopsl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ev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loedvaten(voeden epidermi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Lymfeva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enuw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intui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dermis"/>
          <p:cNvPicPr/>
          <p:nvPr/>
        </p:nvPicPr>
        <p:blipFill>
          <a:blip r:embed="rId1"/>
          <a:stretch/>
        </p:blipFill>
        <p:spPr>
          <a:xfrm>
            <a:off x="4646520" y="1812960"/>
            <a:ext cx="4040280" cy="410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rm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rk golvend met talrijke papillen(soort veranker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epidermis"/>
          <p:cNvPicPr/>
          <p:nvPr/>
        </p:nvPicPr>
        <p:blipFill>
          <a:blip r:embed="rId1"/>
          <a:stretch/>
        </p:blipFill>
        <p:spPr>
          <a:xfrm>
            <a:off x="4716360" y="2081160"/>
            <a:ext cx="3189240" cy="4016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Klieren van 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weet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alg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orst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zweet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1" name="Picture 4" descr="epidermis"/>
          <p:cNvPicPr/>
          <p:nvPr/>
        </p:nvPicPr>
        <p:blipFill>
          <a:blip r:embed="rId1"/>
          <a:stretch/>
        </p:blipFill>
        <p:spPr>
          <a:xfrm>
            <a:off x="3132000" y="1341360"/>
            <a:ext cx="468000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zweet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rold buis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omt uit op de hoornla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2000000 stu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ndpal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etz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hoof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ks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amenstelling</a:t>
            </a:r>
            <a:br>
              <a:rPr sz="4400"/>
            </a:b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eukenz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uren ( onder ander boterzu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oterzuur geeft de transpiratieluch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 zweetproduc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7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te regulatie door verdam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voer van afvalproduc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Ure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elkzu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zweten%20huid"/>
          <p:cNvPicPr/>
          <p:nvPr/>
        </p:nvPicPr>
        <p:blipFill>
          <a:blip r:embed="rId1"/>
          <a:stretch/>
        </p:blipFill>
        <p:spPr>
          <a:xfrm>
            <a:off x="5219640" y="2852640"/>
            <a:ext cx="37450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4" name="Picture 4" descr="zweet"/>
          <p:cNvPicPr/>
          <p:nvPr/>
        </p:nvPicPr>
        <p:blipFill>
          <a:blip r:embed="rId1"/>
          <a:stretch/>
        </p:blipFill>
        <p:spPr>
          <a:xfrm>
            <a:off x="977760" y="2413080"/>
            <a:ext cx="73152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talg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rosvorm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roductie tal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ttig houden van haren en h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stopte talgporie=ac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indefinite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indefinite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indefinite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indefinite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0" dur="indefinite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4" dur="indefinite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8" dur="indefinite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2" dur="indefinite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n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0" name="Picture 4" descr="acnetherapie_talgklier"/>
          <p:cNvPicPr/>
          <p:nvPr/>
        </p:nvPicPr>
        <p:blipFill>
          <a:blip r:embed="rId1"/>
          <a:stretch/>
        </p:blipFill>
        <p:spPr>
          <a:xfrm>
            <a:off x="977760" y="2575080"/>
            <a:ext cx="675828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bserveren van de huid tijdens de zor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 moet je op lett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t is normaal en wat zijn de afwijk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uidstelsel bestaat u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u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age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ieren(borst,geur,zweet en tal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ur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cheiden specifieke geur a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 invloed van hormonen en de maandelijkse cycl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twikkeling na de pubertij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p plaatsen met haargroe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oral 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ks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ogle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Neusinga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chaamstre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naalstre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ep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a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scher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mperatuurregul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ood materi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evensduur:4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engtegroei:8-12 cm per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roeit van onder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4" descr="Haarfollikel"/>
          <p:cNvPicPr/>
          <p:nvPr/>
        </p:nvPicPr>
        <p:blipFill>
          <a:blip r:embed="rId1"/>
          <a:stretch/>
        </p:blipFill>
        <p:spPr>
          <a:xfrm>
            <a:off x="3352680" y="2438280"/>
            <a:ext cx="419112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a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deel van de hoornlaag en bestaat ui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schac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wor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zakje(met daarnaast de talgkl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spiert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Taken van 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erming tegen schadelijke invloe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mperatuurregula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itscheid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ntuigelijke waarne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komen van uitdro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roductie vitamine D(sterke bot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pslag van vet in het onderhuidse bindweefsel(subcutaa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orsne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1" name="Picture 4" descr="dehuid"/>
          <p:cNvPicPr/>
          <p:nvPr/>
        </p:nvPicPr>
        <p:blipFill>
          <a:blip r:embed="rId1"/>
          <a:stretch/>
        </p:blipFill>
        <p:spPr>
          <a:xfrm>
            <a:off x="1073160" y="1989000"/>
            <a:ext cx="7311960" cy="38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nkele cijfert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ppervlakte:1.65 vierkante 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 vierkante c</a:t>
            </a:r>
            <a:r>
              <a:rPr b="0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0 zweetklier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 ha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5 talgklier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0 cm </a:t>
            </a:r>
            <a:r>
              <a:rPr b="0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pilai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350 </a:t>
            </a:r>
            <a:r>
              <a:rPr b="0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m zenuw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0 zintuiglijke orgaan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weetproductie per dag:0,3-0,6 li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ngertoppen:1000 tastlichaampjes per c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pperhuid/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7" name="Picture 4" descr="hoornlaaag"/>
          <p:cNvPicPr/>
          <p:nvPr/>
        </p:nvPicPr>
        <p:blipFill>
          <a:blip r:embed="rId1"/>
          <a:stretch/>
        </p:blipFill>
        <p:spPr>
          <a:xfrm>
            <a:off x="1690560" y="2708280"/>
            <a:ext cx="5835600" cy="25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staat 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ornlaag ( dode cel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ldere 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rel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kelcellenlaa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iemlaag ( aanmaak van nieuwe hoorncel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ellen in de kiemlaag worden platter en gaan uitdrogen en de kern verdwij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uidskleur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paald door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in de opperh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wordt gemaakt door pigmentcellen in de kiemla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oor de zon worden de pigmentcellen geactivee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ierdoor meer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gem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el: bescherming van de huid/kiem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peenhoping pigmentcellen is ee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moedervl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rmt klieren,haren en nag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geen bloedvaten en zenuw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dermis"/>
          <p:cNvPicPr/>
          <p:nvPr/>
        </p:nvPicPr>
        <p:blipFill>
          <a:blip r:embed="rId1"/>
          <a:stretch/>
        </p:blipFill>
        <p:spPr>
          <a:xfrm>
            <a:off x="4403880" y="2138400"/>
            <a:ext cx="4282920" cy="37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9:06:55Z</dcterms:created>
  <dc:creator>Bugel</dc:creator>
  <dc:description/>
  <dc:language>en-US</dc:language>
  <cp:lastModifiedBy>Johan</cp:lastModifiedBy>
  <dcterms:modified xsi:type="dcterms:W3CDTF">2013-09-16T09:13:02Z</dcterms:modified>
  <cp:revision>12</cp:revision>
  <dc:subject/>
  <dc:title>De huid</dc:title>
</cp:coreProperties>
</file>