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BCD-A6D0-482B-9254-FD4B8049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ABB-8D8F-473B-B523-CDAC0C05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76E-134F-44B9-8F56-BEC8213C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277-0393-4411-8A4B-057A0441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3A87-4AB8-436E-A595-78769418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CE28-7688-479F-97FB-30AB835E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26FA-250C-47A3-AAA2-14DD70FB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6AF5-FDA2-457E-9F9A-F886DB0F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8ECE-97CA-42F0-9BC9-DF205F75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7BF1-20A4-4D1B-850E-0F41A748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F4E2-C243-46E8-9B59-F69A6E59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4CB-F362-4605-9B02-1DB6F1A2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2564-8310-4ED3-B31D-9F70B58A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3EE0-354D-4276-8424-5161C814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8AA5-50DF-41AC-B66D-F2C5EF32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2755-F213-4302-B00C-DA657911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E89F-3221-4990-9209-2CEE1F15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076-4CCC-4413-A4A8-36CC810A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917-EF30-41E0-A063-5D579ECD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5FD-DAE9-47D2-9B4C-BE73F47A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3DA-B155-498E-B046-D4B5045D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A13-3DA5-469A-A7D8-3C9EF6B2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204-E470-4916-B370-0CDC3619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EE9-4C6C-47BC-8561-A2E68670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6C6E-ED42-4536-ABA0-39EBE6D6C09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DB84-5135-4FC5-8509-F495B4B4856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Inleiding Stofwissel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tofwissel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Is een proces waarbij uit voeding en inademingslucht stoffen opgenomen worden en daarna omgezet in voor het lichaam nuttige stoffe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Hierbij komen afbraakproducten vrij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e vier stofwisselingsstelsel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pijsverter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irculatie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demhalings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itscheidings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pijsverter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s het verteren van het eten dat we binnen krijg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t eten dat we binnen krijgen moet heel klein gemaakt word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iervoor gebruiken we sappen/enzymen die een bepaalde stof kleiner maak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unctie spijsverter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nem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jnmak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rvoer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fbreken/kleiner mak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name in het bloed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fvoer van onverteerbare voed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7:38:20Z</dcterms:created>
  <dc:creator>custom</dc:creator>
  <dc:description/>
  <dc:language>en-US</dc:language>
  <cp:lastModifiedBy>J.W.P. Bugel</cp:lastModifiedBy>
  <dcterms:modified xsi:type="dcterms:W3CDTF">2011-10-11T09:39:42Z</dcterms:modified>
  <cp:revision>4</cp:revision>
  <dc:subject/>
  <dc:title>Inleiding Stofwisseling</dc:title>
</cp:coreProperties>
</file>