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1D40-5927-4839-8E55-D06C7F8D2B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F3E-9A0F-4A2C-9AE3-04E0952E52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EEE-4C96-4468-A155-86C44DC9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ED3-B291-4C83-BFC8-8B32886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03C-6588-443C-937B-C481A13F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56A-90F3-4012-922D-6975285E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701B-CC06-4B1F-AB51-56D72894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BC01-3C0B-4043-989D-3E0345A6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1FE7-3739-4359-8D38-0EA805EA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56AB-E5A0-4475-9C58-50F0FB6B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EF3C-1C84-4469-A30A-08A95B0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8F20-5EB0-42AA-8183-E586BEBD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C01B-51BC-4688-8C10-54E30C20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920-FAA4-4F39-B509-D916840D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25F9-89CD-4BBA-929B-1EFE0228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F6CD-F3E8-4E12-BD85-5628C0B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3F41-C7BF-4CE7-9374-9E00FCDD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1D67-53A5-4297-A3F8-09E0313D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7B4E-68A2-466F-9E26-3A7D9829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368-3D2A-4A0D-AFA5-D847F7D0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A5C-26AF-4D0E-BB0A-FDA34A47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635-5F30-4656-940A-B6326002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674-EFDB-40A9-9FC8-AD3B8E8D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BD3-6EB3-488D-98D0-1E9E2C4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75D-DF86-4699-A86B-F948A589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801-296A-48C2-8B80-08150A3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C7DB-D38A-4448-87B0-EDED0BFD334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5FF3-68E3-419A-851E-DC5445C8AB0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bestrijdingsmethod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1465200" y="1600200"/>
            <a:ext cx="6778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teriele insectentechni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oegepast in u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eer selecti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kelijks loslaten steriele mannetj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loslaten2"/>
          <p:cNvPicPr/>
          <p:nvPr/>
        </p:nvPicPr>
        <p:blipFill>
          <a:blip r:embed="rId1"/>
          <a:stretch/>
        </p:blipFill>
        <p:spPr>
          <a:xfrm>
            <a:off x="900000" y="1773360"/>
            <a:ext cx="3463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eer selecti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milieu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si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oeilijk te ontwikke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Rozekeverdolkwesp"/>
          <p:cNvPicPr/>
          <p:nvPr/>
        </p:nvPicPr>
        <p:blipFill>
          <a:blip r:embed="rId1"/>
          <a:stretch/>
        </p:blipFill>
        <p:spPr>
          <a:xfrm>
            <a:off x="4979880" y="1341360"/>
            <a:ext cx="3513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eïntegreerd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veel mogelijk ziekten en plagen voorko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veel mogelijk niet chemische bestr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olog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herm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chan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hemische bestrijden als corr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eïntegreerde bestrijd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eelttechnische maatrege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arschuwings en adviessyste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rf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et chemische gewa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emische gewasbescherming en toedieningstechnie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eksge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dbehandeling in plaats van spuit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beper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oorbeeld geïntegreerd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ardappelmoe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askeu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M-onderzo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ne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slag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rteergr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koop pootgo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uchtwiss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ndontsm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altjes"/>
          <p:cNvPicPr/>
          <p:nvPr/>
        </p:nvPicPr>
        <p:blipFill>
          <a:blip r:embed="rId1"/>
          <a:stretch/>
        </p:blipFill>
        <p:spPr>
          <a:xfrm>
            <a:off x="5241960" y="1600200"/>
            <a:ext cx="2857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fytostat.nl etiketten en veiligheidsbla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groenkennisnet.nl/gewastree: ziekten en pl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ctgb.nl: toelating en etik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degroenevlieg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insectconsultancy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koppert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biobest.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11" descr="P1010026"/>
          <p:cNvPicPr/>
          <p:nvPr/>
        </p:nvPicPr>
        <p:blipFill>
          <a:blip r:embed="rId1"/>
          <a:stretch/>
        </p:blipFill>
        <p:spPr>
          <a:xfrm>
            <a:off x="1042920" y="1628640"/>
            <a:ext cx="661824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emissie bestrijdingsmid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ersafhankelij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roog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nachvorstsc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et tegen wortelonkrui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apaciteitsproble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 staal (borstelmach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P1010027"/>
          <p:cNvPicPr/>
          <p:nvPr/>
        </p:nvPicPr>
        <p:blipFill>
          <a:blip r:embed="rId1"/>
          <a:stretch/>
        </p:blipFill>
        <p:spPr>
          <a:xfrm>
            <a:off x="4572000" y="1844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7" descr="P1010093"/>
          <p:cNvPicPr/>
          <p:nvPr/>
        </p:nvPicPr>
        <p:blipFill>
          <a:blip r:embed="rId1"/>
          <a:stretch/>
        </p:blipFill>
        <p:spPr>
          <a:xfrm>
            <a:off x="4572000" y="2205000"/>
            <a:ext cx="4038480" cy="303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rst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ff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knipp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psenne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g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len en klem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Therm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omen en br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apaciteit l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 CO</a:t>
            </a:r>
            <a:r>
              <a:rPr b="0" lang="nl-NL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P101003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Thermische bestrijding: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brand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1010094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Chem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Picture 9" descr="P1010016"/>
          <p:cNvPicPr/>
          <p:nvPr/>
        </p:nvPicPr>
        <p:blipFill>
          <a:blip r:embed="rId1"/>
          <a:stretch/>
        </p:blipFill>
        <p:spPr>
          <a:xfrm>
            <a:off x="3865680" y="177336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de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ge capac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latief goedko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ze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de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schade, emiss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select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ksgezondhei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Chemische bestrijding: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selectief Weedit, Selectspra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436760" y="2195640"/>
            <a:ext cx="6269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trijden met natuurlijke vij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lt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oofmij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uipwes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eveheersbeest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acterieprepara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p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eriele mannetj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envli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MK4.JPG (17498 bytes)"/>
          <p:cNvPicPr/>
          <p:nvPr/>
        </p:nvPicPr>
        <p:blipFill>
          <a:blip r:embed="rId1"/>
          <a:stretch/>
        </p:blipFill>
        <p:spPr>
          <a:xfrm>
            <a:off x="4067280" y="1413000"/>
            <a:ext cx="47163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37:26Z</dcterms:created>
  <dc:creator>whendrix</dc:creator>
  <dc:description/>
  <dc:language>en-US</dc:language>
  <cp:lastModifiedBy>Harrie Wesselink</cp:lastModifiedBy>
  <dcterms:modified xsi:type="dcterms:W3CDTF">2015-09-04T13:54:19Z</dcterms:modified>
  <cp:revision>11</cp:revision>
  <dc:subject/>
  <dc:title>bestrijdingsmethodes</dc:title>
</cp:coreProperties>
</file>