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D8DA-4824-4A94-B354-9495C473B0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CB6-BB52-41EA-8666-FF93DFAF05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AD2-D999-49F3-A7AF-9131FA69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750-D286-4547-86A8-326A4BDE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843-05D4-4950-8CDB-E377F1BA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D1A-F6D8-4C74-8EB0-156580D6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BAD0-3CF2-402D-A7DE-12B3F30D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F315-75C3-4C94-BE42-A52FC2A6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23A0-4222-4889-83A5-819AA9B1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A6F6-3E41-4480-A5B3-7BFE483C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9CC3-1872-44E9-9E3A-6463A03B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ABF5-C5A0-40A3-BA08-85C6D8D7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74AA-08CB-4C65-8763-FE46534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A71-A674-4EAB-B025-0F79CD8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B964-FA7C-4ACD-846C-D10F1A5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FAA2-746D-44AB-8DD4-9A8CBBD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9E4D-DC84-4F71-AC5A-BFB999F4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DB61-63AB-44F0-B1C4-6CCC6F3F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F926-ED9A-4E9D-B242-9A9FDEFD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BC5-8FDE-44C3-9F02-CF91DD5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29C-3441-463A-82A3-E81680B7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C21-21F6-455C-8CA7-138276F7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FDF-0537-4233-9431-980A20B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23B-F512-4C37-8F12-BD5AE693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3C5-2795-4C68-8884-4532E55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347-32FB-43D2-9DB1-7F74A1E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7690-A758-498C-8DFC-ADCCC2ABCD26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0AD9-FFE1-4B4A-944B-D448E688C050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4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403280" y="1844640"/>
          <a:ext cx="5478480" cy="41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547848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icture 4" descr="Virus in Buddleja"/>
          <p:cNvPicPr/>
          <p:nvPr/>
        </p:nvPicPr>
        <p:blipFill>
          <a:blip r:embed="rId1"/>
          <a:stretch/>
        </p:blipFill>
        <p:spPr>
          <a:xfrm>
            <a:off x="2627280" y="1413000"/>
            <a:ext cx="3276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1028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iekten en pla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chadebeel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oren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spinsel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alvorming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nere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ewone vreterij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zuigschade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ziekten en pl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acterievuur (2*) 7 en 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 bloedingsziekte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eldauw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ngerling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kever 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melt 1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ortelknobbelaaltjes 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zenhaan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ningzwam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oedluis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advlekkenziekte 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oest 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irusaantasting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9" descr="C:\Documents and Settings\Eigenaar\Mijn documenten\Mijn afbeeldingen\ziektebeelden groen\Elzehaantje.jpg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Documents and Settings\Eigenaar\Mijn documenten\Mijn afbeeldingen\ziektebeelden groen\Huisjesslakken.jpg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C:\Documents and Settings\Eigenaar\Mijn documenten\Mijn afbeeldingen\ziektebeelden groen\appelbloedluis.jpg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Documents and Settings\Eigenaar\Mijn documenten\Mijn afbeeldingen\ziektebeelden groen\Bladvlekkenziekte plataan.jpg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Wat weet u er nog van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 krijgt 20 afbeeldingen van verschillende schadebeelden, ziekten en pla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oteer achter het nummer in uw lijst de naam van aantaster, schadebeeld e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C:\Documents and Settings\Eigenaar\Mijn documenten\Mijn afbeeldingen\ziektebeelden groen\AF1vreterij.jpg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C:\Documents and Settings\Eigenaar\Mijn documenten\Mijn afbeeldingen\ziektebeelden groen\AF4mineren.jpg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6" descr="C:\Documents and Settings\Eigenaar\Mijn documenten\Mijn afbeeldingen\ziektebeelden groen\AF6boren.jpg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6" descr="C:\Documents and Settings\Eigenaar\Mijn documenten\Mijn afbeeldingen\ziektebeelden groen\AF7gallen.jpg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7" descr="engerling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Meikever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7" descr="AF8spinsel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iekten en pla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chadebeel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o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spins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alvor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n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ewone vreteri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zuigsch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ziekten en pl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acterievuur (2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 bloedingszie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eldau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nger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me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ortelknobbelaalt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zenha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ningzw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oedlu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advlekkenzie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o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irusaanta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6" descr="C:\Documents and Settings\Eigenaar\Mijn documenten\Mijn afbeeldingen\ziektebeelden groen\Bladvlekkenziekte plataan.jpg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7" descr="Honingzwam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7" descr="virus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7" descr="Bacterievuur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acterievuur3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5" descr="Wortelknobbelaaltje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4" descr="AF5steken-zuigen"/>
          <p:cNvPicPr/>
          <p:nvPr/>
        </p:nvPicPr>
        <p:blipFill>
          <a:blip r:embed="rId1"/>
          <a:stretch/>
        </p:blipFill>
        <p:spPr>
          <a:xfrm>
            <a:off x="2195640" y="162072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5" descr="AF1vreterij"/>
          <p:cNvPicPr/>
          <p:nvPr/>
        </p:nvPicPr>
        <p:blipFill>
          <a:blip r:embed="rId1"/>
          <a:stretch/>
        </p:blipFill>
        <p:spPr>
          <a:xfrm>
            <a:off x="2771640" y="1557360"/>
            <a:ext cx="3014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Harrie Wesselink</cp:lastModifiedBy>
  <cp:lastPrinted>2006-09-28T08:11:52Z</cp:lastPrinted>
  <dcterms:modified xsi:type="dcterms:W3CDTF">2015-09-04T13:59:48Z</dcterms:modified>
  <cp:revision>23</cp:revision>
  <dc:subject/>
  <dc:title>Het herkennen van ziekten en plagen in de groensector</dc:title>
</cp:coreProperties>
</file>