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373-13E8-476F-B50B-30717093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B43-19AE-4C42-8D28-C2C5B0FA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A0B-F0C1-4ADA-A51F-0D2431C1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FCD-A34D-4058-9BE2-7846E275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3CE5-FC27-4E19-9159-A3E64986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9362-AB66-4C35-ADAD-0E5C7CCE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030C-FB88-49F4-8547-AD37D045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2435-4C52-4425-A4C4-F56007F0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A356-7A15-4D53-AF00-FBE29958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17D3-25B1-4B05-96B4-114F46A0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B747-8B46-48C0-909B-017E4ACF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4C9-58B3-4AF1-B5F8-94661AF7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C83E-3604-4994-823F-014848A5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6EA2-A9E7-4EB9-B14D-28CA428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CE8B-20F6-44C4-AEB5-3BC18D25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5259-96BB-4BDC-84BE-867E2957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FCF1-E933-4DDF-91E8-0AD2521F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326-0579-44A2-B175-A5943078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6F1-0FEF-4903-BAFC-27C5E4C6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B3D-992E-4889-BF30-F9341808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645-908F-46E5-A8C4-807B37FC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B44-B634-40A0-80F3-80C066A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44E-CB9B-4C70-9D28-A3E28E15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8A4-3692-4FCD-8AB0-BAFCF3B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DDD8-B327-4ED3-AF43-FECD83A3C8D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9747-1546-44A1-8F29-EDA829103F4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6666"/>
                </a:solidFill>
                <a:latin typeface="Arial"/>
              </a:rPr>
              <a:t>etikette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gevens over de aard van het midde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merknaam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werkzame stof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gehal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gevens over he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ttelijk gebruik van het midde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toelatingsnummer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wettelijkgebruiksvoorschrif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0" y="1709640"/>
          <a:ext cx="914400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9640"/>
                    <a:ext cx="914400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gevens over het veilig gebruik van het middel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de toxicologische groep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vaarsymbol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bijzondere gevar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veiligheidsaanbeveling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p het etiket st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gevens over een doeltreffend gebruik van het midde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‑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gebruiksaanwijz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7:46:44Z</dcterms:created>
  <dc:creator>Systeembeheer</dc:creator>
  <dc:description/>
  <dc:language>en-US</dc:language>
  <cp:lastModifiedBy>Harrie Wesselink</cp:lastModifiedBy>
  <dcterms:modified xsi:type="dcterms:W3CDTF">2015-09-04T13:33:25Z</dcterms:modified>
  <cp:revision>5</cp:revision>
  <dc:subject/>
  <dc:title>etiketten</dc:title>
</cp:coreProperties>
</file>