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093-DACC-4077-9A3D-FBF4CB0C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C27-1094-40CC-8BE6-7ACD996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DE7-F3FA-460C-B60B-4837D90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568-B960-4488-A85D-8C51F434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A366-4587-4D20-9581-EFE01BB4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A31-DF74-45D4-BEA6-9A80D863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AAB6-65A8-4387-BE49-E022DF3A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53BD-34CA-4056-AA19-5930D50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C2B9-13FB-4B5A-A8A0-89DF8E6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CDC-B77A-4E4D-B5E0-72200C9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022-EEC1-4F1C-A188-E81F193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CD1-C166-4ECB-B001-2E722EF9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899-DBCC-4151-AC9F-DAF75E5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353-0D0E-410C-B69C-54A6B9D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941-DA57-4634-A8BD-7EAD1BD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226C-7E57-4B42-BC11-27917A45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F6BC-460F-483C-AE8B-53B4300C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F5-2063-4190-AAAE-DAB802BF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2C3-8EB9-4827-BA7A-7D3D39EA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851-DE66-45A3-93E8-18E632F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61D-6F31-4E9D-A83C-72B814E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20F-6D75-4744-AF9C-329081B3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451-6B71-4280-9406-DDDB219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B7E-F6A7-4C0A-A868-A077ECE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2D4-E21B-4AB7-B1E4-05EE2C9546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B21-4984-4AE6-A4FB-65FAD3DF6C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etikette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de aard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merknaam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werkzame stof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gehal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he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ttelijk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toelatingsnumm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wettelijkgebruiksvoorschrif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0" y="1709640"/>
          <a:ext cx="914400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9640"/>
                    <a:ext cx="914400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gevens over het veilig gebruik van het midde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 toxicologische groep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vaarsymbol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bijzondere gevar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veiligheidsaanbeveli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een doeltreffend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gebruiksaanwijz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46:44Z</dcterms:created>
  <dc:creator>Systeembeheer</dc:creator>
  <dc:description/>
  <dc:language>en-US</dc:language>
  <cp:lastModifiedBy>Harrie Wesselink</cp:lastModifiedBy>
  <dcterms:modified xsi:type="dcterms:W3CDTF">2015-09-04T13:33:25Z</dcterms:modified>
  <cp:revision>5</cp:revision>
  <dc:subject/>
  <dc:title>etiketten</dc:title>
</cp:coreProperties>
</file>