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C39-C50C-4B7D-97FE-F3E715E286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357-281E-4B88-8DE9-A1FF5B0A6D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BA8-D41C-4037-BB60-0C95E394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A71-90B7-47E6-B7AD-D9F4EBC1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2A6-52EE-44C9-ACE7-EE3873CA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DF4-4551-43CA-9656-D6EA1A7F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C35A-0F20-451D-9E91-A389B78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B715-81EF-4F8D-805D-A8885D9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961-AB21-4F39-95CA-295CA36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61C3-A4C3-4162-9448-4189A01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F627-8C18-49F8-AFC5-FC052B5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5952-6F57-41E1-AB73-4AF4849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F25-DF46-47BA-ACFB-C5A8E7F8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7A9-396C-48FC-8E64-544D9E3F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44B8-82D9-4C85-8FB8-523BA77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9A1-2680-4CB9-ADD3-6D1697B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99C-E7C5-4288-B0FB-339C48A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CD6-08BC-4494-ACDC-A0AE9904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D10-CC28-44A7-8BA3-CDC7CFEF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58B-6A38-4784-9725-FA6613B4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F05-9B79-4922-9DB8-7BDB77BB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3A7-A501-4B6F-A91B-A8FAFC9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673-E520-4E2E-B3D7-7712957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F9A-A6D5-471C-9B00-4F8B9836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058-6CB1-4A19-A970-FA9BFC2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6C8-FF20-4B00-ADCD-FD7F63FF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49C-9085-46AD-AFC9-BC557E36977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18D-F672-48C0-AE84-3D7754C6C78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bestrijdingsmethod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778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teriele insectentechni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oegepast in u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kelijks loslaten 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loslaten2"/>
          <p:cNvPicPr/>
          <p:nvPr/>
        </p:nvPicPr>
        <p:blipFill>
          <a:blip r:embed="rId1"/>
          <a:stretch/>
        </p:blipFill>
        <p:spPr>
          <a:xfrm>
            <a:off x="900000" y="1773360"/>
            <a:ext cx="3463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eer select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milieu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si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oeilijk te ontwikk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Rozekeverdolkwesp"/>
          <p:cNvPicPr/>
          <p:nvPr/>
        </p:nvPicPr>
        <p:blipFill>
          <a:blip r:embed="rId1"/>
          <a:stretch/>
        </p:blipFill>
        <p:spPr>
          <a:xfrm>
            <a:off x="4979880" y="1341360"/>
            <a:ext cx="3513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ziekten en plagen voork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veel mogelijk niet chemische bestr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herm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chani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hemische bestrijden als corr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eïntegreerde bestrijd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eelttechnische maatrege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arschuwings en adviessyste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rf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chemische gewa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emische gewasbescherming en toedieningstechnie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eksge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dbehandeling in plaats van spuit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bepe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oorbeeld geïntegreerd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ardappelmoe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askeu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M-onderzo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ne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slag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rteergr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koop pootgo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uchtwiss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ndontsm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altjes"/>
          <p:cNvPicPr/>
          <p:nvPr/>
        </p:nvPicPr>
        <p:blipFill>
          <a:blip r:embed="rId1"/>
          <a:stretch/>
        </p:blipFill>
        <p:spPr>
          <a:xfrm>
            <a:off x="5241960" y="1600200"/>
            <a:ext cx="2857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fytostat.nl etiketten en veiligheidsbla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groenkennisnet.nl/gewastree: ziekten en pl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ctgb.nl: toelating en etik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degroenevlieg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insectconsultancy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koppert.n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ww.biobest.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11" descr="P1010026"/>
          <p:cNvPicPr/>
          <p:nvPr/>
        </p:nvPicPr>
        <p:blipFill>
          <a:blip r:embed="rId1"/>
          <a:stretch/>
        </p:blipFill>
        <p:spPr>
          <a:xfrm>
            <a:off x="1042920" y="1628640"/>
            <a:ext cx="661824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emissie bestrijdingsmid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ersafhankelij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roog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nachvorst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et tegen wortelonkrui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sproble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staal (borstelmach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P1010027"/>
          <p:cNvPicPr/>
          <p:nvPr/>
        </p:nvPicPr>
        <p:blipFill>
          <a:blip r:embed="rId1"/>
          <a:stretch/>
        </p:blipFill>
        <p:spPr>
          <a:xfrm>
            <a:off x="4572000" y="1844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echan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7" descr="P1010093"/>
          <p:cNvPicPr/>
          <p:nvPr/>
        </p:nvPicPr>
        <p:blipFill>
          <a:blip r:embed="rId1"/>
          <a:stretch/>
        </p:blipFill>
        <p:spPr>
          <a:xfrm>
            <a:off x="4572000" y="2205000"/>
            <a:ext cx="4038480" cy="303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rst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ff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knipp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ne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g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len en klem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Ther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omen en br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apaciteit l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missie CO</a:t>
            </a:r>
            <a:r>
              <a:rPr b="0" lang="nl-N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P101003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Ther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brand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1010094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Chem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Picture 9" descr="P1010016"/>
          <p:cNvPicPr/>
          <p:nvPr/>
        </p:nvPicPr>
        <p:blipFill>
          <a:blip r:embed="rId1"/>
          <a:stretch/>
        </p:blipFill>
        <p:spPr>
          <a:xfrm>
            <a:off x="3865680" y="177336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d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ge capac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latief goedk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ze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de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schade, emis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select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ksgezondhei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Chemische bestrijding: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selectief Weedit, Selectspra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436760" y="2195640"/>
            <a:ext cx="6269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ologische bestrij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trijden met natuurlijke vij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l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oofmij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uipwes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eveheersbees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acterieprepara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p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eriele mannetj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envli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MK4.JPG (17498 bytes)"/>
          <p:cNvPicPr/>
          <p:nvPr/>
        </p:nvPicPr>
        <p:blipFill>
          <a:blip r:embed="rId1"/>
          <a:stretch/>
        </p:blipFill>
        <p:spPr>
          <a:xfrm>
            <a:off x="4067280" y="1413000"/>
            <a:ext cx="47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37:26Z</dcterms:created>
  <dc:creator>whendrix</dc:creator>
  <dc:description/>
  <dc:language>en-US</dc:language>
  <cp:lastModifiedBy>Harrie Wesselink</cp:lastModifiedBy>
  <dcterms:modified xsi:type="dcterms:W3CDTF">2015-09-04T13:54:19Z</dcterms:modified>
  <cp:revision>11</cp:revision>
  <dc:subject/>
  <dc:title>bestrijdingsmethodes</dc:title>
</cp:coreProperties>
</file>