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png" ContentType="image/png"/>
  <Override PartName="/ppt/media/image8.jpeg" ContentType="image/jpeg"/>
  <Override PartName="/ppt/media/image9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40615-20F8-4AD9-9F68-6380B6B2936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4727E-9F2A-411B-9A30-535FD14D98E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3401-4F73-4DF2-8243-0AAF238BE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ADE0-3854-4868-8EE0-A3DC4A129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6FC2-058F-468B-B67F-258A405F7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F47C-3E32-4284-A2F6-384665F62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FF972-F096-4526-9048-ADDC6C8F7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6B783-C954-44F4-B172-7BD51CAB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06FBF-17BF-4D5C-8D72-249602000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9C8B0-5A7C-4208-8276-BC56456B1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F1712-A058-4B53-9917-FDB5C7C25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9C96A-DC8D-4591-97B2-73405241F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34A1C-FBAC-45E6-91A3-3A9D8042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7AC6-9D4B-4595-AEAA-ADEC14B85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A78D9-C0F7-44E9-9877-DB14ABEE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8C9EE-9B1D-4B10-B6D0-ED44B97F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F8BE6-ED8C-4FAF-B037-37857B72D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EEE79-ABE3-4AF2-9A7C-868D0E130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6DA3F-AC57-4D43-B622-22A97F187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CEC2-880A-47AA-9E08-17CE43FF2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CC68-906F-4588-81BA-4271E6AF3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082B-CEC9-492C-B659-B4D2EDA31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0DA3-3B27-4DFC-B7D0-F09D6C812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80B5-6F83-48F3-B9F3-EE1A2146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8385-5D5D-401C-9C6B-E68E2D7E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68CA-0E0E-4386-AE25-B4FE352F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81815-15F7-496E-87AC-8C728BC5EDF4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C8275-BBD7-4D18-AE8B-FF9B2E32740D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06633"/>
                </a:solidFill>
                <a:latin typeface="Garamond"/>
              </a:rPr>
              <a:t>bestrijdingsmethodes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ied Hendrix AOC O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Biologische bestrijd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0" name="Picture 9" descr=""/>
          <p:cNvPicPr/>
          <p:nvPr/>
        </p:nvPicPr>
        <p:blipFill>
          <a:blip r:embed="rId1"/>
          <a:stretch/>
        </p:blipFill>
        <p:spPr>
          <a:xfrm>
            <a:off x="1465200" y="1600200"/>
            <a:ext cx="6778800" cy="49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Steriele insectentechniek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Toegepast in ui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Zeer selectie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Wekelijks loslaten steriele mannetj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8" descr="loslaten2"/>
          <p:cNvPicPr/>
          <p:nvPr/>
        </p:nvPicPr>
        <p:blipFill>
          <a:blip r:embed="rId1"/>
          <a:stretch/>
        </p:blipFill>
        <p:spPr>
          <a:xfrm>
            <a:off x="900000" y="1773360"/>
            <a:ext cx="346392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Biologische bestrijd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Zeer selectie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Geen milieuscha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miss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sid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Moeilijk te ontwikkel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Rozekeverdolkwesp"/>
          <p:cNvPicPr/>
          <p:nvPr/>
        </p:nvPicPr>
        <p:blipFill>
          <a:blip r:embed="rId1"/>
          <a:stretch/>
        </p:blipFill>
        <p:spPr>
          <a:xfrm>
            <a:off x="4979880" y="1341360"/>
            <a:ext cx="35132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Geïntegreerde bestrijd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o veel mogelijk ziekten en plagen voorkom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Preventi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o veel mogelijk niet chemische bestrij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iologis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Thermis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Mechanis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Chemische bestrijden als correct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Geïntegreerde bestrijding</a:t>
            </a: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Preventi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teelttechnische maatregel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waarschuwings en adviessystem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erfa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niet chemische gewasbescherm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hemische gewasbescherming en toedieningstechnie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eksgewij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aadbehandeling in plaats van spuite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emissiebeperk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Voorbeeld geïntegreerde bestrijd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ardappelmoehe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askeuz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M-onderzo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drijfshygië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one werktu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slag bestrij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orteergro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koop pootgo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ruchtwisse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rondontsmet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aaltjes"/>
          <p:cNvPicPr/>
          <p:nvPr/>
        </p:nvPicPr>
        <p:blipFill>
          <a:blip r:embed="rId1"/>
          <a:stretch/>
        </p:blipFill>
        <p:spPr>
          <a:xfrm>
            <a:off x="5241960" y="1600200"/>
            <a:ext cx="28573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ww.fytostat.nl etiketten en veiligheidsbla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ww.groenkennisnet.nl/gewastree: ziekten en pla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ww.ctgb.nl: toelating en etiket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ww.degroenevlieg.n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ww.insectconsultancy.n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ww.koppert.n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ww.biobest.b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Mechanische bestrijd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6" name="Picture 11" descr="P1010026"/>
          <p:cNvPicPr/>
          <p:nvPr/>
        </p:nvPicPr>
        <p:blipFill>
          <a:blip r:embed="rId1"/>
          <a:stretch/>
        </p:blipFill>
        <p:spPr>
          <a:xfrm>
            <a:off x="1042920" y="1628640"/>
            <a:ext cx="6618240" cy="49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Mechanische bestrijd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Geen emissie bestrijdingsmidd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Weersafhankelij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roog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er nachvorstscha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Niet tegen wortelonkruid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apaciteitsproble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Emissie staal (borstelmachin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P1010027"/>
          <p:cNvPicPr/>
          <p:nvPr/>
        </p:nvPicPr>
        <p:blipFill>
          <a:blip r:embed="rId1"/>
          <a:stretch/>
        </p:blipFill>
        <p:spPr>
          <a:xfrm>
            <a:off x="4572000" y="1844640"/>
            <a:ext cx="439272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Mechanische bestrijd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2" name="Picture 7" descr="P1010093"/>
          <p:cNvPicPr/>
          <p:nvPr/>
        </p:nvPicPr>
        <p:blipFill>
          <a:blip r:embed="rId1"/>
          <a:stretch/>
        </p:blipFill>
        <p:spPr>
          <a:xfrm>
            <a:off x="4572000" y="2205000"/>
            <a:ext cx="4038480" cy="30322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orstel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choffel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gknippe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upsennes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g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len en klemm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Thermische bestrijd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tomen en brand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uu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apaciteit la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Emissie CO</a:t>
            </a:r>
            <a:r>
              <a:rPr b="0" lang="nl-NL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5" descr="P1010030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Thermische bestrijding:</a:t>
            </a:r>
            <a:br>
              <a:rPr sz="3800"/>
            </a:b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brande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P1010094"/>
          <p:cNvPicPr/>
          <p:nvPr/>
        </p:nvPicPr>
        <p:blipFill>
          <a:blip r:embed="rId1"/>
          <a:stretch/>
        </p:blipFill>
        <p:spPr>
          <a:xfrm>
            <a:off x="1187280" y="1484280"/>
            <a:ext cx="655344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Chemische bestrijd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1" name="Picture 9" descr="P1010016"/>
          <p:cNvPicPr/>
          <p:nvPr/>
        </p:nvPicPr>
        <p:blipFill>
          <a:blip r:embed="rId1"/>
          <a:stretch/>
        </p:blipFill>
        <p:spPr>
          <a:xfrm>
            <a:off x="3865680" y="1773360"/>
            <a:ext cx="5278320" cy="39592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oorde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oge capacite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latief goedkoo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drijfszek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Nadeel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ilieuschade, emiss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selectie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lksgezondheid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Chemische bestrijding:</a:t>
            </a:r>
            <a:br>
              <a:rPr sz="3800"/>
            </a:b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selectief Weedit, Selectspray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1"/>
          <a:stretch/>
        </p:blipFill>
        <p:spPr>
          <a:xfrm>
            <a:off x="1436760" y="2195640"/>
            <a:ext cx="6269040" cy="33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Biologische bestrijd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estrijden met natuurlijke vijand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ltj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oofmij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luipwesp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ieveheersbeestj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acterieprepara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ups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teriele mannetj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envlie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8" descr="MK4.JPG (17498 bytes)"/>
          <p:cNvPicPr/>
          <p:nvPr/>
        </p:nvPicPr>
        <p:blipFill>
          <a:blip r:embed="rId1"/>
          <a:stretch/>
        </p:blipFill>
        <p:spPr>
          <a:xfrm>
            <a:off x="4067280" y="1413000"/>
            <a:ext cx="471636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07:37:26Z</dcterms:created>
  <dc:creator>whendrix</dc:creator>
  <dc:description/>
  <dc:language>en-US</dc:language>
  <cp:lastModifiedBy>Harrie Wesselink</cp:lastModifiedBy>
  <dcterms:modified xsi:type="dcterms:W3CDTF">2015-09-04T13:54:19Z</dcterms:modified>
  <cp:revision>11</cp:revision>
  <dc:subject/>
  <dc:title>bestrijdingsmethodes</dc:title>
</cp:coreProperties>
</file>