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CCC-04DD-415A-A855-1EB142D297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9E8B-B0B4-489F-B5F8-9DEB6FABFC5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85A-AC2A-451F-A749-18664D64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518-4849-44F6-8DAB-936CAF62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E54-CE89-4845-99C9-E641AC44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AA9-82AE-47A2-ADC1-B6485B29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C5D4-123D-4B8A-8923-D419BE5E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941E-A6C1-4D2D-9254-3B61AF00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E56-C45D-428E-AE0A-10948A3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2CCE-B946-48D7-90ED-6D8E2BF4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F97F-6936-40AF-BB12-1ECB52DE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37D0-A1DB-4965-A4C0-2DC692A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0D79-67A0-4FB4-A2E3-F980E63B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BA3-339A-467E-9895-D213EF0B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C5D7-AF30-464C-892C-3E5E596F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C15D-76E5-42C0-AE00-FF5D1AC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35ED-D2F6-43DF-906D-A39BFB0A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900B-40D3-48E6-823D-BDF4C9EE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5AA9-CF75-4599-AE4E-C67DC2EB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AC9-FB19-41BE-8708-5B5A2254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9C2-2DBD-4E7B-8E8E-FF343694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03B-17CC-4864-9D46-EE8A8A7D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0A6-7244-4E5B-94FF-E109061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120-0DFD-4985-9DA5-3009E537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2EE-8B72-4CDC-94D9-9F4CC9C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559-0EB3-41B7-91E2-B646BE8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2613-0852-4359-B9A2-4C7AFD7E1BDC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25CD-0BAC-4A55-B5A5-512ACA7AB146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4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403280" y="1844640"/>
          <a:ext cx="5478480" cy="41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547848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icture 4" descr="Virus in Buddleja"/>
          <p:cNvPicPr/>
          <p:nvPr/>
        </p:nvPicPr>
        <p:blipFill>
          <a:blip r:embed="rId1"/>
          <a:stretch/>
        </p:blipFill>
        <p:spPr>
          <a:xfrm>
            <a:off x="2627280" y="1413000"/>
            <a:ext cx="3276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1028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iekten en pla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chadebeel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oren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spinsel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alvorming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nere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ewone vreterij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zuigschade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ziekten en pl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acterievuur (2*) 7 en 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 bloedingsziekte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eldauw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ngerling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kever 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melt 1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ortelknobbelaaltjes 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zenhaan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ningzwam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oedluis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advlekkenziekte 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oest 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irusaantasting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9" descr="C:\Documents and Settings\Eigenaar\Mijn documenten\Mijn afbeeldingen\ziektebeelden groen\Elzehaantje.jpg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Documents and Settings\Eigenaar\Mijn documenten\Mijn afbeeldingen\ziektebeelden groen\Huisjesslakken.jpg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C:\Documents and Settings\Eigenaar\Mijn documenten\Mijn afbeeldingen\ziektebeelden groen\appelbloedluis.jpg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Documents and Settings\Eigenaar\Mijn documenten\Mijn afbeeldingen\ziektebeelden groen\Bladvlekkenziekte plataan.jpg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Wat weet u er nog van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 krijgt 20 afbeeldingen van verschillende schadebeelden, ziekten en pla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oteer achter het nummer in uw lijst de naam van aantaster, schadebeeld e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C:\Documents and Settings\Eigenaar\Mijn documenten\Mijn afbeeldingen\ziektebeelden groen\AF1vreterij.jpg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C:\Documents and Settings\Eigenaar\Mijn documenten\Mijn afbeeldingen\ziektebeelden groen\AF4mineren.jpg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6" descr="C:\Documents and Settings\Eigenaar\Mijn documenten\Mijn afbeeldingen\ziektebeelden groen\AF6boren.jpg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6" descr="C:\Documents and Settings\Eigenaar\Mijn documenten\Mijn afbeeldingen\ziektebeelden groen\AF7gallen.jpg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7" descr="engerling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Meikever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7" descr="AF8spinsel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iekten en pla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chadebeel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o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spins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alvor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n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ewone vreteri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zuigsch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ziekten en pl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acterievuur (2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 bloedingszie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eldau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nger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me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ortelknobbelaalt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zenha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ningzw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oedlu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advlekkenzie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o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irusaanta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6" descr="C:\Documents and Settings\Eigenaar\Mijn documenten\Mijn afbeeldingen\ziektebeelden groen\Bladvlekkenziekte plataan.jpg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7" descr="Honingzwam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7" descr="virus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7" descr="Bacterievuur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acterievuur3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5" descr="Wortelknobbelaaltje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4" descr="AF5steken-zuigen"/>
          <p:cNvPicPr/>
          <p:nvPr/>
        </p:nvPicPr>
        <p:blipFill>
          <a:blip r:embed="rId1"/>
          <a:stretch/>
        </p:blipFill>
        <p:spPr>
          <a:xfrm>
            <a:off x="2195640" y="162072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5" descr="AF1vreterij"/>
          <p:cNvPicPr/>
          <p:nvPr/>
        </p:nvPicPr>
        <p:blipFill>
          <a:blip r:embed="rId1"/>
          <a:stretch/>
        </p:blipFill>
        <p:spPr>
          <a:xfrm>
            <a:off x="2771640" y="1557360"/>
            <a:ext cx="3014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Harrie Wesselink</cp:lastModifiedBy>
  <cp:lastPrinted>2006-09-28T08:11:52Z</cp:lastPrinted>
  <dcterms:modified xsi:type="dcterms:W3CDTF">2015-09-04T13:59:48Z</dcterms:modified>
  <cp:revision>23</cp:revision>
  <dc:subject/>
  <dc:title>Het herkennen van ziekten en plagen in de groensector</dc:title>
</cp:coreProperties>
</file>