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59F4-2FF9-47D8-B919-8AA925EAF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0E93-DC0E-4522-A1E4-BB6470EB1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3B4E-4A86-42EA-AAAA-459FC9D46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8713-96A6-4C4D-8A05-19BD86E95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84DED-6386-4B9E-BAA0-13BF5EE09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B35DC-BF3E-4577-B7B5-942815038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3BB06-CC47-4230-B6A6-6899F847E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34DA9-B2B9-4B40-A5F5-886291986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0A14E-835D-46BC-9911-1B603419A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39C23-C7D8-4EEE-BACA-E0B6D65A1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F92B0-3EF4-480B-94E9-C1BCE958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5A66-DEC3-400E-BF7A-823053D3A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18BC4-82AC-4601-B47F-A6F432BC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46D79-7B3C-478A-8299-1993BEB6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F7596-4AF7-4A2B-96EB-DDC30DA13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632BD-2B6A-41B0-A2C6-591708571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29DB1-92AC-4E28-9FE5-883DEC210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023F-687D-4AE8-B717-56F9AAFD1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7015-8D1B-4E1E-9FBE-8E61EDF4E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05AD-2CF8-462F-9680-186E0F25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1DCF-C7E5-4E29-8BF3-7ED9AECD3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856B-2222-4F9D-9FBB-C9EAF108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C5C4-A09F-4C0C-AE37-A86D1265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9CEF-DCC8-4C57-9E20-B50C9A17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F02EE-869C-4DD9-9BD2-C824F8D25F98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E925B-64DD-407B-8605-F0A36EE27B4F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users.rcn.com/jkimball.ma.ultranet/BiologyPages/I/Insecticides.html#Carbamates" TargetMode="External"/><Relationship Id="rId2" Type="http://schemas.openxmlformats.org/officeDocument/2006/relationships/hyperlink" Target="http://users.rcn.com/jkimball.ma.ultranet/BiologyPages/I/Insecticides.html#Carbamates" TargetMode="External"/><Relationship Id="rId3" Type="http://schemas.openxmlformats.org/officeDocument/2006/relationships/hyperlink" Target="http://users.rcn.com/jkimball.ma.ultranet/BiologyPages/I/Insecticides.html#Chlorinated_Hydrocarbons" TargetMode="External"/><Relationship Id="rId4" Type="http://schemas.openxmlformats.org/officeDocument/2006/relationships/hyperlink" Target="http://users.rcn.com/jkimball.ma.ultranet/BiologyPages/I/Insecticides.html#Chlorinated_Hydrocarbons" TargetMode="External"/><Relationship Id="rId5" Type="http://schemas.openxmlformats.org/officeDocument/2006/relationships/hyperlink" Target="http://users.rcn.com/jkimball.ma.ultranet/BiologyPages/I/Insecticides.html#Chitin_Inhibitors" TargetMode="External"/><Relationship Id="rId6" Type="http://schemas.openxmlformats.org/officeDocument/2006/relationships/hyperlink" Target="http://users.rcn.com/jkimball.ma.ultranet/BiologyPages/I/Insecticides.html#Organophosphates" TargetMode="External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330033"/>
                </a:solidFill>
                <a:latin typeface="Times New Roman"/>
              </a:rPr>
              <a:t>arbeidsveiligheid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ied Hendrix AOC O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giftighei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hronische giftighei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Kankerverwekk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llergieë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(huid) ontsteking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eïnvloeding voortplan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Voorbeelden van R zinnen (risico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0 Schadelijk bij inade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1 Schadelijk bij aanraking met de h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2 Schadelijk bij opname door de m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3 Vergiftig bij inade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4 Vergiftig bij aanraking met de h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5 Vergiftig bij opname door de m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6 Zeer vergiftig bij inade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7 Zeer vergiftig bij aanraking met de h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8 Zeer vergiftig bij opname door de m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9 Vormt vergiftig gas in contact met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30 Kan bij gebruik licht ontvlambaar wo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31 Vormt vergiftigde gassen in contact met zu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S zinnen (safety veiligheid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 1 Achter slot bewa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 2 Buiten bereik van kinderen bewa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 9 Op een goed geventileerde plaats bewa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 13 Verwijderd houden van eet en drinkwaren en van dierenvoe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 20 Niet eten of drinken tijdens gebru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 21 Niet roken tijdens gebru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 22 Stof niet inad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Beschermende kled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1577880" y="1600200"/>
          <a:ext cx="644544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600200"/>
                    <a:ext cx="644544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Veiligheidsblad Staran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Technische maatregele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Goede algemene ventilatie zou in de meeste omstandigheden voldoende moe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zij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Plaatselijke afzuiging kan nodig zijn voor sommige werkzaamhe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Adembeschermi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Gebruik goedgekeurde adembescherming voorzien van filterbussen als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grenswaarden en/of de comfortwaarde mogelijk overschreden wo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Gebruik in noodgevallen een goedgekeurd persluchtademhalingstoestel (typ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verdruk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Bescherming van de handen/huidbescherm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raag schone, lichaamsbedekkende kleding met lange mouwen. Gebruik voor 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product niet doordringbare handschoen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In noodgevallen: Draag beschermende kleding die ondoorlaatbaar is voor 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product. De keuze van specifieke kledingstukken zal afhangen van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werkwijz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Bescherming van de ogen/van het gezich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raag een zuurbri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Veiligheidsblad Roundup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Technische contr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n bijzondere vereisten wanneer gebruikt zoals aanbevo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escherming van de o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n bijzondere vereisten wanneer gebruikt zoals aanbevo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escherming van de h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 herhaald of langdurig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hemisch-bestendige handschoenen dra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escherming van de ademhalingswe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n bijzondere vereisten wanneer gebruikt zoals aanbevo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dien aanbevolen, de leverancier van de persoonlijke beschermingsuitrusting raadplegen teneinde het gepa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ype van uitrusting te kennen voor een welbepaalde toepass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Persoonlijke bescherm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hankelijk van middel en wijze van toepa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Handmati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anuit een cabine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ie informatie op veilgheidsbl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www.fytostat.n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gever moet instru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nemer moet toepas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330033"/>
                </a:solidFill>
                <a:latin typeface="Times New Roman"/>
              </a:rPr>
              <a:t>Wet gewasbeschermingsmiddelen en biocide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scheid professioneel- niet professioneel op etik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plichting gewasbeschermingspl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plichting registratie middel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plichting geïntegreerd tel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middelenkas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oet deugdelijk z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ot 400 kg onder wet gewasbeschermingsmidd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fsluitba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eiligheidspictogramm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entileert, niet op een werkruim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Poeders boven, vloeistoffen on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Lekbak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bsorberend materiaal in de omgev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Met welke wetten heb je te maken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RBO-w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strijdingsmiddelenbesl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zorgvuligheidsartik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eschermende kle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wasplaats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t gewasbeschermingsmiddelen en bioci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330033"/>
                </a:solidFill>
                <a:latin typeface="Times New Roman"/>
              </a:rPr>
              <a:t>Wanneer contact met bestrijdingsmiddelen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ijdens spuitwerkzaamh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inigen spuitapparatu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rbetreding kas of gew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houd en repar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1962730_661_1207830800027-poten,_spuiten,_ploegen_en_zaaien_dus_voorjaar_12"/>
          <p:cNvPicPr/>
          <p:nvPr/>
        </p:nvPicPr>
        <p:blipFill>
          <a:blip r:embed="rId1"/>
          <a:stretch/>
        </p:blipFill>
        <p:spPr>
          <a:xfrm>
            <a:off x="1187280" y="836640"/>
            <a:ext cx="669636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Giftigheid oraa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dshoof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0-200 mgr per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dereaskru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00- 2000 mgr per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 mgr = een duizendste gr per kg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bruine%20rat%20close-up1_tcm7-16809"/>
          <p:cNvPicPr/>
          <p:nvPr/>
        </p:nvPicPr>
        <p:blipFill>
          <a:blip r:embed="rId1"/>
          <a:stretch/>
        </p:blipFill>
        <p:spPr>
          <a:xfrm>
            <a:off x="5292720" y="1982880"/>
            <a:ext cx="302436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Object 69"/>
          <p:cNvGraphicFramePr/>
          <p:nvPr/>
        </p:nvGraphicFramePr>
        <p:xfrm>
          <a:off x="0" y="1343160"/>
          <a:ext cx="8820000" cy="402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6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43160"/>
                    <a:ext cx="8820000" cy="40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Bestrijdingsmiddelen en gezondhei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1065240" y="771480"/>
          <a:ext cx="7013520" cy="5329440"/>
        </p:xfrm>
        <a:graphic>
          <a:graphicData uri="http://schemas.openxmlformats.org/drawingml/2006/table">
            <a:tbl>
              <a:tblPr/>
              <a:tblGrid>
                <a:gridCol w="2657520"/>
                <a:gridCol w="2685960"/>
                <a:gridCol w="1670040"/>
              </a:tblGrid>
              <a:tr h="965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m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al LD</a:t>
                      </a:r>
                      <a:r>
                        <a:rPr b="1" lang="nl-NL" sz="18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 Rats</a:t>
                      </a:r>
                      <a:br>
                        <a:rPr sz="1800"/>
                      </a:b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g/k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 u="sng">
                          <a:solidFill>
                            <a:srgbClr val="990033"/>
                          </a:solidFill>
                          <a:uFillTx/>
                          <a:latin typeface="Arial"/>
                          <a:hlinkClick r:id="rId1"/>
                        </a:rPr>
                        <a:t>Aldicarb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"Temik"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bam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 u="sng">
                          <a:solidFill>
                            <a:srgbClr val="990033"/>
                          </a:solidFill>
                          <a:uFillTx/>
                          <a:latin typeface="Arial"/>
                          <a:hlinkClick r:id="rId2"/>
                        </a:rPr>
                        <a:t>Carbaryl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"Sevin"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bam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 u="sng">
                          <a:solidFill>
                            <a:srgbClr val="990033"/>
                          </a:solidFill>
                          <a:uFillTx/>
                          <a:latin typeface="Arial"/>
                          <a:hlinkClick r:id="rId3"/>
                        </a:rPr>
                        <a:t>D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inated hydrocarb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 u="sng">
                          <a:solidFill>
                            <a:srgbClr val="990033"/>
                          </a:solidFill>
                          <a:uFillTx/>
                          <a:latin typeface="Arial"/>
                          <a:hlinkClick r:id="rId4"/>
                        </a:rPr>
                        <a:t>Dieldr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inated hydrocarb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 u="sng">
                          <a:solidFill>
                            <a:srgbClr val="990033"/>
                          </a:solidFill>
                          <a:uFillTx/>
                          <a:latin typeface="Arial"/>
                          <a:hlinkClick r:id="rId5"/>
                        </a:rPr>
                        <a:t>Diflubenzuron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"Dimilin"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tin inhibi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 u="sng">
                          <a:solidFill>
                            <a:srgbClr val="990033"/>
                          </a:solidFill>
                          <a:uFillTx/>
                          <a:latin typeface="Arial"/>
                          <a:hlinkClick r:id="rId6"/>
                        </a:rPr>
                        <a:t>Malath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ophos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opre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H mim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oxych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inated hydrocarb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th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ophos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peronyl butox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erg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yrethr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t extr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ten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t extr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800" spc="-1" strike="noStrike" u="sng">
                <a:solidFill>
                  <a:srgbClr val="330033"/>
                </a:solidFill>
                <a:uFillTx/>
                <a:latin typeface="Times New Roman"/>
              </a:rPr>
              <a:t>Opname van middel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de hu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n invlo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# huidtyp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# kleding handschoenen!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# aard oplosmiddel -&gt; vetten, EC'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# plaaats van contac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# toestand van de hui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de longen: inad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slik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giftighei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cute giftigheid: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cc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D-50 waar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Lethale Dosis : in mg per kg lichaamsge­wicht waarbij 50% van de proefdieren binnen twee weken sterf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ij gassen in ml per l concentrati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11:49:11Z</dcterms:created>
  <dc:creator>AOC-OOST</dc:creator>
  <dc:description/>
  <dc:language>en-US</dc:language>
  <cp:lastModifiedBy>Harrie Wesselink</cp:lastModifiedBy>
  <dcterms:modified xsi:type="dcterms:W3CDTF">2015-09-04T13:29:27Z</dcterms:modified>
  <cp:revision>10</cp:revision>
  <dc:subject/>
  <dc:title>arbeidsveiligheid</dc:title>
</cp:coreProperties>
</file>