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84F-09D5-4396-A4DD-02814058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7521-9676-466E-81C8-61CFD974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C055-9F0D-45BD-B38D-0E726958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619-0020-400F-8E50-A4ECCC7A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868D-DBAA-4F46-A7FE-F8BB0501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9758-95AC-464E-8732-44407379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C7BA-C65F-4116-924A-1BFB0BD9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E874-014F-4DA5-9E39-83B5A519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F63E-AB2E-41CC-B6A1-EA807A1D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D606-5C49-4894-9064-DBE7F404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A6B3-763C-4694-8F31-003D9C75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FF3-B7CE-4E9F-B686-B89A9800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276F-7032-4DC3-B585-9D3DAE45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3AFE-D01F-4085-BFBB-2F522636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1CA8-9168-4BB6-BCDD-15A0968C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D2BA-6217-48F0-89BE-2DCED512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09F5-7FAB-49A0-AD06-EDACE833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133-0E0D-4A35-BDA9-CC54BA9A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210-12F8-413A-9536-B5620C30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6976-D91E-4E38-868A-9CF170E2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1B3-8B6D-4AD9-8713-BAC3A622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F0D3-E460-41AB-A3A8-11CED313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3049-20CE-4192-8070-682847A9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5322-7560-4D8D-8905-F72DF78F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1F05-1175-4F3F-9E9B-84BDC8852CD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9062-A1ED-4000-8AF4-C835884ABE9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sers.rcn.com/jkimball.ma.ultranet/BiologyPages/I/Insecticides.html#Carbamates" TargetMode="External"/><Relationship Id="rId2" Type="http://schemas.openxmlformats.org/officeDocument/2006/relationships/hyperlink" Target="http://users.rcn.com/jkimball.ma.ultranet/BiologyPages/I/Insecticides.html#Carbamates" TargetMode="External"/><Relationship Id="rId3" Type="http://schemas.openxmlformats.org/officeDocument/2006/relationships/hyperlink" Target="http://users.rcn.com/jkimball.ma.ultranet/BiologyPages/I/Insecticides.html#Chlorinated_Hydrocarbons" TargetMode="External"/><Relationship Id="rId4" Type="http://schemas.openxmlformats.org/officeDocument/2006/relationships/hyperlink" Target="http://users.rcn.com/jkimball.ma.ultranet/BiologyPages/I/Insecticides.html#Chlorinated_Hydrocarbons" TargetMode="External"/><Relationship Id="rId5" Type="http://schemas.openxmlformats.org/officeDocument/2006/relationships/hyperlink" Target="http://users.rcn.com/jkimball.ma.ultranet/BiologyPages/I/Insecticides.html#Chitin_Inhibitors" TargetMode="External"/><Relationship Id="rId6" Type="http://schemas.openxmlformats.org/officeDocument/2006/relationships/hyperlink" Target="http://users.rcn.com/jkimball.ma.ultranet/BiologyPages/I/Insecticides.html#Organophosphates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arbeidsveiligheid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ed Hendrix AOC O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ronische giftig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llergieë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(huid) ontsteki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ïnvloeding voortplan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oorbeelden van R zinnen (risic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0 Schadelijk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1 Schadelijk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2 Schadelijk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3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4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5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6 Zeer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7 Zeer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8 Zeer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9 Vormt vergiftig gas in contact met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0 Kan bij gebruik licht ontvlambaar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1 Vormt vergiftigde gassen in contact met z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S zinnen (safety veilighei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 Achter slot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 Buiten bereik van kinderen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9 Op een goed geventileerde plaats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3 Verwijderd houden van eet en drinkwaren en van dierenv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0 Niet eten of drin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1 Niet ro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2 Stof niet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chermende kle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577880" y="1600200"/>
          <a:ext cx="644544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600200"/>
                    <a:ext cx="64454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Stara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Technische maatregel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oede algemene ventilatie zou in de meeste omstandigheden voldoende moe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zij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atselijke afzuiging kan nodig zijn voor sommige werkzaamhe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bescherm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goedgekeurde adembescherming voorzien van filterbussen al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enswaarden en/of de comfortwaarde mogelijk overschreden wo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in noodgevallen een goedgekeurd persluchtademhalingstoestel (typ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verdru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handen/huidbescherm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schone, lichaamsbedekkende kleding met lange mouwen. Gebruik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 niet doordringbare handschoe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n noodgevallen: Draag beschermende kleding die ondoorlaatbaar is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. De keuze van specifieke kledingstukken zal afhangen va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werkwij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ogen/van het gezich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een zuurbr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Round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echnische cont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herhaald of langdurig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emisch-bestendige handschoenen dr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ademhalings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dien aanbevolen, de leverancier van de persoonlijke beschermingsuitrusting raadplegen teneinde het ge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 van uitrusting te kennen voor een welbepaalde toepa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Persoonlijke bescherm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hankelijk van middel en wijze van 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andmat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anuit een cabine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e informatie op veilgheids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ww.fytostat.n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gever moet instru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 moet toep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et gewasbeschermingsmiddelen en biocide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scheid professioneel- niet professioneel op eti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wasbeschermings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registratie midd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ïntegreerd t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iddelenkas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deugdelijk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t 400 kg onder wet gewas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fsluitba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iligheidspictogram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ntileert, niet op een werkruim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oeders boven, vloeistoffen o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kb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bsorberend materiaal in de omge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et welke wetten heb je te make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trijdingsmiddelenbesl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orgvuligheidsartik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splaats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anneer contact met bestrijdingsmiddelen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ijdens spuitwerkzaam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inigen spuitappar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rbetreding kas of gew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 en repa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1962730_661_1207830800027-poten,_spuiten,_ploegen_en_zaaien_dus_voorjaar_12"/>
          <p:cNvPicPr/>
          <p:nvPr/>
        </p:nvPicPr>
        <p:blipFill>
          <a:blip r:embed="rId1"/>
          <a:stretch/>
        </p:blipFill>
        <p:spPr>
          <a:xfrm>
            <a:off x="1187280" y="836640"/>
            <a:ext cx="6696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 ora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dshoof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0-2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askru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00- 20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 mgr = een duizendste gr per k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bruine%20rat%20close-up1_tcm7-16809"/>
          <p:cNvPicPr/>
          <p:nvPr/>
        </p:nvPicPr>
        <p:blipFill>
          <a:blip r:embed="rId1"/>
          <a:stretch/>
        </p:blipFill>
        <p:spPr>
          <a:xfrm>
            <a:off x="5292720" y="1982880"/>
            <a:ext cx="30243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69"/>
          <p:cNvGraphicFramePr/>
          <p:nvPr/>
        </p:nvGraphicFramePr>
        <p:xfrm>
          <a:off x="0" y="1343160"/>
          <a:ext cx="882000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3160"/>
                    <a:ext cx="882000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trijdingsmiddelen en gezond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065240" y="771480"/>
          <a:ext cx="7013520" cy="5329440"/>
        </p:xfrm>
        <a:graphic>
          <a:graphicData uri="http://schemas.openxmlformats.org/drawingml/2006/table">
            <a:tbl>
              <a:tblPr/>
              <a:tblGrid>
                <a:gridCol w="2657520"/>
                <a:gridCol w="2685960"/>
                <a:gridCol w="1670040"/>
              </a:tblGrid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 LD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Rat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g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1"/>
                        </a:rPr>
                        <a:t>Aldica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Temik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2"/>
                        </a:rPr>
                        <a:t>Carbary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Sev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3"/>
                        </a:rPr>
                        <a:t>D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4"/>
                        </a:rPr>
                        <a:t>Dield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5"/>
                        </a:rPr>
                        <a:t>Diflubenzuro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Dimil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tin 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6"/>
                        </a:rPr>
                        <a:t>Mal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pr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 mi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xych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ronyl butox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er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eth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e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 u="sng">
                <a:solidFill>
                  <a:srgbClr val="330033"/>
                </a:solidFill>
                <a:uFillTx/>
                <a:latin typeface="Times New Roman"/>
              </a:rPr>
              <a:t>Opname van middel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invlo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huid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kleding handschoenen!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aard oplosmiddel -&gt; vetten, EC'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plaaats van conta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toestand van de hu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longen: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ute giftigheid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D-50 waar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thale Dosis : in mg per kg lichaamsge­wicht waarbij 50% van de proefdieren binnen twee weken ster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gassen in ml per l concentrat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1:49:11Z</dcterms:created>
  <dc:creator>AOC-OOST</dc:creator>
  <dc:description/>
  <dc:language>en-US</dc:language>
  <cp:lastModifiedBy>Harrie Wesselink</cp:lastModifiedBy>
  <dcterms:modified xsi:type="dcterms:W3CDTF">2015-09-04T13:29:27Z</dcterms:modified>
  <cp:revision>10</cp:revision>
  <dc:subject/>
  <dc:title>arbeidsveiligheid</dc:title>
</cp:coreProperties>
</file>