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1D0-FE5B-484F-B0BA-39726C74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BC2-8D30-404B-93AB-4A949E3D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0B2-9502-4245-A117-69AC156A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6A5D-3851-46EA-8FE4-4295CE74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00CE-3AE4-479E-B9C3-1DDF1785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430E-40B9-43FD-BCE2-ACBE475F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8EC2-2A2D-48ED-8BAC-D316409C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E6BD-ACA8-4350-AFE9-938F18FA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B4C6-9032-4B40-998D-B983ACE6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0DAA-3A59-4933-A67F-A3328A37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56AE-F0D7-40C2-B1DC-4DA971D9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464D-356A-4B03-9A7E-9F38F399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AB33-27B5-4608-855E-B6B3D210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12A5-CFAC-4BC5-8287-7DB12722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C22D-F4B3-4384-A938-56F10D1D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ABDB-1A2E-4CD4-BD50-597EA636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9B54-9DA8-42FB-AE8B-D69676C1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7E0-4E5F-4952-866A-EF5BBFA1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5A9C-E32F-42D0-AB34-8F12EDB4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CAB-3132-460D-9081-BA7B1A2F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573-2687-4A69-9C20-47E016D1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6DF6-5555-4358-9134-538A370E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5EE1-2D6F-4687-9FF5-A4F52771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3A65-30C1-4630-B0CD-FF45F02C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751E-8066-45FB-AD85-60BB88855F3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0E99-E81B-43C9-BF8A-183660C6762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sers.rcn.com/jkimball.ma.ultranet/BiologyPages/I/Insecticides.html#Carbamates" TargetMode="External"/><Relationship Id="rId2" Type="http://schemas.openxmlformats.org/officeDocument/2006/relationships/hyperlink" Target="http://users.rcn.com/jkimball.ma.ultranet/BiologyPages/I/Insecticides.html#Carbamates" TargetMode="External"/><Relationship Id="rId3" Type="http://schemas.openxmlformats.org/officeDocument/2006/relationships/hyperlink" Target="http://users.rcn.com/jkimball.ma.ultranet/BiologyPages/I/Insecticides.html#Chlorinated_Hydrocarbons" TargetMode="External"/><Relationship Id="rId4" Type="http://schemas.openxmlformats.org/officeDocument/2006/relationships/hyperlink" Target="http://users.rcn.com/jkimball.ma.ultranet/BiologyPages/I/Insecticides.html#Chlorinated_Hydrocarbons" TargetMode="External"/><Relationship Id="rId5" Type="http://schemas.openxmlformats.org/officeDocument/2006/relationships/hyperlink" Target="http://users.rcn.com/jkimball.ma.ultranet/BiologyPages/I/Insecticides.html#Chitin_Inhibitors" TargetMode="External"/><Relationship Id="rId6" Type="http://schemas.openxmlformats.org/officeDocument/2006/relationships/hyperlink" Target="http://users.rcn.com/jkimball.ma.ultranet/BiologyPages/I/Insecticides.html#Organophosphates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arbeidsveiligheid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ed Hendrix AOC O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ronische giftig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llergieë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(huid) ontsteki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ïnvloeding voortplan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oorbeelden van R zinnen (risico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0 Schadelijk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1 Schadelijk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2 Schadelijk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3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4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5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6 Zeer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7 Zeer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8 Zeer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9 Vormt vergiftig gas in contact met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0 Kan bij gebruik licht ontvlambaar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1 Vormt vergiftigde gassen in contact met z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S zinnen (safety veilighei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 Achter slot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 Buiten bereik van kinderen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9 Op een goed geventileerde plaats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3 Verwijderd houden van eet en drinkwaren en van dierenv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0 Niet eten of drin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1 Niet ro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2 Stof niet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chermende kle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1577880" y="1600200"/>
          <a:ext cx="644544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600200"/>
                    <a:ext cx="64454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Stara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Technische maatregel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oede algemene ventilatie zou in de meeste omstandigheden voldoende moe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zij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atselijke afzuiging kan nodig zijn voor sommige werkzaamhe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bescherm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goedgekeurde adembescherming voorzien van filterbussen al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enswaarden en/of de comfortwaarde mogelijk overschreden wo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in noodgevallen een goedgekeurd persluchtademhalingstoestel (typ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verdru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handen/huidbescherm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schone, lichaamsbedekkende kleding met lange mouwen. Gebruik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 niet doordringbare handschoe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n noodgevallen: Draag beschermende kleding die ondoorlaatbaar is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. De keuze van specifieke kledingstukken zal afhangen va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werkwij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ogen/van het gezich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een zuurbr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Round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echnische cont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herhaald of langdurig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emisch-bestendige handschoenen dr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ademhalings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dien aanbevolen, de leverancier van de persoonlijke beschermingsuitrusting raadplegen teneinde het ge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 van uitrusting te kennen voor een welbepaalde toepa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Persoonlijke bescherm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hankelijk van middel en wijze van 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andmat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anuit een cabine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e informatie op veilgheids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ww.fytostat.n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gever moet instru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 moet toep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et gewasbeschermingsmiddelen en biocide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scheid professioneel- niet professioneel op eti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wasbeschermings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registratie midd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ïntegreerd t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iddelenkas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deugdelijk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t 400 kg onder wet gewas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fsluitba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iligheidspictogram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ntileert, niet op een werkruim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oeders boven, vloeistoffen o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kb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bsorberend materiaal in de omge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et welke wetten heb je te make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trijdingsmiddelenbesl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orgvuligheidsartik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splaats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anneer contact met bestrijdingsmiddelen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ijdens spuitwerkzaam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inigen spuitappar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rbetreding kas of gew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 en repa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1962730_661_1207830800027-poten,_spuiten,_ploegen_en_zaaien_dus_voorjaar_12"/>
          <p:cNvPicPr/>
          <p:nvPr/>
        </p:nvPicPr>
        <p:blipFill>
          <a:blip r:embed="rId1"/>
          <a:stretch/>
        </p:blipFill>
        <p:spPr>
          <a:xfrm>
            <a:off x="1187280" y="836640"/>
            <a:ext cx="66963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 ora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dshoof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0-2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askru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00- 20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 mgr = een duizendste gr per kg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bruine%20rat%20close-up1_tcm7-16809"/>
          <p:cNvPicPr/>
          <p:nvPr/>
        </p:nvPicPr>
        <p:blipFill>
          <a:blip r:embed="rId1"/>
          <a:stretch/>
        </p:blipFill>
        <p:spPr>
          <a:xfrm>
            <a:off x="5292720" y="1982880"/>
            <a:ext cx="30243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69"/>
          <p:cNvGraphicFramePr/>
          <p:nvPr/>
        </p:nvGraphicFramePr>
        <p:xfrm>
          <a:off x="0" y="1343160"/>
          <a:ext cx="882000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3160"/>
                    <a:ext cx="882000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trijdingsmiddelen en gezond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065240" y="771480"/>
          <a:ext cx="7013520" cy="5329440"/>
        </p:xfrm>
        <a:graphic>
          <a:graphicData uri="http://schemas.openxmlformats.org/drawingml/2006/table">
            <a:tbl>
              <a:tblPr/>
              <a:tblGrid>
                <a:gridCol w="2657520"/>
                <a:gridCol w="2685960"/>
                <a:gridCol w="1670040"/>
              </a:tblGrid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 LD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Rat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g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1"/>
                        </a:rPr>
                        <a:t>Aldica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Temik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2"/>
                        </a:rPr>
                        <a:t>Carbary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Sev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3"/>
                        </a:rPr>
                        <a:t>D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4"/>
                        </a:rPr>
                        <a:t>Dield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5"/>
                        </a:rPr>
                        <a:t>Diflubenzuro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Dimil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tin 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6"/>
                        </a:rPr>
                        <a:t>Mal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pr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 mi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xych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ronyl butox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erg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eth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e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 u="sng">
                <a:solidFill>
                  <a:srgbClr val="330033"/>
                </a:solidFill>
                <a:uFillTx/>
                <a:latin typeface="Times New Roman"/>
              </a:rPr>
              <a:t>Opname van middel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invlo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huid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kleding handschoenen!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aard oplosmiddel -&gt; vetten, EC'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plaaats van conta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toestand van de hu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longen: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ute giftigheid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D-50 waar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thale Dosis : in mg per kg lichaamsge­wicht waarbij 50% van de proefdieren binnen twee weken ster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gassen in ml per l concentrat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1:49:11Z</dcterms:created>
  <dc:creator>AOC-OOST</dc:creator>
  <dc:description/>
  <dc:language>en-US</dc:language>
  <cp:lastModifiedBy>Harrie Wesselink</cp:lastModifiedBy>
  <dcterms:modified xsi:type="dcterms:W3CDTF">2015-09-04T13:29:27Z</dcterms:modified>
  <cp:revision>10</cp:revision>
  <dc:subject/>
  <dc:title>arbeidsveiligheid</dc:title>
</cp:coreProperties>
</file>