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7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77FB-150E-48FB-B6D9-4562D5D1C91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CA81-B28D-45C2-B244-40918D957C2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7C3-D2E2-4887-87B7-11D53AB7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05A-1F67-48A0-A024-A6A92733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468-73A8-4299-BC7A-4746A328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CC3-1150-4BAE-A540-912219B7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6F8C-F783-4204-BE32-4C3CE24B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0B52-E552-4512-819B-64F521CC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DF96-5770-4E4F-916C-B7852F00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52D1-1253-45E7-B3DE-40510518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E5DD-B224-4A96-8AC0-5D310D7C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044B-CBBE-4FD8-8008-807C08AA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6867-BE90-4A8A-A660-D9CD35C2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4C2-96B4-4B97-A596-F6F1A8D2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6FB0-4B03-46A7-893B-909B737D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8E91-0AA8-46D5-8A27-B8C93C13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701B-A495-4AFE-948B-D95C5D37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5C4E-C61F-43ED-9AE5-1CB3E27B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887B-B6E4-4837-A9C3-80F5B5B1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4ED-5A13-4306-8617-FF17E21E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CF1-D7AB-4E40-8B09-E0EE431E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EA0-860A-45FA-AE0F-3122FA1C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498-1292-48B9-8EC5-CDACE228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21F-BE06-40BA-8FF4-BC662D54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E7A-5C3C-425D-AFCF-7B6A69D0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545-41D8-43AE-8DE9-393C708C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AF33-5E84-45F2-A4A7-E15BB629A3D7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774D-E92D-41FF-A881-E3E8FC490E46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6 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4" descr="Wilgehoutrups2"/>
          <p:cNvPicPr/>
          <p:nvPr/>
        </p:nvPicPr>
        <p:blipFill>
          <a:blip r:embed="rId1"/>
          <a:stretch/>
        </p:blipFill>
        <p:spPr>
          <a:xfrm>
            <a:off x="468360" y="1557360"/>
            <a:ext cx="2709720" cy="4149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094%20wilgenhoutrups_%20aantasting,%20vlinder,%20rups%20c-094%20wilgenhoutrups_%20aantasting,%20vlinder,%20rups%20c-1"/>
          <p:cNvPicPr/>
          <p:nvPr/>
        </p:nvPicPr>
        <p:blipFill>
          <a:blip r:embed="rId3"/>
          <a:stretch/>
        </p:blipFill>
        <p:spPr>
          <a:xfrm>
            <a:off x="3780000" y="2143080"/>
            <a:ext cx="53640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Bacterievuur3"/>
          <p:cNvPicPr/>
          <p:nvPr/>
        </p:nvPicPr>
        <p:blipFill>
          <a:blip r:embed="rId1"/>
          <a:stretch/>
        </p:blipFill>
        <p:spPr>
          <a:xfrm>
            <a:off x="2556000" y="1413000"/>
            <a:ext cx="3435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Picture 5" descr="engerling"/>
          <p:cNvPicPr/>
          <p:nvPr/>
        </p:nvPicPr>
        <p:blipFill>
          <a:blip r:embed="rId1"/>
          <a:stretch/>
        </p:blipFill>
        <p:spPr>
          <a:xfrm>
            <a:off x="1763640" y="198108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Bladvlekkenziekte plataan"/>
          <p:cNvPicPr/>
          <p:nvPr/>
        </p:nvPicPr>
        <p:blipFill>
          <a:blip r:embed="rId1"/>
          <a:stretch/>
        </p:blipFill>
        <p:spPr>
          <a:xfrm>
            <a:off x="1476360" y="1835280"/>
            <a:ext cx="5975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5" descr="appelbloedluis"/>
          <p:cNvPicPr/>
          <p:nvPr/>
        </p:nvPicPr>
        <p:blipFill>
          <a:blip r:embed="rId1"/>
          <a:stretch/>
        </p:blipFill>
        <p:spPr>
          <a:xfrm>
            <a:off x="1332000" y="1922400"/>
            <a:ext cx="619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5" descr="Elzehaantje"/>
          <p:cNvPicPr/>
          <p:nvPr/>
        </p:nvPicPr>
        <p:blipFill>
          <a:blip r:embed="rId1"/>
          <a:stretch/>
        </p:blipFill>
        <p:spPr>
          <a:xfrm>
            <a:off x="1547640" y="2009880"/>
            <a:ext cx="5832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2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5" descr="Honingzwam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8" descr="Wortelknobbelaaltje"/>
          <p:cNvPicPr/>
          <p:nvPr/>
        </p:nvPicPr>
        <p:blipFill>
          <a:blip r:embed="rId1"/>
          <a:stretch/>
        </p:blipFill>
        <p:spPr>
          <a:xfrm>
            <a:off x="1332000" y="1844640"/>
            <a:ext cx="5041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4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Picture 4" descr="Langpootmug"/>
          <p:cNvPicPr/>
          <p:nvPr/>
        </p:nvPicPr>
        <p:blipFill>
          <a:blip r:embed="rId1"/>
          <a:stretch/>
        </p:blipFill>
        <p:spPr>
          <a:xfrm>
            <a:off x="250920" y="1628640"/>
            <a:ext cx="4195800" cy="3094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emelten1-emelten1-1"/>
          <p:cNvPicPr/>
          <p:nvPr/>
        </p:nvPicPr>
        <p:blipFill>
          <a:blip r:embed="rId3"/>
          <a:stretch/>
        </p:blipFill>
        <p:spPr>
          <a:xfrm>
            <a:off x="5148360" y="1700280"/>
            <a:ext cx="29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15 Naam aantaster kastanj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5" descr="stam_stip_3"/>
          <p:cNvPicPr/>
          <p:nvPr/>
        </p:nvPicPr>
        <p:blipFill>
          <a:blip r:embed="rId1"/>
          <a:stretch/>
        </p:blipFill>
        <p:spPr>
          <a:xfrm>
            <a:off x="5219640" y="24210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ruppel_1"/>
          <p:cNvPicPr/>
          <p:nvPr/>
        </p:nvPicPr>
        <p:blipFill>
          <a:blip r:embed="rId2"/>
          <a:stretch/>
        </p:blipFill>
        <p:spPr>
          <a:xfrm>
            <a:off x="826920" y="278136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6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403280" y="1844640"/>
          <a:ext cx="5478480" cy="41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547848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Picture 4" descr="Virus in Buddleja"/>
          <p:cNvPicPr/>
          <p:nvPr/>
        </p:nvPicPr>
        <p:blipFill>
          <a:blip r:embed="rId1"/>
          <a:stretch/>
        </p:blipFill>
        <p:spPr>
          <a:xfrm>
            <a:off x="2627280" y="1413000"/>
            <a:ext cx="32767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1028" descr="Bacterievuur"/>
          <p:cNvPicPr/>
          <p:nvPr/>
        </p:nvPicPr>
        <p:blipFill>
          <a:blip r:embed="rId1"/>
          <a:stretch/>
        </p:blipFill>
        <p:spPr>
          <a:xfrm>
            <a:off x="1403280" y="2200320"/>
            <a:ext cx="5545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Picture 4" descr="Meikever"/>
          <p:cNvPicPr/>
          <p:nvPr/>
        </p:nvPicPr>
        <p:blipFill>
          <a:blip r:embed="rId1"/>
          <a:stretch/>
        </p:blipFill>
        <p:spPr>
          <a:xfrm>
            <a:off x="1692360" y="1987560"/>
            <a:ext cx="5543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5" descr="069%20echte%20meeldauw%20bij%20vele%20gewassen%20oa%20rosa%20roos%20a-069%20echte%20meeldauw%20bij%20vele%20gewassen%20oa%20rosa%20roos%20a-1"/>
          <p:cNvPicPr/>
          <p:nvPr/>
        </p:nvPicPr>
        <p:blipFill>
          <a:blip r:embed="rId1"/>
          <a:stretch/>
        </p:blipFill>
        <p:spPr>
          <a:xfrm>
            <a:off x="900000" y="1844640"/>
            <a:ext cx="6667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iekten en pla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chadebeel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boren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spinsel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alvorming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minere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ewone vreterij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zuigschade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ziekten en pl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acterievuur (2*) 7 en 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 bloedingsziekte 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eldauw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ngerling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kever 1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melt 1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ortelknobbelaaltjes 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zenhaan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ningzwam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oedluis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advlekkenziekte 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oest 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irusaantasting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9" descr="C:\Documents and Settings\Eigenaar\Mijn documenten\Mijn afbeeldingen\ziektebeelden groen\Elzehaantje.jpg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Documents and Settings\Eigenaar\Mijn documenten\Mijn afbeeldingen\ziektebeelden groen\Huisjesslakken.jpg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6" descr="C:\Documents and Settings\Eigenaar\Mijn documenten\Mijn afbeeldingen\ziektebeelden groen\appelbloedluis.jpg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:\Documents and Settings\Eigenaar\Mijn documenten\Mijn afbeeldingen\ziektebeelden groen\Bladvlekkenziekte plataan.jpg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Wat weet u er nog van?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 krijgt 20 afbeeldingen van verschillende schadebeelden, ziekten en pla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oteer achter het nummer in uw lijst de naam van aantaster, schadebeeld e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C:\Documents and Settings\Eigenaar\Mijn documenten\Mijn afbeeldingen\ziektebeelden groen\AF1vreterij.jpg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C:\Documents and Settings\Eigenaar\Mijn documenten\Mijn afbeeldingen\ziektebeelden groen\AF4mineren.jpg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6" descr="C:\Documents and Settings\Eigenaar\Mijn documenten\Mijn afbeeldingen\ziektebeelden groen\AF6boren.jpg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6" descr="C:\Documents and Settings\Eigenaar\Mijn documenten\Mijn afbeeldingen\ziektebeelden groen\AF7gallen.jpg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7" descr="engerling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Meikever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7" descr="AF8spinsel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iekten en pla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chadebeel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bo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spins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alvorm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mine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gewone vreteri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zuigscha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ziekten en pl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acterievuur (2*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 bloedingsziek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eldau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nger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me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ortelknobbelaalt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zenha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ningzw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oedlu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advlekkenziek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o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irusaanta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6" descr="C:\Documents and Settings\Eigenaar\Mijn documenten\Mijn afbeeldingen\ziektebeelden groen\Bladvlekkenziekte plataan.jpg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7" descr="Honingzwam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7" descr="virus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7" descr="Bacterievuur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acterievuur3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5" descr="Wortelknobbelaaltje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4" descr="AF4mineren"/>
          <p:cNvPicPr/>
          <p:nvPr/>
        </p:nvPicPr>
        <p:blipFill>
          <a:blip r:embed="rId1"/>
          <a:stretch/>
        </p:blipFill>
        <p:spPr>
          <a:xfrm>
            <a:off x="1476360" y="18590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2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4" descr="AF7gallen"/>
          <p:cNvPicPr/>
          <p:nvPr/>
        </p:nvPicPr>
        <p:blipFill>
          <a:blip r:embed="rId1"/>
          <a:stretch/>
        </p:blipFill>
        <p:spPr>
          <a:xfrm>
            <a:off x="2612880" y="1886040"/>
            <a:ext cx="3867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3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4" descr="AF5steken-zuigen"/>
          <p:cNvPicPr/>
          <p:nvPr/>
        </p:nvPicPr>
        <p:blipFill>
          <a:blip r:embed="rId1"/>
          <a:stretch/>
        </p:blipFill>
        <p:spPr>
          <a:xfrm>
            <a:off x="2195640" y="162072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4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5" descr="AF1vreterij"/>
          <p:cNvPicPr/>
          <p:nvPr/>
        </p:nvPicPr>
        <p:blipFill>
          <a:blip r:embed="rId1"/>
          <a:stretch/>
        </p:blipFill>
        <p:spPr>
          <a:xfrm>
            <a:off x="2771640" y="1557360"/>
            <a:ext cx="3014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5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4" descr="AF8spinsel"/>
          <p:cNvPicPr/>
          <p:nvPr/>
        </p:nvPicPr>
        <p:blipFill>
          <a:blip r:embed="rId1"/>
          <a:stretch/>
        </p:blipFill>
        <p:spPr>
          <a:xfrm>
            <a:off x="1619280" y="1905120"/>
            <a:ext cx="612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Harrie Wesselink</cp:lastModifiedBy>
  <cp:lastPrinted>2006-09-28T08:11:52Z</cp:lastPrinted>
  <dcterms:modified xsi:type="dcterms:W3CDTF">2015-09-04T13:59:48Z</dcterms:modified>
  <cp:revision>23</cp:revision>
  <dc:subject/>
  <dc:title>Het herkennen van ziekten en plagen in de groensector</dc:title>
</cp:coreProperties>
</file>