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0B2-A4F4-4621-8F0B-83253700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FA1-B7D5-4069-A863-49D89DD5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559-9D14-4E95-9645-65C88FEE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C84-2B7B-46A1-8F46-C4F558F2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ECC0-E7F8-44AA-8183-F0CCD4AA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1BDA-5ECF-47BD-ACDA-883553AF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8BD7-0511-4C5C-8486-575CD371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BF5A-A485-4EF0-B841-2AEA374C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A5EA-227C-41FF-A885-FF476D95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2F33-B066-40B9-B4B0-057D3DE6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CC34-DFD5-4850-AF87-279DF2B0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410-6C51-4AB6-9A94-C24BF7EC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5A0A-48AC-4394-AC78-14EFFA12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69F6-23BF-4A32-B5AF-3B01EBA2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00CB-BE36-461D-86FC-23F6F178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18E5-D1A5-4F53-8D3F-71F5E8CC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8EF4-AB05-4236-8472-98A04390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8E6-4CF5-41ED-9B86-CAF0218B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A26-BDB3-4462-BD9A-982FA4FF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30E-118A-4B64-A65F-A7020F33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B82-8616-40BC-B37C-BFA10F29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20C-06E9-4D6A-B083-164876B1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545-79E6-41F8-97FB-4BB1F960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9C3-EAD3-4064-A52F-D965893A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704F-74F4-4DE0-967E-BF41F71B8C2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7497-14D5-4E40-B16C-4BCBBCDF628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6666"/>
                </a:solidFill>
                <a:latin typeface="Arial"/>
              </a:rPr>
              <a:t>etikette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p het etiket sta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gevens over de aard van het midde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merknaam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werkzame stof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gehal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p het etiket sta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gevens over he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ttelijk gebruik van het midde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toelatingsnummer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wettelijkgebruiksvoorschrif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0" y="1709640"/>
          <a:ext cx="914400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9640"/>
                    <a:ext cx="914400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p het etiket sta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Gegevens over het veilig gebruik van het middel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de toxicologische groep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gevaarsymbole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bijzondere gevare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veiligheidsaanbeveling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p het etiket sta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gevens over een doeltreffend gebruik van het midde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gebruiksaanwijz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7:46:44Z</dcterms:created>
  <dc:creator>Systeembeheer</dc:creator>
  <dc:description/>
  <dc:language>en-US</dc:language>
  <cp:lastModifiedBy>Harrie Wesselink</cp:lastModifiedBy>
  <dcterms:modified xsi:type="dcterms:W3CDTF">2015-09-04T13:33:25Z</dcterms:modified>
  <cp:revision>5</cp:revision>
  <dc:subject/>
  <dc:title>etiketten</dc:title>
</cp:coreProperties>
</file>