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8521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480" y="3979080"/>
            <a:ext cx="8521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7280" y="184284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0480" y="397908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7280" y="397908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84284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2640" y="184284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0480" y="39790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9790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2640" y="39790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20480" y="184284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415836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7280" y="1842840"/>
            <a:ext cx="415836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1760" y="229680"/>
            <a:ext cx="844236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280" y="1842840"/>
            <a:ext cx="415836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20480" y="397908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415836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7280" y="184284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7280" y="397908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0480" y="184284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7280" y="1842840"/>
            <a:ext cx="4158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480" y="3979080"/>
            <a:ext cx="85215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1760" y="229680"/>
            <a:ext cx="8442360" cy="839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18000" rIns="90000" tIns="0" bIns="324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72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0480" y="184284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5" marL="3405240" indent="-35244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6" marL="3405240" indent="-35244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pic>
        <p:nvPicPr>
          <p:cNvPr id="2" name="Afbeelding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Titel 1"/>
          <p:cNvGrpSpPr/>
          <p:nvPr/>
        </p:nvGrpSpPr>
        <p:grpSpPr>
          <a:xfrm>
            <a:off x="493560" y="231840"/>
            <a:ext cx="8448480" cy="1329840"/>
            <a:chOff x="493560" y="231840"/>
            <a:chExt cx="8448480" cy="1329840"/>
          </a:xfrm>
        </p:grpSpPr>
        <p:pic>
          <p:nvPicPr>
            <p:cNvPr id="40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493560" y="231840"/>
              <a:ext cx="8440920" cy="13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4400" spc="-1" strike="noStrike">
                  <a:solidFill>
                    <a:srgbClr val="005172"/>
                  </a:solidFill>
                  <a:latin typeface="Verdana"/>
                </a:rPr>
                <a:t>Groeien in rendement</a:t>
              </a:r>
              <a:endParaRPr b="0" lang="en-US" sz="44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pic>
        <p:nvPicPr>
          <p:cNvPr id="42" name="Tijdelijke aanduiding voor afbeelding 19" descr=""/>
          <p:cNvPicPr/>
          <p:nvPr/>
        </p:nvPicPr>
        <p:blipFill>
          <a:blip r:embed="rId2"/>
          <a:stretch/>
        </p:blipFill>
        <p:spPr>
          <a:xfrm>
            <a:off x="6308640" y="2687760"/>
            <a:ext cx="2646360" cy="2646360"/>
          </a:xfrm>
          <a:prstGeom prst="rect">
            <a:avLst/>
          </a:prstGeom>
          <a:ln w="0">
            <a:noFill/>
          </a:ln>
        </p:spPr>
      </p:pic>
      <p:pic>
        <p:nvPicPr>
          <p:cNvPr id="43" name="Tijdelijke aanduiding voor afbeelding 16" descr=""/>
          <p:cNvPicPr/>
          <p:nvPr/>
        </p:nvPicPr>
        <p:blipFill>
          <a:blip r:embed="rId3"/>
          <a:stretch/>
        </p:blipFill>
        <p:spPr>
          <a:xfrm>
            <a:off x="4711680" y="2687760"/>
            <a:ext cx="2652840" cy="2646360"/>
          </a:xfrm>
          <a:prstGeom prst="rect">
            <a:avLst/>
          </a:prstGeom>
          <a:ln w="0">
            <a:noFill/>
          </a:ln>
        </p:spPr>
      </p:pic>
      <p:pic>
        <p:nvPicPr>
          <p:cNvPr id="44" name="Tijdelijke aanduiding voor afbeelding 15" descr=""/>
          <p:cNvPicPr/>
          <p:nvPr/>
        </p:nvPicPr>
        <p:blipFill>
          <a:blip r:embed="rId4"/>
          <a:stretch/>
        </p:blipFill>
        <p:spPr>
          <a:xfrm>
            <a:off x="3121200" y="2687760"/>
            <a:ext cx="2646360" cy="2646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9080" y="5586480"/>
            <a:ext cx="8447040" cy="371520"/>
          </a:xfrm>
          <a:prstGeom prst="rect">
            <a:avLst/>
          </a:prstGeom>
          <a:noFill/>
          <a:ln w="0">
            <a:noFill/>
          </a:ln>
        </p:spPr>
        <p:txBody>
          <a:bodyPr lIns="36000" rIns="90000" anchor="t">
            <a:normAutofit fontScale="88000"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Meer info: Jelle Zijlstra, Wageningen UR Livestock Research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</p:txBody>
      </p:sp>
      <p:pic>
        <p:nvPicPr>
          <p:cNvPr id="46" name="Tijdelijke aanduiding voor afbeelding 8" descr=""/>
          <p:cNvPicPr/>
          <p:nvPr/>
        </p:nvPicPr>
        <p:blipFill>
          <a:blip r:embed="rId5"/>
          <a:stretch/>
        </p:blipFill>
        <p:spPr>
          <a:xfrm>
            <a:off x="476280" y="2687760"/>
            <a:ext cx="2651040" cy="2646360"/>
          </a:xfrm>
          <a:prstGeom prst="rect">
            <a:avLst/>
          </a:prstGeom>
          <a:ln w="0">
            <a:noFill/>
          </a:ln>
        </p:spPr>
      </p:pic>
      <p:sp>
        <p:nvSpPr>
          <p:cNvPr id="47" name="Tekstvak 2"/>
          <p:cNvSpPr/>
          <p:nvPr/>
        </p:nvSpPr>
        <p:spPr>
          <a:xfrm>
            <a:off x="5264280" y="6330960"/>
            <a:ext cx="3797280" cy="3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Financiering: Productschap Zuivel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33240" y="257040"/>
          <a:ext cx="7267680" cy="6151680"/>
        </p:xfrm>
        <a:graphic>
          <a:graphicData uri="http://schemas.openxmlformats.org/drawingml/2006/table">
            <a:tbl>
              <a:tblPr/>
              <a:tblGrid>
                <a:gridCol w="2194200"/>
                <a:gridCol w="696960"/>
                <a:gridCol w="695160"/>
                <a:gridCol w="695520"/>
                <a:gridCol w="210960"/>
                <a:gridCol w="666720"/>
                <a:gridCol w="666720"/>
                <a:gridCol w="665280"/>
                <a:gridCol w="216000"/>
                <a:gridCol w="560160"/>
              </a:tblGrid>
              <a:tr h="297000">
                <a:tc rowSpan="2">
                  <a:txBody>
                    <a:bodyPr lIns="11520" rIns="11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menvatting bedrijfseconomische kengetall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 marL="11520" marR="1152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gridSpan="3"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Su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gridSpan="3"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Su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>
                  <a:txBody>
                    <a:bodyPr lIns="11520" rIns="11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 marL="11520" marR="1152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2/03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8/09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utatie A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2/03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8/09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utatie B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Ver-schil B-A</a:t>
                      </a:r>
                      <a:endParaRPr b="0" lang="en-US" sz="10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Totaal opbrengst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9,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7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9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Totaal directe kost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3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Saldo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6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3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7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Bewerkingskost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Financiële last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Totaal indirecte kost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6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5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3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3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Winst/verlies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2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2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Afschrijving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8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3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0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Kasstroom 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6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9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Reserveringscapaciteit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0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6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Normatieve aflossing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Vervangingsinvest.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arge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4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,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 gridSpan="10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Aanvullende financiële kengetallen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Totale schuld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84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.36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.22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.50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237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Schuld per kg melk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18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41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2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12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2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3654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Extra schuld per extra kg melk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86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0,79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5172"/>
                      </a:solidFill>
                    </a:lnL>
                    <a:lnR w="576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kstvak 2"/>
          <p:cNvSpPr/>
          <p:nvPr/>
        </p:nvSpPr>
        <p:spPr>
          <a:xfrm>
            <a:off x="4430880" y="6448320"/>
            <a:ext cx="3528720" cy="3225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5172"/>
                </a:solidFill>
                <a:latin typeface="Verdana"/>
              </a:rPr>
              <a:t>Bron: 2 groepen van 8 MiSu en 8 MeSu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Titel 1"/>
          <p:cNvGrpSpPr/>
          <p:nvPr/>
        </p:nvGrpSpPr>
        <p:grpSpPr>
          <a:xfrm>
            <a:off x="493560" y="231840"/>
            <a:ext cx="8448480" cy="847440"/>
            <a:chOff x="493560" y="231840"/>
            <a:chExt cx="8448480" cy="847440"/>
          </a:xfrm>
        </p:grpSpPr>
        <p:pic>
          <p:nvPicPr>
            <p:cNvPr id="92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Kenmerken MeSu: financieel en technisch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0480" y="896400"/>
            <a:ext cx="79722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36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172"/>
              </a:solidFill>
              <a:latin typeface="Verdana"/>
            </a:endParaRPr>
          </a:p>
          <a:p>
            <a:pPr marL="236880" indent="-236880">
              <a:lnSpc>
                <a:spcPct val="1000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Vrijwel alle kosten lager. Grootste plus bij: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lvl="1" marL="977040" indent="-321840">
              <a:lnSpc>
                <a:spcPct val="100000"/>
              </a:lnSpc>
              <a:spcBef>
                <a:spcPts val="1001"/>
              </a:spcBef>
              <a:buClr>
                <a:srgbClr val="005172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Lagere bewerkingskosten per kg melk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lvl="1" marL="977040" indent="-321840">
              <a:lnSpc>
                <a:spcPct val="100000"/>
              </a:lnSpc>
              <a:spcBef>
                <a:spcPts val="1001"/>
              </a:spcBef>
              <a:buClr>
                <a:srgbClr val="005172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Lagere rente per kg melk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lvl="1" marL="977040" indent="-321840">
              <a:lnSpc>
                <a:spcPct val="100000"/>
              </a:lnSpc>
              <a:spcBef>
                <a:spcPts val="1001"/>
              </a:spcBef>
              <a:buClr>
                <a:srgbClr val="005172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Hogere aflossingen per kg melk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-236880">
              <a:lnSpc>
                <a:spcPct val="1000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Hogere veekosten per kg melk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-236880">
              <a:lnSpc>
                <a:spcPct val="1000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Groeiplan leidt tot lagere schuld per kg melk, i.p.v. hogere bij MiSu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-236880">
              <a:lnSpc>
                <a:spcPct val="1000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Extra schuld per extra kg melk lager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-236880">
              <a:lnSpc>
                <a:spcPct val="1000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Ongunstige startpositie “dwingt” tot rendabel groeiplan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-236880">
              <a:lnSpc>
                <a:spcPct val="1000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Minder goede technische kengetallen: 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lvl="1" marL="977040" indent="-321840">
              <a:lnSpc>
                <a:spcPct val="100000"/>
              </a:lnSpc>
              <a:spcBef>
                <a:spcPts val="1001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Melk per koe en vruchtbaarheid lager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lvl="1" marL="977040" indent="-321840">
              <a:lnSpc>
                <a:spcPct val="100000"/>
              </a:lnSpc>
              <a:spcBef>
                <a:spcPts val="1001"/>
              </a:spcBef>
              <a:buClr>
                <a:srgbClr val="005172"/>
              </a:buClr>
              <a:buSzPct val="115000"/>
              <a:buFont typeface="Verdan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5172"/>
                </a:solidFill>
                <a:latin typeface="Verdana"/>
              </a:rPr>
              <a:t>Krachtvoerverbruik per koe hoger </a:t>
            </a: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172"/>
              </a:solidFill>
              <a:latin typeface="Verdana"/>
            </a:endParaRPr>
          </a:p>
          <a:p>
            <a:pPr marL="236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36880"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36880"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itel 1"/>
          <p:cNvGrpSpPr/>
          <p:nvPr/>
        </p:nvGrpSpPr>
        <p:grpSpPr>
          <a:xfrm>
            <a:off x="493560" y="231840"/>
            <a:ext cx="8448480" cy="798120"/>
            <a:chOff x="493560" y="231840"/>
            <a:chExt cx="8448480" cy="798120"/>
          </a:xfrm>
        </p:grpSpPr>
        <p:pic>
          <p:nvPicPr>
            <p:cNvPr id="96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93560" y="231840"/>
              <a:ext cx="8440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pic>
        <p:nvPicPr>
          <p:cNvPr id="98" name="Afbeelding 2" descr=""/>
          <p:cNvPicPr/>
          <p:nvPr/>
        </p:nvPicPr>
        <p:blipFill>
          <a:blip r:embed="rId2"/>
          <a:stretch/>
        </p:blipFill>
        <p:spPr>
          <a:xfrm>
            <a:off x="290520" y="0"/>
            <a:ext cx="8853480" cy="6259680"/>
          </a:xfrm>
          <a:prstGeom prst="rect">
            <a:avLst/>
          </a:prstGeom>
          <a:ln w="0">
            <a:noFill/>
          </a:ln>
        </p:spPr>
      </p:pic>
      <p:sp>
        <p:nvSpPr>
          <p:cNvPr id="99" name="Tekstvak 3"/>
          <p:cNvSpPr/>
          <p:nvPr/>
        </p:nvSpPr>
        <p:spPr>
          <a:xfrm>
            <a:off x="3844800" y="2919240"/>
            <a:ext cx="1746360" cy="1465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Calibri"/>
              </a:rPr>
              <a:t>Verschillen in: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Calibri"/>
              </a:rPr>
              <a:t>Persoonskenmerken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Calibri"/>
              </a:rPr>
              <a:t>Competenties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Calibri"/>
              </a:rPr>
              <a:t>Groeidoelen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Calibri"/>
              </a:rPr>
              <a:t>Opvattingen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Calibri"/>
              </a:rPr>
              <a:t>Beslissingen</a:t>
            </a:r>
            <a:endParaRPr b="0" lang="en-US" sz="1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101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Redenen voor groei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598320" y="866880"/>
            <a:ext cx="7994880" cy="5392800"/>
          </a:xfrm>
          <a:prstGeom prst="rect">
            <a:avLst/>
          </a:prstGeom>
          <a:ln w="9360">
            <a:solidFill>
              <a:srgbClr val="00517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105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Waardering investeringskengetallen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pic>
        <p:nvPicPr>
          <p:cNvPr id="107" name="Afbeelding 2" descr=""/>
          <p:cNvPicPr/>
          <p:nvPr/>
        </p:nvPicPr>
        <p:blipFill>
          <a:blip r:embed="rId2"/>
          <a:stretch/>
        </p:blipFill>
        <p:spPr>
          <a:xfrm>
            <a:off x="457200" y="903240"/>
            <a:ext cx="82407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890640"/>
            <a:ext cx="9764640" cy="6729480"/>
          </a:xfrm>
          <a:prstGeom prst="rect">
            <a:avLst/>
          </a:prstGeom>
          <a:ln w="0">
            <a:noFill/>
          </a:ln>
        </p:spPr>
      </p:pic>
      <p:sp>
        <p:nvSpPr>
          <p:cNvPr id="109" name="Tekstvak 1"/>
          <p:cNvSpPr/>
          <p:nvPr/>
        </p:nvSpPr>
        <p:spPr>
          <a:xfrm>
            <a:off x="-93600" y="270000"/>
            <a:ext cx="9437760" cy="3225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5172"/>
                </a:solidFill>
                <a:latin typeface="Verdana"/>
              </a:rPr>
              <a:t>Nieuwe kengetallen: zowel rendement als haalbaarheid beter in beeld</a:t>
            </a:r>
            <a:endParaRPr b="0" lang="en-US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2274840" y="7186680"/>
            <a:ext cx="7489800" cy="3225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5172"/>
                </a:solidFill>
                <a:latin typeface="Verdana"/>
              </a:rPr>
              <a:t>                  </a:t>
            </a:r>
            <a:r>
              <a:rPr b="1" lang="nl-NL" sz="1800" spc="-1" strike="noStrike">
                <a:solidFill>
                  <a:srgbClr val="005172"/>
                </a:solidFill>
                <a:latin typeface="Verdana"/>
              </a:rPr>
              <a:t>Wordt nog aan gewerkt!</a:t>
            </a:r>
            <a:endParaRPr b="0" lang="en-US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112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Aanbevelingen voor succesvolle groei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0480" y="149508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Ken uzelf en uw groeidoelen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Zorg voor focus op economie en arbeidsefficiëntie: interne rentevoet en kg melk/VAK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Breng vooraf gevolgen investering in beeld: rentabiliteit en haalbaarheid komende 5 jaar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Maak afwegingen rond automatisering, uitbesteden, personeel + bijbehorend financieel resultaat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Kies bewust adviseur: aanvullende competenties, ideeën, netwerk, rekenmethoden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Resultaat: groeiplan met + voor rendement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Titel 1"/>
          <p:cNvGrpSpPr/>
          <p:nvPr/>
        </p:nvGrpSpPr>
        <p:grpSpPr>
          <a:xfrm>
            <a:off x="493560" y="231840"/>
            <a:ext cx="8448480" cy="1358640"/>
            <a:chOff x="493560" y="231840"/>
            <a:chExt cx="8448480" cy="1358640"/>
          </a:xfrm>
        </p:grpSpPr>
        <p:pic>
          <p:nvPicPr>
            <p:cNvPr id="116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93560" y="231840"/>
              <a:ext cx="8440920" cy="13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Vragen aan melkveehouders die willen groeien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20480" y="149508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Bent u ondernemer type MeSu of MiSu?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Wie zorgt voor focus op financiën bij groei? Ondernemer/partner/adviseur?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Wat is de interne rentevoet van het plan?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Hoe is liquiditeitsverloop komende 5 jaar?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Keuzes rond automatisering, uitbesteden, personeel op grond van doorgerekende effecten?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Wat is de meest geschikte adviseur: aanvullende competenties, ideeën, netwerk, rekenmethoden?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49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Inhoud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1623960"/>
            <a:ext cx="852192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Groei van NL bedrijven </a:t>
            </a:r>
            <a:br>
              <a:rPr sz="2200"/>
            </a:b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Gevolgen groei voor concurrentiepositie binnen EU</a:t>
            </a:r>
            <a:br>
              <a:rPr sz="2200"/>
            </a:b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Kenmerken meest en minst succesvolle groeiers</a:t>
            </a:r>
            <a:br>
              <a:rPr sz="2200"/>
            </a:b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Kengetallen voor beoordeling investeringen</a:t>
            </a:r>
            <a:br>
              <a:rPr sz="2200"/>
            </a:b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457200" indent="-45720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Aanbevelingen en vragen voor groeiers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53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Groei van melkveebedrijven 2001-2010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pic>
        <p:nvPicPr>
          <p:cNvPr id="55" name="Grafiek 3" descr=""/>
          <p:cNvPicPr/>
          <p:nvPr/>
        </p:nvPicPr>
        <p:blipFill>
          <a:blip r:embed="rId2"/>
          <a:stretch/>
        </p:blipFill>
        <p:spPr>
          <a:xfrm>
            <a:off x="762120" y="1298520"/>
            <a:ext cx="6906960" cy="4584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4"/>
          <p:cNvSpPr/>
          <p:nvPr/>
        </p:nvSpPr>
        <p:spPr>
          <a:xfrm>
            <a:off x="6576840" y="2333520"/>
            <a:ext cx="2403720" cy="7797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8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20% krimpt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 marL="285840" indent="-285840">
              <a:lnSpc>
                <a:spcPts val="18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40% groeit 0-25%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 marL="285840" indent="-285840">
              <a:lnSpc>
                <a:spcPts val="18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40% groeit &gt;25%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58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Hoe snel groeien de bedrijven?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0840" y="1834920"/>
            <a:ext cx="41400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Groei van het gemiddelde: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81160" y="1788840"/>
            <a:ext cx="41403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Groei van overgebleven</a:t>
            </a:r>
            <a:br>
              <a:rPr sz="2200"/>
            </a:b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   bedrijven: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lvl="1" marL="982800" indent="0">
              <a:lnSpc>
                <a:spcPts val="25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5172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1960" y="2789280"/>
          <a:ext cx="3411360" cy="1701720"/>
        </p:xfrm>
        <a:graphic>
          <a:graphicData uri="http://schemas.openxmlformats.org/drawingml/2006/table">
            <a:tbl>
              <a:tblPr/>
              <a:tblGrid>
                <a:gridCol w="1136520"/>
                <a:gridCol w="1138320"/>
                <a:gridCol w="1136520"/>
              </a:tblGrid>
              <a:tr h="3380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Omvang alle bedrijve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jaar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bedrijve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elk/bedrijf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.466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77.568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336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9.80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97.25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Groei %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60%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068800" y="2778120"/>
          <a:ext cx="3382920" cy="1682640"/>
        </p:xfrm>
        <a:graphic>
          <a:graphicData uri="http://schemas.openxmlformats.org/drawingml/2006/table">
            <a:tbl>
              <a:tblPr/>
              <a:tblGrid>
                <a:gridCol w="1127160"/>
                <a:gridCol w="1128600"/>
                <a:gridCol w="1127160"/>
              </a:tblGrid>
              <a:tr h="3286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Omvang overgebleven  bedrijve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jaar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bedrijve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elk/bedrijf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9.80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477.80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339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9.80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597.25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Groei %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549f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25%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549f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Titel 1"/>
          <p:cNvGrpSpPr/>
          <p:nvPr/>
        </p:nvGrpSpPr>
        <p:grpSpPr>
          <a:xfrm>
            <a:off x="493560" y="231840"/>
            <a:ext cx="8448480" cy="847440"/>
            <a:chOff x="493560" y="231840"/>
            <a:chExt cx="8448480" cy="847440"/>
          </a:xfrm>
        </p:grpSpPr>
        <p:pic>
          <p:nvPicPr>
            <p:cNvPr id="65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Investeringen en schuld EU 2004-2007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67" name="Tekstvak 3"/>
          <p:cNvSpPr/>
          <p:nvPr/>
        </p:nvSpPr>
        <p:spPr>
          <a:xfrm>
            <a:off x="4676760" y="5997600"/>
            <a:ext cx="3787920" cy="3225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Bron: FADN, bedrijven 100-400 mk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68" name="Grafiek 4" descr=""/>
          <p:cNvPicPr/>
          <p:nvPr/>
        </p:nvPicPr>
        <p:blipFill>
          <a:blip r:embed="rId2"/>
          <a:stretch/>
        </p:blipFill>
        <p:spPr>
          <a:xfrm>
            <a:off x="504720" y="1254240"/>
            <a:ext cx="7866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Titel 1"/>
          <p:cNvGrpSpPr/>
          <p:nvPr/>
        </p:nvGrpSpPr>
        <p:grpSpPr>
          <a:xfrm>
            <a:off x="493560" y="231840"/>
            <a:ext cx="8448480" cy="1358640"/>
            <a:chOff x="493560" y="231840"/>
            <a:chExt cx="8448480" cy="1358640"/>
          </a:xfrm>
        </p:grpSpPr>
        <p:pic>
          <p:nvPicPr>
            <p:cNvPr id="70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93560" y="231840"/>
              <a:ext cx="8440920" cy="13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Ontwikkeling melkproductie en kasstroom van sterke groeiers van 2000 tot 2007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5560" y="134280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27040" y="1863720"/>
            <a:ext cx="6073920" cy="4127400"/>
          </a:xfrm>
          <a:prstGeom prst="rect">
            <a:avLst/>
          </a:prstGeom>
          <a:ln w="0">
            <a:noFill/>
          </a:ln>
        </p:spPr>
      </p:pic>
      <p:sp>
        <p:nvSpPr>
          <p:cNvPr id="74" name="Tekstvak 5"/>
          <p:cNvSpPr/>
          <p:nvPr/>
        </p:nvSpPr>
        <p:spPr>
          <a:xfrm>
            <a:off x="7010280" y="1900080"/>
            <a:ext cx="1793880" cy="20120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5172"/>
                </a:solidFill>
                <a:latin typeface="Verdana"/>
              </a:rPr>
              <a:t>Sterke groeiers: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Melkproductie &gt;200.000 kg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Groei van &gt; 20% in 2000-2007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In laatste 2 jaar &lt;25% van totale groei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Bron: FADN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5" name="Tekstvak 6"/>
          <p:cNvSpPr/>
          <p:nvPr/>
        </p:nvSpPr>
        <p:spPr>
          <a:xfrm>
            <a:off x="6905520" y="4927680"/>
            <a:ext cx="2133720" cy="7797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Algemeen in West-EU: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Melkprod. +50%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5172"/>
                </a:solidFill>
                <a:latin typeface="Verdana"/>
              </a:rPr>
              <a:t>Kasstroom +40%</a:t>
            </a:r>
            <a:endParaRPr b="0" lang="en-US" sz="14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Titel 1"/>
          <p:cNvGrpSpPr/>
          <p:nvPr/>
        </p:nvGrpSpPr>
        <p:grpSpPr>
          <a:xfrm>
            <a:off x="493560" y="231840"/>
            <a:ext cx="8448480" cy="1358640"/>
            <a:chOff x="493560" y="231840"/>
            <a:chExt cx="8448480" cy="1358640"/>
          </a:xfrm>
        </p:grpSpPr>
        <p:pic>
          <p:nvPicPr>
            <p:cNvPr id="77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93560" y="231840"/>
              <a:ext cx="8440920" cy="13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Verandering in kritieke melkprijs door groei</a:t>
              </a:r>
              <a:br>
                <a:rPr sz="3000"/>
              </a:b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(sterke groeiers EU)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graphicFrame>
        <p:nvGraphicFramePr>
          <p:cNvPr id="79" name=""/>
          <p:cNvGraphicFramePr/>
          <p:nvPr/>
        </p:nvGraphicFramePr>
        <p:xfrm>
          <a:off x="750960" y="1828800"/>
          <a:ext cx="7866000" cy="3984480"/>
        </p:xfrm>
        <a:graphic>
          <a:graphicData uri="http://schemas.openxmlformats.org/drawingml/2006/table">
            <a:tbl>
              <a:tblPr/>
              <a:tblGrid>
                <a:gridCol w="1527120"/>
                <a:gridCol w="1055520"/>
                <a:gridCol w="1055880"/>
                <a:gridCol w="1057320"/>
                <a:gridCol w="1057320"/>
                <a:gridCol w="1055520"/>
                <a:gridCol w="1057320"/>
              </a:tblGrid>
              <a:tr h="623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9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1872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Su</a:t>
                      </a: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1872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Su</a:t>
                      </a: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18720">
                      <a:solidFill>
                        <a:srgbClr val="005172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0054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kritieke melkprijs 00-0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kritieke melkprijs 04-07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verschil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kritieke melkprijs 00-0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kritieke melkprijs 04-07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verschil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39528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7640" marR="1764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6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+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1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7640" marR="1764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+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43668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7640" marR="1764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7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+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Verenigd Koninkrijk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7640" marR="1764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+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1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5760">
                      <a:solidFill>
                        <a:srgbClr val="00549f"/>
                      </a:solidFill>
                    </a:lnB>
                    <a:solidFill>
                      <a:srgbClr val="e7e9f0"/>
                    </a:solidFill>
                  </a:tcPr>
                </a:tc>
              </a:tr>
              <a:tr h="39528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17640" marR="17640">
                    <a:lnL w="18720">
                      <a:solidFill>
                        <a:srgbClr val="005172"/>
                      </a:solidFill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+2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8720">
                      <a:solidFill>
                        <a:srgbClr val="005172"/>
                      </a:solidFill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-3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8720">
                      <a:solidFill>
                        <a:srgbClr val="005172"/>
                      </a:solidFill>
                    </a:lnR>
                    <a:lnT w="5760">
                      <a:solidFill>
                        <a:srgbClr val="00549f"/>
                      </a:solidFill>
                    </a:lnT>
                    <a:lnB w="18720">
                      <a:solidFill>
                        <a:srgbClr val="00517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Titel 1"/>
          <p:cNvGrpSpPr/>
          <p:nvPr/>
        </p:nvGrpSpPr>
        <p:grpSpPr>
          <a:xfrm>
            <a:off x="493560" y="231840"/>
            <a:ext cx="8448480" cy="832320"/>
            <a:chOff x="493560" y="231840"/>
            <a:chExt cx="8448480" cy="832320"/>
          </a:xfrm>
        </p:grpSpPr>
        <p:pic>
          <p:nvPicPr>
            <p:cNvPr id="81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Conclusies groei t.o.v. EU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0480" y="1834920"/>
            <a:ext cx="85215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Groei in % komt overeen met D, F, VK en IR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Hogere % groei in DK, I en Oost-EU-landen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Investeringen/kg melk NL: 2 à 3 keer hoger dan rest EU: quotum, grond en gebouwen oorzaak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Hoge schuld per kg melk in NL (€ 1,25) en DK (€ 1,72) op bedrijven 100-400 mk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Inkomen en kasstroom NL groeiers vergelijkbaar met omringende landen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005172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5172"/>
                </a:solidFill>
                <a:latin typeface="Verdana"/>
              </a:rPr>
              <a:t>Als gevolg van hogere aflossingen wel hogere kritieke melkprijs in NL</a:t>
            </a: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  <a:p>
            <a:pPr marL="252360" indent="0">
              <a:lnSpc>
                <a:spcPts val="25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Titel 1"/>
          <p:cNvGrpSpPr/>
          <p:nvPr/>
        </p:nvGrpSpPr>
        <p:grpSpPr>
          <a:xfrm>
            <a:off x="493560" y="231840"/>
            <a:ext cx="8448480" cy="847440"/>
            <a:chOff x="493560" y="231840"/>
            <a:chExt cx="8448480" cy="847440"/>
          </a:xfrm>
        </p:grpSpPr>
        <p:pic>
          <p:nvPicPr>
            <p:cNvPr id="85" name="Titel 1" descr=""/>
            <p:cNvPicPr/>
            <p:nvPr/>
          </p:nvPicPr>
          <p:blipFill>
            <a:blip r:embed="rId1"/>
            <a:stretch/>
          </p:blipFill>
          <p:spPr>
            <a:xfrm>
              <a:off x="494640" y="233280"/>
              <a:ext cx="84474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93560" y="231840"/>
              <a:ext cx="8440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0" bIns="3240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000" spc="-1" strike="noStrike">
                  <a:solidFill>
                    <a:srgbClr val="005172"/>
                  </a:solidFill>
                  <a:latin typeface="Verdana"/>
                </a:rPr>
                <a:t>Specificatie investeringen MiSu enMeSu</a:t>
              </a:r>
              <a:endParaRPr b="0" lang="en-US" sz="3000" spc="-1" strike="noStrike">
                <a:solidFill>
                  <a:srgbClr val="005172"/>
                </a:solidFill>
                <a:latin typeface="Calibri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549360" y="1665360"/>
          <a:ext cx="8067600" cy="3543120"/>
        </p:xfrm>
        <a:graphic>
          <a:graphicData uri="http://schemas.openxmlformats.org/drawingml/2006/table">
            <a:tbl>
              <a:tblPr/>
              <a:tblGrid>
                <a:gridCol w="3825720"/>
                <a:gridCol w="1623960"/>
                <a:gridCol w="1625760"/>
                <a:gridCol w="992160"/>
              </a:tblGrid>
              <a:tr h="482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solidFill>
                      <a:srgbClr val="00549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Su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solidFill>
                      <a:srgbClr val="00549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Su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solidFill>
                      <a:srgbClr val="00549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i-ficant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solidFill>
                      <a:srgbClr val="00549f"/>
                    </a:solidFill>
                  </a:tcPr>
                </a:tc>
              </a:tr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elkproductie 2009 (kg)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1 milj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2 milj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toename t.o.v. 2002 (kg)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30.00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10.00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totale investeringen 2002-2009 (€)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.260.00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.060.00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Idem per kg groei 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3,38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w.v. melkquotum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grond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	</a:t>
                      </a: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gebouwen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20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1,28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	</a:t>
                      </a: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machines/installaties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59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5172"/>
                          </a:solidFill>
                          <a:latin typeface="Verdana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5172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529f"/>
                      </a:solidFill>
                    </a:lnL>
                    <a:lnR w="4320">
                      <a:solidFill>
                        <a:srgbClr val="00529f"/>
                      </a:solidFill>
                    </a:lnR>
                    <a:lnT w="4320">
                      <a:solidFill>
                        <a:srgbClr val="00529f"/>
                      </a:solidFill>
                    </a:lnT>
                    <a:lnB w="4320">
                      <a:solidFill>
                        <a:srgbClr val="00529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kstvak 3"/>
          <p:cNvSpPr/>
          <p:nvPr/>
        </p:nvSpPr>
        <p:spPr>
          <a:xfrm>
            <a:off x="3305160" y="5527800"/>
            <a:ext cx="5253120" cy="55116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5172"/>
                </a:solidFill>
                <a:latin typeface="Verdana"/>
              </a:rPr>
              <a:t>Bron: 2 groepen van 8 MiSu en 8 Mesu, investeringen over periode 2002-2009, min. 25% groei, Rapport 624 WUR Livestock Research</a:t>
            </a:r>
            <a:endParaRPr b="0" lang="en-US" sz="11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Bennie Storkhorst</cp:lastModifiedBy>
  <cp:lastPrinted>2012-10-02T05:24:36Z</cp:lastPrinted>
  <dcterms:modified xsi:type="dcterms:W3CDTF">2014-10-09T13:50:12Z</dcterms:modified>
  <cp:revision>3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_Template">
    <vt:lpwstr>WHNL.pptx</vt:lpwstr>
  </property>
</Properties>
</file>