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0204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F3ED-665F-4598-BDD9-F7FC67F3EEA3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933A-9CC7-4A28-B049-A2867DFF6957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3C38-7FEB-4982-BB42-F6CDAEB44B45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9592-9CC8-40BF-A440-47FE7CAED270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ABD2-05F0-4981-8A0D-EBAED80D2D10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9CD0-21D2-4A31-A677-B234BB2F08CB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914E-449C-44BC-B412-CE578775442B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BEEB-7628-4EDB-B494-871E99539CD1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E657-FFB8-421E-A55F-04B26A7921EF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07F7-6A10-4086-BC31-616058052419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642A-8D38-4AAA-9BDD-002FD7C474F6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540A-385B-4CBE-B105-E905F84E6239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19D8-B5C1-4178-B7C3-24BBD0E97588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7C90-3039-4C6E-BC3C-EEE739F7A876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40C0-BB70-4E4C-B432-25217CCD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5FC6-7B62-4D8D-BE8C-DFFF653E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B6A-E2BF-446E-8A0D-76058EEE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1A7D-323F-4785-BFC1-B96B0B20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755C-A02D-4C12-BC0D-B3731055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33AC-90C0-4917-B311-13277145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B02E-4309-42FC-83A4-859FAFA8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A3DE-E409-4DFE-B2E0-39DE55BE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4049-A655-42D5-9ED9-5D81DA02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2EC4-BB8D-43CE-9513-C9F08D7B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AE36-1796-445F-953C-CEC2522B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0486-49BD-48C4-BE38-2A1B6C0B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7962-23B7-4515-9A0D-6CDC4087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0B31-D8C5-4477-B23D-AC75FBC7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216F-D864-4702-9A3E-5E5ECF7B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8E19-E9FA-4CFC-80B5-388E220A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57B5-18D0-49D1-9E5F-59AC1CDF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FE5-CB8C-4AF7-B69E-A29B1540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93FB-1138-4CA4-91D7-B9EF442C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DCC3-C2A7-4EF5-A481-805194F4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DCE6-0864-4622-AE4C-0A17CA3A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4FB5-ACF0-4B40-B018-742F3754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5360-A161-4108-BD9A-38752587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8180-D163-4351-8C5F-59F43D06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A920-235C-4BA4-888E-C94CE89D23B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2E52-3151-4C99-8339-0B78C45C56B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twynstraguddeblog.nl/photos/uncategorized/samen.jpg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91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6"/>
          <p:cNvSpPr/>
          <p:nvPr/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omic"/>
              </a:rPr>
              <a:t>Onderhandel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7" descr="Bekijk de afbeelding op ware groott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32000" y="2276640"/>
            <a:ext cx="2952720" cy="268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MCj03045210000[1]"/>
          <p:cNvPicPr/>
          <p:nvPr/>
        </p:nvPicPr>
        <p:blipFill>
          <a:blip r:embed="rId7"/>
          <a:stretch/>
        </p:blipFill>
        <p:spPr>
          <a:xfrm>
            <a:off x="826920" y="5013360"/>
            <a:ext cx="2463840" cy="1644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MCj01495810000[1]"/>
          <p:cNvPicPr/>
          <p:nvPr/>
        </p:nvPicPr>
        <p:blipFill>
          <a:blip r:embed="rId8"/>
          <a:stretch/>
        </p:blipFill>
        <p:spPr>
          <a:xfrm>
            <a:off x="6372360" y="4797360"/>
            <a:ext cx="255096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70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"/>
          <p:cNvSpPr/>
          <p:nvPr/>
        </p:nvSpPr>
        <p:spPr>
          <a:xfrm>
            <a:off x="1908000" y="219852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"/>
          <p:cNvPicPr/>
          <p:nvPr/>
        </p:nvPicPr>
        <p:blipFill>
          <a:blip r:embed="rId5"/>
          <a:stretch/>
        </p:blipFill>
        <p:spPr>
          <a:xfrm>
            <a:off x="1122480" y="1254240"/>
            <a:ext cx="7677000" cy="5630760"/>
          </a:xfrm>
          <a:prstGeom prst="rect">
            <a:avLst/>
          </a:prstGeom>
          <a:ln w="0">
            <a:noFill/>
          </a:ln>
        </p:spPr>
      </p:pic>
      <p:sp>
        <p:nvSpPr>
          <p:cNvPr id="175" name="Tekstvak 1"/>
          <p:cNvSpPr/>
          <p:nvPr/>
        </p:nvSpPr>
        <p:spPr>
          <a:xfrm>
            <a:off x="1547640" y="900000"/>
            <a:ext cx="74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Onderhandelingsstrate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78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7128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Fases bij onderhan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reiding: wat will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wij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ussie: wat will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z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: welke wens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kunn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 inru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ilen/onderhandelen: welke wens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zul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 inru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86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8"/>
          <p:cNvSpPr/>
          <p:nvPr/>
        </p:nvSpPr>
        <p:spPr>
          <a:xfrm>
            <a:off x="468360" y="134136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u="sng">
                <a:solidFill>
                  <a:srgbClr val="000000"/>
                </a:solidFill>
                <a:uFillTx/>
                <a:latin typeface="Batavia"/>
              </a:rPr>
              <a:t>Onderhandelen</a:t>
            </a:r>
            <a:r>
              <a:rPr b="1" lang="nl-NL" sz="5400" spc="-1" strike="noStrike">
                <a:solidFill>
                  <a:srgbClr val="000000"/>
                </a:solidFill>
                <a:latin typeface="Batavia"/>
              </a:rPr>
              <a:t> ……..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nl-NL" sz="5400" spc="-1" strike="noStrike" u="sng">
                <a:solidFill>
                  <a:srgbClr val="000000"/>
                </a:solidFill>
                <a:uFillTx/>
                <a:latin typeface="Batavia"/>
              </a:rPr>
              <a:t>DOEN</a:t>
            </a:r>
            <a:r>
              <a:rPr b="1" lang="nl-NL" sz="5400" spc="-1" strike="noStrike">
                <a:solidFill>
                  <a:srgbClr val="000000"/>
                </a:solidFill>
                <a:latin typeface="Batavia"/>
              </a:rPr>
              <a:t> …..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93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0"/>
          <p:cNvSpPr/>
          <p:nvPr/>
        </p:nvSpPr>
        <p:spPr>
          <a:xfrm>
            <a:off x="1908000" y="219852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101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46836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600" spc="-1" strike="noStrike">
                <a:solidFill>
                  <a:srgbClr val="000000"/>
                </a:solidFill>
                <a:latin typeface="Monotype Corsiva"/>
              </a:rPr>
              <a:t>Adelinde Bouwm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468360" y="2060640"/>
            <a:ext cx="3816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ksber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ne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MPj04255520000[1]"/>
          <p:cNvPicPr/>
          <p:nvPr/>
        </p:nvPicPr>
        <p:blipFill>
          <a:blip r:embed="rId5"/>
          <a:srcRect l="18825" t="0" r="11075" b="0"/>
          <a:stretch/>
        </p:blipFill>
        <p:spPr>
          <a:xfrm>
            <a:off x="3564000" y="2997360"/>
            <a:ext cx="1879560" cy="1784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NAJKeduLogokleur1"/>
          <p:cNvPicPr/>
          <p:nvPr/>
        </p:nvPicPr>
        <p:blipFill>
          <a:blip r:embed="rId6"/>
          <a:srcRect l="0" t="0" r="20225" b="0"/>
          <a:stretch/>
        </p:blipFill>
        <p:spPr>
          <a:xfrm>
            <a:off x="7236000" y="1916280"/>
            <a:ext cx="1152360" cy="1800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MCj03448530000[1]"/>
          <p:cNvPicPr/>
          <p:nvPr/>
        </p:nvPicPr>
        <p:blipFill>
          <a:blip r:embed="rId7"/>
          <a:stretch/>
        </p:blipFill>
        <p:spPr>
          <a:xfrm>
            <a:off x="6156360" y="4724280"/>
            <a:ext cx="1455840" cy="1936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6"/>
          <p:cNvSpPr/>
          <p:nvPr/>
        </p:nvSpPr>
        <p:spPr>
          <a:xfrm>
            <a:off x="539640" y="4913280"/>
            <a:ext cx="3816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htge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der (4 k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9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4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9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13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914400" y="170028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Progr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andel zelf: ‘Een gunstig resultaat?!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bespr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uccesvol onderhandelen: Hoe ?!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efening: ‘wie doet de beste koop?’ (rollensp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bespre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ips en trick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lu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61128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.‘Een gunstig resultaat?!’…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efening: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at is jouw manier van onderhandelen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wee-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 een formulier (A of B), voor jezelf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handele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westies (I, II en 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s over één letter per kwestie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nderhan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unten scoren: zoveel mogelijk pu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. 10 minuten: eindakk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29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4356000" y="601560"/>
            <a:ext cx="396108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wes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I 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II 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II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9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8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8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7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E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6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5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J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1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23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O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56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78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78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78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543600" y="981000"/>
            <a:ext cx="317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Waarderingsformul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onderhandelaar 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37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8"/>
          <p:cNvSpPr/>
          <p:nvPr/>
        </p:nvSpPr>
        <p:spPr>
          <a:xfrm>
            <a:off x="39528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Succesvol 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1440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onderhandel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ype onderhand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andelingsstrate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se bij onderhan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45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68436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Wat is onderhande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ardigheid om op te komen voor je eigen belangen in situaties waarin je afhankelijk bent van and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el/wedstrijd: geen winnaar/verlie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werken, geen ruzie: gezamenlijk bela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53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611280" y="1844640"/>
            <a:ext cx="82296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onderhandel ik z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meest effectief bij onderhandel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4360" y="2565360"/>
          <a:ext cx="7993080" cy="3417840"/>
        </p:xfrm>
        <a:graphic>
          <a:graphicData uri="http://schemas.openxmlformats.org/drawingml/2006/table">
            <a:tbl>
              <a:tblPr/>
              <a:tblGrid>
                <a:gridCol w="2663640"/>
                <a:gridCol w="2665440"/>
                <a:gridCol w="266400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nho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egeeflij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kkelha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ac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nig verwe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limaat</a:t>
                      </a: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via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lexibilite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er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mijd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mb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65000"/>
            <a:ext cx="9177480" cy="6072480"/>
          </a:xfrm>
          <a:prstGeom prst="rect">
            <a:avLst/>
          </a:prstGeom>
          <a:ln w="0">
            <a:noFill/>
          </a:ln>
        </p:spPr>
      </p:pic>
      <p:sp>
        <p:nvSpPr>
          <p:cNvPr id="162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611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Type onderhandelaa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li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zichthou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r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lleb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21:06:11Z</dcterms:created>
  <dc:creator>Adelinde</dc:creator>
  <dc:description/>
  <dc:language>en-US</dc:language>
  <cp:lastModifiedBy>Brigitte Kok</cp:lastModifiedBy>
  <cp:lastPrinted>2014-01-30T00:20:25Z</cp:lastPrinted>
  <dcterms:modified xsi:type="dcterms:W3CDTF">2015-01-29T10:11:05Z</dcterms:modified>
  <cp:revision>9</cp:revision>
  <dc:subject/>
  <dc:title>Onderhandelen</dc:title>
</cp:coreProperties>
</file>