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0204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F037-3033-4AC9-91E3-EF3835D3230D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07DA-849D-4A83-ACF7-10F0EBA8FB8F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750E-5B06-4AE0-A3B1-013B55D5C237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1DB0-4DC9-4B07-97FF-463A1F812112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3080-3F13-47B7-94FA-3A298240E988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F725-EFD0-4F98-9C8E-0E79CD67E3AA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FF93-5AD8-47EE-86BC-E343625169B9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627D-CCC0-45F5-8698-3160923429FD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B091-77D6-4DC8-AC0D-4359EE949AF8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C9EE-2385-4CBA-84B9-3352708649A6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B69D-92C4-45E3-AA58-EABB26E27B51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6287-265E-48DE-A995-D152306FC04E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FE73-8093-4C9B-9D71-83ECD75BAEE0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D38E-2A0B-48B9-B4C2-FE0CB7007446}" type="slidenum">
              <a:rPr b="0" lang="nl-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ED86-1089-4563-BA80-8D0B6B8C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04B-A03B-497E-BEB2-5F60DF7B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8ADD-34E4-46CE-9588-F036741D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D17-BA54-4910-9A64-51870837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8B1C-5419-474E-85F2-5636DC70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CDF1-0D80-4A89-B961-F9C4DB01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FD7B-65FB-4111-A60B-54DD8793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7395-A5DA-42EF-B320-6855F7E5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9432-B2B5-41CF-AE30-A88E257C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2E28-EA0B-44D7-8A3D-80A4A689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ED3A-71C7-49F0-B2B6-4CAC1AB9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E425-FE1C-4889-BFBA-4A84B89E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DA56-44E4-4D73-91F1-E83DF7F0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F2B4-72F6-4A50-B1C2-896042CC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34D9-C07C-451D-B3DC-2A3245A1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0638-9C64-40DB-885C-B6EDA5D7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2B75-2435-4267-ADEB-06F4AA15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6561-D3F6-4625-9E2B-165D3683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B3F8-F880-41F1-9E57-A31C1B7C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17C-F3A6-4EC5-8294-91BC815E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D37D-12BA-4A53-8443-2D6AD339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6AE-B30B-4713-B98A-4BFCA8C5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0040-527E-491C-B6B4-F8519525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6270-498E-4267-99F0-BF5A3545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0829-FE4C-4942-B1A8-A3EEBF6AF81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BA0D-84B1-44B1-A462-288915B52BD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twynstraguddeblog.nl/photos/uncategorized/samen.jpg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9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6"/>
          <p:cNvSpPr/>
          <p:nvPr/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comic"/>
              </a:rPr>
              <a:t>Onderhandel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Bekijk de afbeelding op ware groott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32000" y="2276640"/>
            <a:ext cx="295272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MCj03045210000[1]"/>
          <p:cNvPicPr/>
          <p:nvPr/>
        </p:nvPicPr>
        <p:blipFill>
          <a:blip r:embed="rId7"/>
          <a:stretch/>
        </p:blipFill>
        <p:spPr>
          <a:xfrm>
            <a:off x="826920" y="5013360"/>
            <a:ext cx="2463840" cy="1644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MCj01495810000[1]"/>
          <p:cNvPicPr/>
          <p:nvPr/>
        </p:nvPicPr>
        <p:blipFill>
          <a:blip r:embed="rId8"/>
          <a:stretch/>
        </p:blipFill>
        <p:spPr>
          <a:xfrm>
            <a:off x="6372360" y="4797360"/>
            <a:ext cx="255096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70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1908000" y="219852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"/>
          <p:cNvPicPr/>
          <p:nvPr/>
        </p:nvPicPr>
        <p:blipFill>
          <a:blip r:embed="rId5"/>
          <a:stretch/>
        </p:blipFill>
        <p:spPr>
          <a:xfrm>
            <a:off x="1122480" y="1254240"/>
            <a:ext cx="7677000" cy="5630760"/>
          </a:xfrm>
          <a:prstGeom prst="rect">
            <a:avLst/>
          </a:prstGeom>
          <a:ln w="0">
            <a:noFill/>
          </a:ln>
        </p:spPr>
      </p:pic>
      <p:sp>
        <p:nvSpPr>
          <p:cNvPr id="175" name="Tekstvak 1"/>
          <p:cNvSpPr/>
          <p:nvPr/>
        </p:nvSpPr>
        <p:spPr>
          <a:xfrm>
            <a:off x="1547640" y="900000"/>
            <a:ext cx="74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nderhandelingsstrate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78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7128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Fases bij onderhan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reiding: wat will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wij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ussie: wat will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z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: welke wens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kunn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 inru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ilen/onderhandelen: welke wensen 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zu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 inru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86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468360" y="134136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 u="sng">
                <a:solidFill>
                  <a:srgbClr val="000000"/>
                </a:solidFill>
                <a:uFillTx/>
                <a:latin typeface="Batavia"/>
              </a:rPr>
              <a:t>Onderhandelen</a:t>
            </a:r>
            <a:r>
              <a:rPr b="1" lang="nl-NL" sz="5400" spc="-1" strike="noStrike">
                <a:solidFill>
                  <a:srgbClr val="000000"/>
                </a:solidFill>
                <a:latin typeface="Batavia"/>
              </a:rPr>
              <a:t> ……..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nl-NL" sz="5400" spc="-1" strike="noStrike" u="sng">
                <a:solidFill>
                  <a:srgbClr val="000000"/>
                </a:solidFill>
                <a:uFillTx/>
                <a:latin typeface="Batavia"/>
              </a:rPr>
              <a:t>DOEN</a:t>
            </a:r>
            <a:r>
              <a:rPr b="1" lang="nl-NL" sz="5400" spc="-1" strike="noStrike">
                <a:solidFill>
                  <a:srgbClr val="000000"/>
                </a:solidFill>
                <a:latin typeface="Batavia"/>
              </a:rPr>
              <a:t> …..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9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"/>
          <p:cNvSpPr/>
          <p:nvPr/>
        </p:nvSpPr>
        <p:spPr>
          <a:xfrm>
            <a:off x="1908000" y="219852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10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46836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600" spc="-1" strike="noStrike">
                <a:solidFill>
                  <a:srgbClr val="000000"/>
                </a:solidFill>
                <a:latin typeface="Monotype Corsiva"/>
              </a:rPr>
              <a:t>Adelinde Bouwm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468360" y="2060640"/>
            <a:ext cx="3816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ksber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ne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MPj04255520000[1]"/>
          <p:cNvPicPr/>
          <p:nvPr/>
        </p:nvPicPr>
        <p:blipFill>
          <a:blip r:embed="rId5"/>
          <a:srcRect l="18825" t="0" r="11075" b="0"/>
          <a:stretch/>
        </p:blipFill>
        <p:spPr>
          <a:xfrm>
            <a:off x="3564000" y="2997360"/>
            <a:ext cx="1879560" cy="1784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NAJKeduLogokleur1"/>
          <p:cNvPicPr/>
          <p:nvPr/>
        </p:nvPicPr>
        <p:blipFill>
          <a:blip r:embed="rId6"/>
          <a:srcRect l="0" t="0" r="20225" b="0"/>
          <a:stretch/>
        </p:blipFill>
        <p:spPr>
          <a:xfrm>
            <a:off x="7236000" y="1916280"/>
            <a:ext cx="1152360" cy="180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MCj03448530000[1]"/>
          <p:cNvPicPr/>
          <p:nvPr/>
        </p:nvPicPr>
        <p:blipFill>
          <a:blip r:embed="rId7"/>
          <a:stretch/>
        </p:blipFill>
        <p:spPr>
          <a:xfrm>
            <a:off x="6156360" y="4724280"/>
            <a:ext cx="1455840" cy="1936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6"/>
          <p:cNvSpPr/>
          <p:nvPr/>
        </p:nvSpPr>
        <p:spPr>
          <a:xfrm>
            <a:off x="539640" y="4913280"/>
            <a:ext cx="3816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tge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der (4 k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9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4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9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1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914400" y="170028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Progr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andel zelf: ‘Een gunstig resultaat?!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bespr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uccesvol onderhandelen: Hoe ?!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efening: ‘wie doet de beste koop?’ (rollensp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bespre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ips en trick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lu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61128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.‘Een gunstig resultaat?!’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efening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at is jouw manier van onderhandelen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wee-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een formulier (A of B), voor jezelf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handele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westies (I, II en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s over één letter per kwestie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nderhan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unten scoren: zoveel mogelijk pu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. 10 minuten: eindakk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29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4356000" y="601560"/>
            <a:ext cx="396108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wes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I 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II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9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8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E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6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5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5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J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23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O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56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8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T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78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543600" y="981000"/>
            <a:ext cx="31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Waarderingsformul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onderhandelaar 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37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39528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Succesvol 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1440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onderhande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ype onderhand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andelingsstrate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se bij onderhan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45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68436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Wat is onderhande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ardigheid om op te komen voor je eigen belangen in situaties waarin je afhankelijk bent van and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el/wedstrijd: geen winnaar/verlie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werken, geen ruzie: gezamenlijk bela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53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611280" y="1844640"/>
            <a:ext cx="8229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onderhandel ik z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meest effectief bij onderhande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4360" y="2565360"/>
          <a:ext cx="7993080" cy="341784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nh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egeeflij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kkelh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ac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nig verwe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limaat</a:t>
                      </a: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via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lexibilite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r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mijd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8" descr=""/>
          <p:cNvPicPr/>
          <p:nvPr/>
        </p:nvPicPr>
        <p:blipFill>
          <a:blip r:embed="rId1"/>
          <a:srcRect l="0" t="0" r="0" b="42414"/>
          <a:stretch/>
        </p:blipFill>
        <p:spPr>
          <a:xfrm>
            <a:off x="3786120" y="0"/>
            <a:ext cx="5357880" cy="78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rcRect l="0" t="0" r="173" b="40396"/>
          <a:stretch/>
        </p:blipFill>
        <p:spPr>
          <a:xfrm>
            <a:off x="0" y="765000"/>
            <a:ext cx="9177480" cy="6072480"/>
          </a:xfrm>
          <a:prstGeom prst="rect">
            <a:avLst/>
          </a:prstGeom>
          <a:ln w="0">
            <a:noFill/>
          </a:ln>
        </p:spPr>
      </p:pic>
      <p:sp>
        <p:nvSpPr>
          <p:cNvPr id="162" name="Line 4"/>
          <p:cNvSpPr/>
          <p:nvPr/>
        </p:nvSpPr>
        <p:spPr>
          <a:xfrm flipH="1">
            <a:off x="468360" y="785880"/>
            <a:ext cx="31680" cy="6072120"/>
          </a:xfrm>
          <a:prstGeom prst="line">
            <a:avLst/>
          </a:prstGeom>
          <a:ln w="25560">
            <a:solidFill>
              <a:srgbClr val="1c63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3"/>
          <a:srcRect l="0" t="0" r="8605" b="0"/>
          <a:stretch/>
        </p:blipFill>
        <p:spPr>
          <a:xfrm>
            <a:off x="0" y="0"/>
            <a:ext cx="8215200" cy="7858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2627280" y="198108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4"/>
          <a:srcRect l="16276" t="29800" r="0" b="47629"/>
          <a:stretch/>
        </p:blipFill>
        <p:spPr>
          <a:xfrm>
            <a:off x="0" y="0"/>
            <a:ext cx="720720" cy="6922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Onderhan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Type onderhandelaa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li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zicht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r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lle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21:06:11Z</dcterms:created>
  <dc:creator>Adelinde</dc:creator>
  <dc:description/>
  <dc:language>en-US</dc:language>
  <cp:lastModifiedBy>Brigitte Kok</cp:lastModifiedBy>
  <cp:lastPrinted>2014-01-30T00:20:25Z</cp:lastPrinted>
  <dcterms:modified xsi:type="dcterms:W3CDTF">2015-01-29T10:11:05Z</dcterms:modified>
  <cp:revision>9</cp:revision>
  <dc:subject/>
  <dc:title>Onderhandelen</dc:title>
</cp:coreProperties>
</file>