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86A2-318E-4447-9D70-868D93282461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7ABA-3C31-401B-8A86-84B0526002C6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1FBF-77C0-434E-B56D-1BAFF38CF3ED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33C1-966F-4A13-AF95-970226C6282F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455C-511F-40B9-8498-1D0C4286B55C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A6FE-BCBC-4DB0-B6A1-0877DC48EEA6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3646-0626-42BE-AE74-6E40E4211C6F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A0CC-4B77-49E9-AB70-49450D229881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C1F2-9581-4CDB-81EA-DB0A0C9D18A7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CAE2-B3A5-423F-9520-D21B4E350360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8BBD-69E9-4D9A-865F-FD770A25AFB6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0CB1-03E2-4D59-8880-95D4680EB61F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0BD6-C3A1-4EB0-83E7-06D0670CED19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08B2-8EDD-4104-AF71-49BD610709DD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219-CD1F-4ADB-933B-3FBB66C2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5AA-E9E1-4DD5-A55C-C1E2D23D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6B4-B382-41BA-8C8A-0EA86A85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15E-EE53-4D6A-B59C-FEE2382E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4E72-51C9-4A65-A773-3BFBEEFE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CC0C-A209-4D4B-92D2-5FEC792C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6FD4-BEEF-42FA-85BA-DDE87E17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CCA5-22A9-4CBE-B99A-0932C6DA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2F05-F440-4AE8-9DCF-95D2363D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8A48-8ED2-4514-8B77-61FEDE86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6ABB-CF3E-42EF-A0F5-9C0BE2FD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DDD-B91E-4755-9D43-3C18346B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2AAD-B3DD-4545-B066-17DBB2E5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F1EE-2E7E-431C-A6BE-F811334F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BD9A-709B-4B77-BDD9-4C6C32A7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5879-C333-4D19-A484-E3A4FC01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75FD-011A-4968-A20B-5CF5D691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936-A3E1-49E6-999C-D1EFCE4F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8AC-89E3-453D-A259-0D6555AD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1DB-8380-49E2-BF6C-945EBFA9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01F-B5F6-40F3-A8DC-F796538A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3B6-17AB-4812-9FCC-CCEE10CA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C49-8499-48D1-AE0F-CA5B9F03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DC2-0E5F-415F-8CDF-963D81BB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2D6B-E6AB-4227-8F38-555E4416BF5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50C3-A793-4C7D-BD5D-FBBA3E4F8CF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twynstraguddeblog.nl/photos/uncategorized/samen.jpg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9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6"/>
          <p:cNvSpPr/>
          <p:nvPr/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omic"/>
              </a:rPr>
              <a:t>Onderhandel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Bekijk de afbeelding op ware groot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32000" y="2276640"/>
            <a:ext cx="295272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MCj03045210000[1]"/>
          <p:cNvPicPr/>
          <p:nvPr/>
        </p:nvPicPr>
        <p:blipFill>
          <a:blip r:embed="rId7"/>
          <a:stretch/>
        </p:blipFill>
        <p:spPr>
          <a:xfrm>
            <a:off x="826920" y="501336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MCj01495810000[1]"/>
          <p:cNvPicPr/>
          <p:nvPr/>
        </p:nvPicPr>
        <p:blipFill>
          <a:blip r:embed="rId8"/>
          <a:stretch/>
        </p:blipFill>
        <p:spPr>
          <a:xfrm>
            <a:off x="6372360" y="4797360"/>
            <a:ext cx="255096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0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5"/>
          <a:stretch/>
        </p:blipFill>
        <p:spPr>
          <a:xfrm>
            <a:off x="1122480" y="1254240"/>
            <a:ext cx="7677000" cy="5630760"/>
          </a:xfrm>
          <a:prstGeom prst="rect">
            <a:avLst/>
          </a:prstGeom>
          <a:ln w="0">
            <a:noFill/>
          </a:ln>
        </p:spPr>
      </p:pic>
      <p:sp>
        <p:nvSpPr>
          <p:cNvPr id="175" name="Tekstvak 1"/>
          <p:cNvSpPr/>
          <p:nvPr/>
        </p:nvSpPr>
        <p:spPr>
          <a:xfrm>
            <a:off x="1547640" y="900000"/>
            <a:ext cx="74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nderhandelingsstrate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7128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Fases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reiding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wi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ussie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kun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len/onderhande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u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86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468360" y="134136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Onderhandel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…..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DO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..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9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46836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000000"/>
                </a:solidFill>
                <a:latin typeface="Monotype Corsiva"/>
              </a:rPr>
              <a:t>Adelinde Bouwm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68360" y="206064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ksbe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MPj04255520000[1]"/>
          <p:cNvPicPr/>
          <p:nvPr/>
        </p:nvPicPr>
        <p:blipFill>
          <a:blip r:embed="rId5"/>
          <a:srcRect l="18825" t="0" r="11075" b="0"/>
          <a:stretch/>
        </p:blipFill>
        <p:spPr>
          <a:xfrm>
            <a:off x="3564000" y="2997360"/>
            <a:ext cx="1879560" cy="1784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NAJKeduLogokleur1"/>
          <p:cNvPicPr/>
          <p:nvPr/>
        </p:nvPicPr>
        <p:blipFill>
          <a:blip r:embed="rId6"/>
          <a:srcRect l="0" t="0" r="20225" b="0"/>
          <a:stretch/>
        </p:blipFill>
        <p:spPr>
          <a:xfrm>
            <a:off x="7236000" y="1916280"/>
            <a:ext cx="1152360" cy="180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MCj03448530000[1]"/>
          <p:cNvPicPr/>
          <p:nvPr/>
        </p:nvPicPr>
        <p:blipFill>
          <a:blip r:embed="rId7"/>
          <a:stretch/>
        </p:blipFill>
        <p:spPr>
          <a:xfrm>
            <a:off x="6156360" y="4724280"/>
            <a:ext cx="1455840" cy="1936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539640" y="491328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g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der (4 k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9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9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1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14400" y="170028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andel zelf: ‘Een gunstig resultaat?!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ccesvol onderhandelen: Hoe ?!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efening: ‘wie doet de beste koop?’ (rollens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ps en trick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lu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11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.‘Een gunstig resultaat?!’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is jouw manier van onderhandelen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-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een formulier (A of B), voor jezelf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handele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westies (I, II en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s over één letter per kwestie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nderhan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unten scoren: zoveel mogelijk 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. 10 minuten: eindakk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9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4356000" y="601560"/>
            <a:ext cx="39610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wes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6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J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23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O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6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78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43600" y="98100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aarderingsformul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onderhandelaar 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37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39528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Succesvol 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1440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ype onderhand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andelings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e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45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84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t is onderhande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rdigheid om op te komen voor je eigen belangen in situaties waarin je afhankelijk bent van an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l/wedstrijd: geen winnaar/verlie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werken, geen ruzie: gezamenlijk bela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5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11280" y="184464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onderhandel ik z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meest effectief bij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2565360"/>
          <a:ext cx="7993080" cy="341784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h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egeeflij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kkelh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ac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nig verw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limaat</a:t>
                      </a: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via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lexibilit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ijd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65000"/>
            <a:ext cx="9177480" cy="6072480"/>
          </a:xfrm>
          <a:prstGeom prst="rect">
            <a:avLst/>
          </a:prstGeom>
          <a:ln w="0">
            <a:noFill/>
          </a:ln>
        </p:spPr>
      </p:pic>
      <p:sp>
        <p:nvSpPr>
          <p:cNvPr id="162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ype onderhandelaa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r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lle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1:06:11Z</dcterms:created>
  <dc:creator>Adelinde</dc:creator>
  <dc:description/>
  <dc:language>en-US</dc:language>
  <cp:lastModifiedBy>Brigitte Kok</cp:lastModifiedBy>
  <cp:lastPrinted>2014-01-30T00:20:25Z</cp:lastPrinted>
  <dcterms:modified xsi:type="dcterms:W3CDTF">2015-01-29T10:11:05Z</dcterms:modified>
  <cp:revision>9</cp:revision>
  <dc:subject/>
  <dc:title>Onderhandelen</dc:title>
</cp:coreProperties>
</file>