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media/image10.wmf" ContentType="image/x-wmf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5151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02040" y="95151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D2BC0-B9C6-45F1-9E15-95400389073E}" type="slidenum">
              <a:rPr b="0" lang="nl-N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4F8D9-B0CD-4EA2-AB64-4614ABAF46C0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B8A9B-8A83-4006-ABB5-AF9CAE5012C4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B2D40-4F21-4F0E-9BE6-FC1927AD8FE3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C6F6D-DCD6-4824-9995-8A2720D1C966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D4433-CC5A-4BB8-97ED-772BEC73E7DB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7C9A9-953E-480A-9C1C-85147CC5E783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90220-388A-4D9A-BB77-08305A2464C2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CDB26-F3C1-4463-B358-7E556FA69C80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47365-E86A-4C6E-959D-CE3E91C04075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C5A54-E581-440F-AB2F-D331360BBB2F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11BFA-9FE9-4AD5-B443-8B4E7AA8996E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5DF16-284B-4997-B9D3-290E9FDC3C7B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49263-7558-4E43-B70D-BAD7834CE832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2B11-603D-47D8-A6BE-42255AB44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8E26-24F4-4650-A7EB-3F2AA6C30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8C11-6FBD-41AA-AF2B-9393D6E4D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784C-47FC-4CAB-8137-5433AAC41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786CB-1F07-4C66-BCF4-9CCE66FF0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ABFD8-4EF4-496E-92C4-D3A480A34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19A4D-F1F4-48C7-BCF9-5E4CEB93F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06808-F43F-465B-BBB9-8145AD0B1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90C28-877E-4E03-BF1E-88A0AA7D1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FE648-0A4C-4A7D-A0F1-8E0104F26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002AC-7830-49D1-A078-27B523D4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569D-EC41-4B67-BEF8-CF82BEDCB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58372-1590-4F41-BF2F-06461A84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B5808-7ADF-4790-B398-4972F45F3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09AE0-6AF3-4CE2-B019-88816D4B2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26797-B15E-4AE6-9C8B-BF6FCB5BE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E43CE-2854-46E1-B801-ABED981E1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ECFE-0065-4100-BDC7-90DE0CB7A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D5E3-8D0C-423B-8EAB-DE8479A90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EA89-FAD3-415E-9B37-09BC9DB7F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2F0E-0CD8-477B-B451-CA9A05E95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8223-E02D-41FF-B2D0-432004BE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5D12-7CB7-433E-B8EE-D512AA84D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68AD-06FA-4CDB-8EB1-6E5D90C8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1E4B6-6949-4D90-A92C-A55F9137E12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D50A1-8BA9-40C1-AFBB-69BF7E0F9C9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hyperlink" Target="http://www.twynstraguddeblog.nl/photos/uncategorized/samen.jpg" TargetMode="External"/><Relationship Id="rId6" Type="http://schemas.openxmlformats.org/officeDocument/2006/relationships/image" Target="../media/image5.jpeg"/><Relationship Id="rId7" Type="http://schemas.openxmlformats.org/officeDocument/2006/relationships/image" Target="../media/image6.wmf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91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10"/>
          <p:cNvSpPr/>
          <p:nvPr/>
        </p:nvSpPr>
        <p:spPr>
          <a:xfrm>
            <a:off x="2627280" y="198108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16"/>
          <p:cNvSpPr/>
          <p:nvPr/>
        </p:nvSpPr>
        <p:spPr>
          <a:xfrm>
            <a:off x="68436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000000"/>
                </a:solidFill>
                <a:latin typeface="comic"/>
              </a:rPr>
              <a:t>Onderhandel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7" descr="Bekijk de afbeelding op ware groott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132000" y="2276640"/>
            <a:ext cx="2952720" cy="2682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8" descr="MCj03045210000[1]"/>
          <p:cNvPicPr/>
          <p:nvPr/>
        </p:nvPicPr>
        <p:blipFill>
          <a:blip r:embed="rId7"/>
          <a:stretch/>
        </p:blipFill>
        <p:spPr>
          <a:xfrm>
            <a:off x="826920" y="5013360"/>
            <a:ext cx="2463840" cy="16444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9" descr="MCj01495810000[1]"/>
          <p:cNvPicPr/>
          <p:nvPr/>
        </p:nvPicPr>
        <p:blipFill>
          <a:blip r:embed="rId8"/>
          <a:stretch/>
        </p:blipFill>
        <p:spPr>
          <a:xfrm>
            <a:off x="6372360" y="4797360"/>
            <a:ext cx="2550960" cy="17272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170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10"/>
          <p:cNvSpPr/>
          <p:nvPr/>
        </p:nvSpPr>
        <p:spPr>
          <a:xfrm>
            <a:off x="1908000" y="219852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" descr=""/>
          <p:cNvPicPr/>
          <p:nvPr/>
        </p:nvPicPr>
        <p:blipFill>
          <a:blip r:embed="rId5"/>
          <a:stretch/>
        </p:blipFill>
        <p:spPr>
          <a:xfrm>
            <a:off x="1122480" y="1254240"/>
            <a:ext cx="7677000" cy="5630760"/>
          </a:xfrm>
          <a:prstGeom prst="rect">
            <a:avLst/>
          </a:prstGeom>
          <a:ln w="0">
            <a:noFill/>
          </a:ln>
        </p:spPr>
      </p:pic>
      <p:sp>
        <p:nvSpPr>
          <p:cNvPr id="175" name="Tekstvak 1"/>
          <p:cNvSpPr/>
          <p:nvPr/>
        </p:nvSpPr>
        <p:spPr>
          <a:xfrm>
            <a:off x="1547640" y="900000"/>
            <a:ext cx="74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Onderhandelingsstrateg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178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10"/>
          <p:cNvSpPr/>
          <p:nvPr/>
        </p:nvSpPr>
        <p:spPr>
          <a:xfrm>
            <a:off x="2627280" y="198108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8"/>
          <p:cNvSpPr/>
          <p:nvPr/>
        </p:nvSpPr>
        <p:spPr>
          <a:xfrm>
            <a:off x="395280" y="76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Onderhan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71280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Fases bij onderhan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bereiding: wat willen </a:t>
            </a:r>
            <a:r>
              <a:rPr b="1" i="1" lang="nl-NL" sz="3200" spc="-1" strike="noStrike">
                <a:solidFill>
                  <a:srgbClr val="000000"/>
                </a:solidFill>
                <a:latin typeface="Arial"/>
              </a:rPr>
              <a:t>wij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scussie: wat willen </a:t>
            </a:r>
            <a:r>
              <a:rPr b="1" i="1" lang="nl-NL" sz="3200" spc="-1" strike="noStrike">
                <a:solidFill>
                  <a:srgbClr val="000000"/>
                </a:solidFill>
                <a:latin typeface="Arial"/>
              </a:rPr>
              <a:t>zi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stellen: welke wensen </a:t>
            </a:r>
            <a:r>
              <a:rPr b="1" i="1" lang="nl-NL" sz="3200" spc="-1" strike="noStrike">
                <a:solidFill>
                  <a:srgbClr val="000000"/>
                </a:solidFill>
                <a:latin typeface="Arial"/>
              </a:rPr>
              <a:t>kunn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we inrui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uilen/onderhandelen: welke wensen </a:t>
            </a:r>
            <a:r>
              <a:rPr b="1" i="1" lang="nl-NL" sz="3200" spc="-1" strike="noStrike">
                <a:solidFill>
                  <a:srgbClr val="000000"/>
                </a:solidFill>
                <a:latin typeface="Arial"/>
              </a:rPr>
              <a:t>zull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we inrui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0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186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10"/>
          <p:cNvSpPr/>
          <p:nvPr/>
        </p:nvSpPr>
        <p:spPr>
          <a:xfrm>
            <a:off x="2627280" y="198108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8"/>
          <p:cNvSpPr/>
          <p:nvPr/>
        </p:nvSpPr>
        <p:spPr>
          <a:xfrm>
            <a:off x="468360" y="1341360"/>
            <a:ext cx="82296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400" spc="-1" strike="noStrike" u="sng">
                <a:solidFill>
                  <a:srgbClr val="000000"/>
                </a:solidFill>
                <a:uFillTx/>
                <a:latin typeface="Batavia"/>
              </a:rPr>
              <a:t>Onderhandelen</a:t>
            </a:r>
            <a:r>
              <a:rPr b="1" lang="nl-NL" sz="5400" spc="-1" strike="noStrike">
                <a:solidFill>
                  <a:srgbClr val="000000"/>
                </a:solidFill>
                <a:latin typeface="Batavia"/>
              </a:rPr>
              <a:t> ……..</a:t>
            </a:r>
            <a:br>
              <a:rPr sz="5400"/>
            </a:br>
            <a:br>
              <a:rPr sz="5400"/>
            </a:br>
            <a:br>
              <a:rPr sz="5400"/>
            </a:br>
            <a:r>
              <a:rPr b="1" lang="nl-NL" sz="5400" spc="-1" strike="noStrike" u="sng">
                <a:solidFill>
                  <a:srgbClr val="000000"/>
                </a:solidFill>
                <a:uFillTx/>
                <a:latin typeface="Batavia"/>
              </a:rPr>
              <a:t>DOEN</a:t>
            </a:r>
            <a:r>
              <a:rPr b="1" lang="nl-NL" sz="5400" spc="-1" strike="noStrike">
                <a:solidFill>
                  <a:srgbClr val="000000"/>
                </a:solidFill>
                <a:latin typeface="Batavia"/>
              </a:rPr>
              <a:t> …..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193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10"/>
          <p:cNvSpPr/>
          <p:nvPr/>
        </p:nvSpPr>
        <p:spPr>
          <a:xfrm>
            <a:off x="1908000" y="219852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85880"/>
            <a:ext cx="9144000" cy="6099120"/>
          </a:xfrm>
          <a:prstGeom prst="rect">
            <a:avLst/>
          </a:prstGeom>
          <a:ln w="0">
            <a:noFill/>
          </a:ln>
        </p:spPr>
      </p:pic>
      <p:sp>
        <p:nvSpPr>
          <p:cNvPr id="101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0"/>
          <p:cNvSpPr/>
          <p:nvPr/>
        </p:nvSpPr>
        <p:spPr>
          <a:xfrm>
            <a:off x="2627280" y="198108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8"/>
          <p:cNvSpPr/>
          <p:nvPr/>
        </p:nvSpPr>
        <p:spPr>
          <a:xfrm>
            <a:off x="468360" y="981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600" spc="-1" strike="noStrike">
                <a:solidFill>
                  <a:srgbClr val="000000"/>
                </a:solidFill>
                <a:latin typeface="Monotype Corsiva"/>
              </a:rPr>
              <a:t>Adelinde Bouwm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468360" y="2060640"/>
            <a:ext cx="381636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aaksber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ne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0" descr="MPj04255520000[1]"/>
          <p:cNvPicPr/>
          <p:nvPr/>
        </p:nvPicPr>
        <p:blipFill>
          <a:blip r:embed="rId5"/>
          <a:srcRect l="18825" t="0" r="11075" b="0"/>
          <a:stretch/>
        </p:blipFill>
        <p:spPr>
          <a:xfrm>
            <a:off x="3564000" y="2997360"/>
            <a:ext cx="1879560" cy="17841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NAJKeduLogokleur1"/>
          <p:cNvPicPr/>
          <p:nvPr/>
        </p:nvPicPr>
        <p:blipFill>
          <a:blip r:embed="rId6"/>
          <a:srcRect l="0" t="0" r="20225" b="0"/>
          <a:stretch/>
        </p:blipFill>
        <p:spPr>
          <a:xfrm>
            <a:off x="7236000" y="1916280"/>
            <a:ext cx="1152360" cy="1800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MCj03448530000[1]"/>
          <p:cNvPicPr/>
          <p:nvPr/>
        </p:nvPicPr>
        <p:blipFill>
          <a:blip r:embed="rId7"/>
          <a:stretch/>
        </p:blipFill>
        <p:spPr>
          <a:xfrm>
            <a:off x="6156360" y="4724280"/>
            <a:ext cx="1455840" cy="19368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16"/>
          <p:cNvSpPr/>
          <p:nvPr/>
        </p:nvSpPr>
        <p:spPr>
          <a:xfrm>
            <a:off x="539640" y="4913280"/>
            <a:ext cx="381636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chtgen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eder (4 ki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9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4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4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4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3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9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9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9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113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10"/>
          <p:cNvSpPr/>
          <p:nvPr/>
        </p:nvSpPr>
        <p:spPr>
          <a:xfrm>
            <a:off x="2627280" y="198108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8"/>
          <p:cNvSpPr/>
          <p:nvPr/>
        </p:nvSpPr>
        <p:spPr>
          <a:xfrm>
            <a:off x="39528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Onderhan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914400" y="1700280"/>
            <a:ext cx="822960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Program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lei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derhandel zelf: ‘Een gunstig resultaat?!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bespre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uccesvol onderhandelen: Hoe ?!?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efening: ‘wie doet de beste koop?’ (rollensp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bespre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ips en tricks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slu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121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10"/>
          <p:cNvSpPr/>
          <p:nvPr/>
        </p:nvSpPr>
        <p:spPr>
          <a:xfrm>
            <a:off x="2627280" y="198108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8"/>
          <p:cNvSpPr/>
          <p:nvPr/>
        </p:nvSpPr>
        <p:spPr>
          <a:xfrm>
            <a:off x="395280" y="76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Onderhan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611280" y="1989000"/>
            <a:ext cx="8229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………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..‘Een gunstig resultaat?!’………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efening: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Wat is jouw manier van onderhandelen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wee-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k een formulier (A of B), voor jezelf hou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derhandelen over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westies (I, II en I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s over één letter per kwestie: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onderhandel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unten scoren: zoveel mogelijk pu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x. 10 minuten: eindakko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bee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129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0"/>
          <p:cNvSpPr/>
          <p:nvPr/>
        </p:nvSpPr>
        <p:spPr>
          <a:xfrm>
            <a:off x="2627280" y="198108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8"/>
          <p:cNvSpPr/>
          <p:nvPr/>
        </p:nvSpPr>
        <p:spPr>
          <a:xfrm>
            <a:off x="4356000" y="601560"/>
            <a:ext cx="3961080" cy="62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wes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I </a:t>
            </a: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II </a:t>
            </a: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II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0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23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9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48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8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56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7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1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E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60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5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5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4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3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45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45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J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10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23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23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23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23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23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56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O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0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56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0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56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56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78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78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T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0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78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0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543600" y="981000"/>
            <a:ext cx="317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Waarderingsformuli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vo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onderhandelaar C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137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0"/>
          <p:cNvSpPr/>
          <p:nvPr/>
        </p:nvSpPr>
        <p:spPr>
          <a:xfrm>
            <a:off x="2627280" y="198108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8"/>
          <p:cNvSpPr/>
          <p:nvPr/>
        </p:nvSpPr>
        <p:spPr>
          <a:xfrm>
            <a:off x="395280" y="981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Succesvol onderhan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914400" y="2492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is onderhandel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ype onderhandel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handelingsstrate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ase bij onderhan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145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0"/>
          <p:cNvSpPr/>
          <p:nvPr/>
        </p:nvSpPr>
        <p:spPr>
          <a:xfrm>
            <a:off x="2627280" y="198108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8"/>
          <p:cNvSpPr/>
          <p:nvPr/>
        </p:nvSpPr>
        <p:spPr>
          <a:xfrm>
            <a:off x="395280" y="76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Onderhan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684360" y="1989000"/>
            <a:ext cx="8229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Wat is onderhandel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ardigheid om op te komen voor je eigen belangen in situaties waarin je afhankelijk bent van ande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el/wedstrijd: geen winnaar/verlie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amenwerken, geen ruzie: gezamenlijk bela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153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10"/>
          <p:cNvSpPr/>
          <p:nvPr/>
        </p:nvSpPr>
        <p:spPr>
          <a:xfrm>
            <a:off x="2627280" y="198108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8"/>
          <p:cNvSpPr/>
          <p:nvPr/>
        </p:nvSpPr>
        <p:spPr>
          <a:xfrm>
            <a:off x="395280" y="76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Onderhan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611280" y="1844640"/>
            <a:ext cx="822960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e onderhandel ik zel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is meest effectief bij onderhandel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84360" y="2565360"/>
          <a:ext cx="7993080" cy="3417840"/>
        </p:xfrm>
        <a:graphic>
          <a:graphicData uri="http://schemas.openxmlformats.org/drawingml/2006/table">
            <a:tbl>
              <a:tblPr/>
              <a:tblGrid>
                <a:gridCol w="2663640"/>
                <a:gridCol w="2665440"/>
                <a:gridCol w="2664000"/>
              </a:tblGrid>
              <a:tr h="74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Inhou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egeeflij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kkelha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Mac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inig verwe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ina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Klimaat</a:t>
                      </a: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via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flexibilite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orere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mijde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omb dir="horz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65000"/>
            <a:ext cx="9177480" cy="6072480"/>
          </a:xfrm>
          <a:prstGeom prst="rect">
            <a:avLst/>
          </a:prstGeom>
          <a:ln w="0">
            <a:noFill/>
          </a:ln>
        </p:spPr>
      </p:pic>
      <p:sp>
        <p:nvSpPr>
          <p:cNvPr id="162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10"/>
          <p:cNvSpPr/>
          <p:nvPr/>
        </p:nvSpPr>
        <p:spPr>
          <a:xfrm>
            <a:off x="2627280" y="198108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8"/>
          <p:cNvSpPr/>
          <p:nvPr/>
        </p:nvSpPr>
        <p:spPr>
          <a:xfrm>
            <a:off x="395280" y="76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Onderhan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611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Type onderhandelaar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lim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oezichthou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ri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ulleb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34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21:06:11Z</dcterms:created>
  <dc:creator>Adelinde</dc:creator>
  <dc:description/>
  <dc:language>en-US</dc:language>
  <cp:lastModifiedBy>Brigitte Kok</cp:lastModifiedBy>
  <cp:lastPrinted>2014-01-30T00:20:25Z</cp:lastPrinted>
  <dcterms:modified xsi:type="dcterms:W3CDTF">2015-01-29T10:11:05Z</dcterms:modified>
  <cp:revision>9</cp:revision>
  <dc:subject/>
  <dc:title>Onderhandelen</dc:title>
</cp:coreProperties>
</file>