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0204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D2D9-D790-4D6F-82B3-3909F93CD359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A72F-BBEF-48F5-B3F2-8CB86DB58BA1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6075-4470-4409-8D51-E9631CAE185B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1E6C-A04A-4F39-A261-3273126BAF6E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1454-1A81-4D61-B573-9BF647339C52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B7B4-86D8-494B-93A8-017D5B1C3D0B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41C2-F200-4CE6-BDC9-1F8052ADF04C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A46D-4D04-487C-9C8D-834112925893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8E63-2483-416B-961B-A1F9E83C4B7F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A9A0-75F2-4A54-8038-B76B704BEDE9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3915-D935-489A-B57D-E7BF7318B0C1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632F-6007-4C27-A4B0-D431BA401E2A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5C19-7F92-4C5B-8189-6B0EAA465D48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3049-87A1-46C3-BBD1-D5A74F511EF4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6F0-B943-48A1-9494-4DDBE20B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888-1D38-4ABC-BF51-BD6293B8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E780-40FF-48E3-AB49-3CF6EE68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73E-C3DB-4AAC-8A5E-A5995109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4AF9-CCF6-4EC6-B56F-6BA7D1A2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C564-ECC9-4D1E-B981-353E36F6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984B-22B5-436F-A471-B37A6DE8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C99B-6C80-48A9-821F-37CC7559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2E6E-FBEA-4736-95FD-FD404379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50E3-8BF4-4772-B9C2-F2B9A639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552A-C751-41BA-B260-921DABA2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32A-2BFB-4A8F-9233-D649F3FB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6873-7259-4DE2-AC37-A2818091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41D5-1C3B-4844-8CD7-422FA532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C087-5CE5-4E9A-8EAC-02DCADC4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97AA-F101-4CC9-AC4B-1798E363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505C-F9A8-43FB-AE44-8410C256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7A9-0B0C-4849-952F-597C5C44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50F-0D9A-4BCC-86D1-2830EF7F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0B9-7F42-4E46-8E50-A9CE731A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610-CDD7-44EC-8E5D-2BE6F8E6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77B-DF75-42EF-9CE0-BCF31851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57F-3B31-4B58-ACCB-27851870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66C7-9AC8-4EBD-983E-FFF606D0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BBE3-B1BB-459C-89C0-08660180E8C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32BA-C3B2-4D24-A566-790F07AE7D2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twynstraguddeblog.nl/photos/uncategorized/samen.jpg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9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6"/>
          <p:cNvSpPr/>
          <p:nvPr/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omic"/>
              </a:rPr>
              <a:t>Onderhandel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Bekijk de afbeelding op ware groott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32000" y="2276640"/>
            <a:ext cx="295272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MCj03045210000[1]"/>
          <p:cNvPicPr/>
          <p:nvPr/>
        </p:nvPicPr>
        <p:blipFill>
          <a:blip r:embed="rId7"/>
          <a:stretch/>
        </p:blipFill>
        <p:spPr>
          <a:xfrm>
            <a:off x="826920" y="5013360"/>
            <a:ext cx="2463840" cy="164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MCj01495810000[1]"/>
          <p:cNvPicPr/>
          <p:nvPr/>
        </p:nvPicPr>
        <p:blipFill>
          <a:blip r:embed="rId8"/>
          <a:stretch/>
        </p:blipFill>
        <p:spPr>
          <a:xfrm>
            <a:off x="6372360" y="4797360"/>
            <a:ext cx="255096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70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1908000" y="219852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5"/>
          <a:stretch/>
        </p:blipFill>
        <p:spPr>
          <a:xfrm>
            <a:off x="1122480" y="1254240"/>
            <a:ext cx="7677000" cy="5630760"/>
          </a:xfrm>
          <a:prstGeom prst="rect">
            <a:avLst/>
          </a:prstGeom>
          <a:ln w="0">
            <a:noFill/>
          </a:ln>
        </p:spPr>
      </p:pic>
      <p:sp>
        <p:nvSpPr>
          <p:cNvPr id="175" name="Tekstvak 1"/>
          <p:cNvSpPr/>
          <p:nvPr/>
        </p:nvSpPr>
        <p:spPr>
          <a:xfrm>
            <a:off x="1547640" y="900000"/>
            <a:ext cx="74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nderhandelingsstrate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78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7128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Fases bij onderhan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reiding: wat will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wij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ussie: wat will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: welke wens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kun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 inru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ilen/onderhandelen: welke wens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zu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 inru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86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468360" y="134136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u="sng">
                <a:solidFill>
                  <a:srgbClr val="000000"/>
                </a:solidFill>
                <a:uFillTx/>
                <a:latin typeface="Batavia"/>
              </a:rPr>
              <a:t>Onderhandelen</a:t>
            </a:r>
            <a:r>
              <a:rPr b="1" lang="nl-NL" sz="5400" spc="-1" strike="noStrike">
                <a:solidFill>
                  <a:srgbClr val="000000"/>
                </a:solidFill>
                <a:latin typeface="Batavia"/>
              </a:rPr>
              <a:t> ……..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nl-NL" sz="5400" spc="-1" strike="noStrike" u="sng">
                <a:solidFill>
                  <a:srgbClr val="000000"/>
                </a:solidFill>
                <a:uFillTx/>
                <a:latin typeface="Batavia"/>
              </a:rPr>
              <a:t>DOEN</a:t>
            </a:r>
            <a:r>
              <a:rPr b="1" lang="nl-NL" sz="5400" spc="-1" strike="noStrike">
                <a:solidFill>
                  <a:srgbClr val="000000"/>
                </a:solidFill>
                <a:latin typeface="Batavia"/>
              </a:rPr>
              <a:t> …..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9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"/>
          <p:cNvSpPr/>
          <p:nvPr/>
        </p:nvSpPr>
        <p:spPr>
          <a:xfrm>
            <a:off x="1908000" y="219852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46836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600" spc="-1" strike="noStrike">
                <a:solidFill>
                  <a:srgbClr val="000000"/>
                </a:solidFill>
                <a:latin typeface="Monotype Corsiva"/>
              </a:rPr>
              <a:t>Adelinde Bouwm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68360" y="206064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ksber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n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MPj04255520000[1]"/>
          <p:cNvPicPr/>
          <p:nvPr/>
        </p:nvPicPr>
        <p:blipFill>
          <a:blip r:embed="rId5"/>
          <a:srcRect l="18825" t="0" r="11075" b="0"/>
          <a:stretch/>
        </p:blipFill>
        <p:spPr>
          <a:xfrm>
            <a:off x="3564000" y="2997360"/>
            <a:ext cx="1879560" cy="1784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NAJKeduLogokleur1"/>
          <p:cNvPicPr/>
          <p:nvPr/>
        </p:nvPicPr>
        <p:blipFill>
          <a:blip r:embed="rId6"/>
          <a:srcRect l="0" t="0" r="20225" b="0"/>
          <a:stretch/>
        </p:blipFill>
        <p:spPr>
          <a:xfrm>
            <a:off x="7236000" y="1916280"/>
            <a:ext cx="1152360" cy="180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MCj03448530000[1]"/>
          <p:cNvPicPr/>
          <p:nvPr/>
        </p:nvPicPr>
        <p:blipFill>
          <a:blip r:embed="rId7"/>
          <a:stretch/>
        </p:blipFill>
        <p:spPr>
          <a:xfrm>
            <a:off x="6156360" y="4724280"/>
            <a:ext cx="1455840" cy="1936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"/>
          <p:cNvSpPr/>
          <p:nvPr/>
        </p:nvSpPr>
        <p:spPr>
          <a:xfrm>
            <a:off x="539640" y="491328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ge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der (4 k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9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9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1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914400" y="170028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andel zelf: ‘Een gunstig resultaat?!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besp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ccesvol onderhandelen: Hoe ?!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efening: ‘wie doet de beste koop?’ (rollensp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bespre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ips en trick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lu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1128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.‘Een gunstig resultaat?!’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fening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is jouw manier van onderhandelen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ee-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een formulier (A of B), voor jezelf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handele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westies (I, II en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s over één letter per kwestie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nderhan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unten scoren: zoveel mogelijk 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. 10 minuten: eindakk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29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4356000" y="601560"/>
            <a:ext cx="396108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wes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I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E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6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5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J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23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O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56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78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543600" y="981000"/>
            <a:ext cx="31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Waarderingsformul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onderhandelaar 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37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39528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Succesvol 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1440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onderhande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ype onderhand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andelingsstrat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se bij onderhan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45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68436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Wat is onderhande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ardigheid om op te komen voor je eigen belangen in situaties waarin je afhankelijk bent van an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l/wedstrijd: geen winnaar/verlie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werken, geen ruzie: gezamenlijk bela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5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611280" y="184464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onderhandel ik z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meest effectief bij onderhande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2565360"/>
          <a:ext cx="7993080" cy="341784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nh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egeeflij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kkelh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ac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nig verwe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limaat</a:t>
                      </a: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via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lexibilite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r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ijd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65000"/>
            <a:ext cx="9177480" cy="6072480"/>
          </a:xfrm>
          <a:prstGeom prst="rect">
            <a:avLst/>
          </a:prstGeom>
          <a:ln w="0">
            <a:noFill/>
          </a:ln>
        </p:spPr>
      </p:pic>
      <p:sp>
        <p:nvSpPr>
          <p:cNvPr id="162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ype onderhandelaa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i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r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lle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1:06:11Z</dcterms:created>
  <dc:creator>Adelinde</dc:creator>
  <dc:description/>
  <dc:language>en-US</dc:language>
  <cp:lastModifiedBy>Brigitte Kok</cp:lastModifiedBy>
  <cp:lastPrinted>2014-01-30T00:20:25Z</cp:lastPrinted>
  <dcterms:modified xsi:type="dcterms:W3CDTF">2015-01-29T10:11:05Z</dcterms:modified>
  <cp:revision>9</cp:revision>
  <dc:subject/>
  <dc:title>Onderhandelen</dc:title>
</cp:coreProperties>
</file>