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548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56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1904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0548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156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19040" y="790560"/>
            <a:ext cx="705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0548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56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1904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0548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156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19040" y="790560"/>
            <a:ext cx="705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0548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56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31904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0548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9156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19040" y="790560"/>
            <a:ext cx="705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70548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56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31904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70548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9156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19040" y="790560"/>
            <a:ext cx="705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19040" y="790560"/>
            <a:ext cx="705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70548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1560" y="131580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1904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70548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91560" y="3933720"/>
            <a:ext cx="22723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5600" y="393372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1904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5600" y="1315800"/>
            <a:ext cx="344412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19040" y="3933720"/>
            <a:ext cx="7058160" cy="23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900" spc="-1" strike="noStrike">
                <a:solidFill>
                  <a:srgbClr val="da2c36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500" spc="-1" strike="noStrike">
                <a:solidFill>
                  <a:srgbClr val="da2c36"/>
                </a:solidFill>
                <a:latin typeface="Times New Roman"/>
              </a:rPr>
              <a:t>Click to edit the title text format</a:t>
            </a:r>
            <a:endParaRPr b="1" lang="en-US" sz="2500" spc="-1" strike="noStrike">
              <a:solidFill>
                <a:srgbClr val="da2c3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8800" y="6064200"/>
            <a:ext cx="6867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341360"/>
                <a:tab algn="l" pos="2682720"/>
                <a:tab algn="l" pos="4024440"/>
                <a:tab algn="l" pos="5365800"/>
                <a:tab algn="l" pos="6707160"/>
                <a:tab algn="l" pos="8048520"/>
                <a:tab algn="l" pos="9390240"/>
                <a:tab algn="l" pos="1073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900" spc="-1" strike="noStrike">
                <a:solidFill>
                  <a:srgbClr val="da2c36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19040" y="790560"/>
            <a:ext cx="7058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500" spc="-1" strike="noStrike">
                <a:solidFill>
                  <a:srgbClr val="da2c36"/>
                </a:solidFill>
                <a:latin typeface="Times New Roman"/>
              </a:rPr>
              <a:t>Click to edit the title text format</a:t>
            </a:r>
            <a:endParaRPr b="1" lang="en-US" sz="2500" spc="-1" strike="noStrike">
              <a:solidFill>
                <a:srgbClr val="da2c3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319040" y="1315800"/>
            <a:ext cx="705816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geo bewerkt copy"/>
          <p:cNvPicPr/>
          <p:nvPr/>
        </p:nvPicPr>
        <p:blipFill>
          <a:blip r:embed="rId1"/>
          <a:stretch/>
        </p:blipFill>
        <p:spPr>
          <a:xfrm rot="3837600">
            <a:off x="1480680" y="3495600"/>
            <a:ext cx="4968720" cy="25304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2600" y="5457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2100" spc="-1" strike="noStrike">
                <a:solidFill>
                  <a:srgbClr val="da2c36"/>
                </a:solidFill>
                <a:latin typeface="Arial"/>
              </a:rPr>
              <a:t>Loodrechte lijnen tekenen</a:t>
            </a:r>
            <a:endParaRPr b="0" lang="en-US" sz="21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2240" y="1490760"/>
            <a:ext cx="431964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Teken een lijn loodrecht op lijn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De lijn moet door punt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ga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Dat doe je zo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Leg de loodlijn van je geodriehoek op lijn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erschuif je geodriehoek tot aan punt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Teken de loodrechte lij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et in één van de hoeken het rechte hoektekent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 flipV="1">
            <a:off x="3995640" y="2421000"/>
            <a:ext cx="475308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8459640" y="263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01200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8472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819760" y="1596960"/>
            <a:ext cx="1757520" cy="354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6621120" y="3119400"/>
            <a:ext cx="17316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6794640" y="3119400"/>
            <a:ext cx="856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4624E-007 L 0.18299 -0.11838 E">
                                      <p:cBhvr>
                                        <p:cTn id="52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eo bewerkt copy"/>
          <p:cNvPicPr/>
          <p:nvPr/>
        </p:nvPicPr>
        <p:blipFill>
          <a:blip r:embed="rId1"/>
          <a:stretch/>
        </p:blipFill>
        <p:spPr>
          <a:xfrm rot="20044800">
            <a:off x="4473720" y="4092120"/>
            <a:ext cx="4968720" cy="2530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33200" y="618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2100" spc="-1" strike="noStrike">
                <a:solidFill>
                  <a:srgbClr val="da2c36"/>
                </a:solidFill>
                <a:latin typeface="Arial"/>
              </a:rPr>
              <a:t>Evenwijdige lijnen tekenen</a:t>
            </a:r>
            <a:endParaRPr b="0" lang="en-US" sz="21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28800" y="1528920"/>
            <a:ext cx="447012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Teken een lijn evenwijdig aan lijn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De lijn moet door het punt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gaa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Dat doe je z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Leg de lange zijde van je geodriehoek langs lijn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erschuif je geodriehoek tot aan punt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org ervoor dat lijn m evenwijdig is aan de evenwijdige lijntjes op je geodrieho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Teken dan de evenwijdige lijn door punt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Laat met pijltjes zien dat de lijnen evenwijdig zij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995640" y="3119040"/>
            <a:ext cx="4753080" cy="23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459640" y="33354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954760" y="2819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027840" y="3035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4211640" y="2471760"/>
            <a:ext cx="36003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 rot="20229600">
            <a:off x="7018560" y="2479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 rot="20229600">
            <a:off x="7448760" y="3352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1676E-006 L -0.04913 -0.12809 E">
                                      <p:cBhvr>
                                        <p:cTn id="136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0140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2100" spc="-1" strike="noStrike">
                <a:solidFill>
                  <a:srgbClr val="da2c36"/>
                </a:solidFill>
                <a:latin typeface="Arial"/>
              </a:rPr>
              <a:t>Hoeken</a:t>
            </a:r>
            <a:endParaRPr b="0" lang="en-US" sz="21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187280" y="1268280"/>
            <a:ext cx="396108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ke hoek heeft twee ben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benen beginnen in het hoekpun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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spreek je uit als ‘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ken kun je me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 doe je in grad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Helemaal rond is 360</a:t>
            </a:r>
            <a:r>
              <a:rPr b="0" lang="en-US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5537160" y="24732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5537160" y="1393920"/>
            <a:ext cx="144000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321160" y="2473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6616800" y="2473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97520" y="1538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745160" y="216864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ekp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5537160" y="340992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4457880" y="463392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5537160" y="4417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5753160" y="4417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koers1"/>
          <p:cNvPicPr/>
          <p:nvPr/>
        </p:nvPicPr>
        <p:blipFill>
          <a:blip r:embed="rId1"/>
          <a:stretch/>
        </p:blipFill>
        <p:spPr>
          <a:xfrm>
            <a:off x="3774960" y="2928960"/>
            <a:ext cx="3468960" cy="350532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5"/>
          <p:cNvSpPr/>
          <p:nvPr/>
        </p:nvSpPr>
        <p:spPr>
          <a:xfrm>
            <a:off x="5796000" y="2276640"/>
            <a:ext cx="82440" cy="215640"/>
          </a:xfrm>
          <a:custGeom>
            <a:avLst/>
            <a:gdLst>
              <a:gd name="textAreaLeft" fmla="*/ 0 w 82440"/>
              <a:gd name="textAreaRight" fmla="*/ 82800 w 82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2" h="136">
                <a:moveTo>
                  <a:pt x="45" y="136"/>
                </a:moveTo>
                <a:cubicBezTo>
                  <a:pt x="48" y="102"/>
                  <a:pt x="52" y="68"/>
                  <a:pt x="45" y="45"/>
                </a:cubicBezTo>
                <a:cubicBezTo>
                  <a:pt x="38" y="22"/>
                  <a:pt x="7" y="7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koers1"/>
          <p:cNvPicPr/>
          <p:nvPr/>
        </p:nvPicPr>
        <p:blipFill>
          <a:blip r:embed="rId1"/>
          <a:stretch/>
        </p:blipFill>
        <p:spPr>
          <a:xfrm>
            <a:off x="5234040" y="36360"/>
            <a:ext cx="2641680" cy="2670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koers1"/>
          <p:cNvPicPr/>
          <p:nvPr/>
        </p:nvPicPr>
        <p:blipFill>
          <a:blip r:embed="rId2"/>
          <a:stretch/>
        </p:blipFill>
        <p:spPr>
          <a:xfrm rot="2918400">
            <a:off x="5306400" y="1823760"/>
            <a:ext cx="2641680" cy="2670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16000" y="946080"/>
            <a:ext cx="45370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en rechte ho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90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°. Je schrijft </a:t>
            </a:r>
            <a:r>
              <a:rPr b="0" lang="en-US" sz="17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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90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Een rechte hoek is 90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k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kleiner dan een rechte hoek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arom is hoek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en scherpe ho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Een scherpe hoek is kleiner dan 90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k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groter dan een rechte hoek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arom is hoek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en stompe ho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Een stompe hoek is groter dan 90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k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en gestrekte ho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benen vormen een rechte lij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Een gestrekte hoek is 180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6588000" y="134136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6588000" y="25992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372360" y="130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6588000" y="112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6804000" y="112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6661080" y="315108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6661080" y="1989000"/>
            <a:ext cx="1366920" cy="116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445080" y="3119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6661080" y="49514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H="1" flipV="1">
            <a:off x="5724360" y="3715920"/>
            <a:ext cx="936720" cy="123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644364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6661080" y="649116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445080" y="6491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4788000" y="649620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488280" y="626904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0"/>
          <p:cNvSpPr/>
          <p:nvPr/>
        </p:nvSpPr>
        <p:spPr>
          <a:xfrm>
            <a:off x="7081920" y="2782800"/>
            <a:ext cx="420480" cy="363600"/>
          </a:xfrm>
          <a:custGeom>
            <a:avLst/>
            <a:gdLst>
              <a:gd name="textAreaLeft" fmla="*/ 0 w 420480"/>
              <a:gd name="textAreaRight" fmla="*/ 420840 w 4204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65" h="229">
                <a:moveTo>
                  <a:pt x="265" y="229"/>
                </a:moveTo>
                <a:cubicBezTo>
                  <a:pt x="246" y="165"/>
                  <a:pt x="227" y="102"/>
                  <a:pt x="183" y="64"/>
                </a:cubicBezTo>
                <a:cubicBezTo>
                  <a:pt x="139" y="26"/>
                  <a:pt x="30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1"/>
          <p:cNvSpPr/>
          <p:nvPr/>
        </p:nvSpPr>
        <p:spPr>
          <a:xfrm>
            <a:off x="6399360" y="4584600"/>
            <a:ext cx="564840" cy="335160"/>
          </a:xfrm>
          <a:custGeom>
            <a:avLst/>
            <a:gdLst>
              <a:gd name="textAreaLeft" fmla="*/ 0 w 564840"/>
              <a:gd name="textAreaRight" fmla="*/ 565200 w 5648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65" h="229">
                <a:moveTo>
                  <a:pt x="265" y="229"/>
                </a:moveTo>
                <a:cubicBezTo>
                  <a:pt x="246" y="165"/>
                  <a:pt x="227" y="102"/>
                  <a:pt x="183" y="64"/>
                </a:cubicBezTo>
                <a:cubicBezTo>
                  <a:pt x="139" y="26"/>
                  <a:pt x="30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2"/>
          <p:cNvSpPr/>
          <p:nvPr/>
        </p:nvSpPr>
        <p:spPr>
          <a:xfrm>
            <a:off x="6357960" y="6192720"/>
            <a:ext cx="550800" cy="281160"/>
          </a:xfrm>
          <a:custGeom>
            <a:avLst/>
            <a:gdLst>
              <a:gd name="textAreaLeft" fmla="*/ 0 w 550800"/>
              <a:gd name="textAreaRight" fmla="*/ 551160 w 550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47" h="177">
                <a:moveTo>
                  <a:pt x="347" y="177"/>
                </a:moveTo>
                <a:cubicBezTo>
                  <a:pt x="284" y="91"/>
                  <a:pt x="222" y="6"/>
                  <a:pt x="164" y="3"/>
                </a:cubicBezTo>
                <a:cubicBezTo>
                  <a:pt x="106" y="0"/>
                  <a:pt x="27" y="132"/>
                  <a:pt x="0" y="1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3" descr="koers1"/>
          <p:cNvPicPr/>
          <p:nvPr/>
        </p:nvPicPr>
        <p:blipFill>
          <a:blip r:embed="rId3"/>
          <a:stretch/>
        </p:blipFill>
        <p:spPr>
          <a:xfrm rot="19456200">
            <a:off x="5292720" y="3645000"/>
            <a:ext cx="2641680" cy="2670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koers1"/>
          <p:cNvPicPr/>
          <p:nvPr/>
        </p:nvPicPr>
        <p:blipFill>
          <a:blip r:embed="rId4"/>
          <a:stretch/>
        </p:blipFill>
        <p:spPr>
          <a:xfrm>
            <a:off x="5262480" y="5200560"/>
            <a:ext cx="2670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516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2000" spc="-1" strike="noStrike">
                <a:solidFill>
                  <a:srgbClr val="da2c36"/>
                </a:solidFill>
                <a:latin typeface="Arial"/>
              </a:rPr>
              <a:t>Werkschema: zo meet je een hoek</a:t>
            </a:r>
            <a:endParaRPr b="0" lang="en-US" sz="20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47" name="Line 3"/>
          <p:cNvSpPr/>
          <p:nvPr/>
        </p:nvSpPr>
        <p:spPr>
          <a:xfrm flipH="1">
            <a:off x="5578560" y="1916280"/>
            <a:ext cx="2233440" cy="15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 flipH="1" flipV="1">
            <a:off x="5578560" y="3502080"/>
            <a:ext cx="2954160" cy="100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187280" y="1484280"/>
            <a:ext cx="453564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eveel graden is 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g de geodriehoek op 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0 komt precies op punt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lange kant van je geodrieh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gs een been van 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 dan langs de boog 10, 20, …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es bij het andere been af ho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oot die hoek i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	</a:t>
            </a:r>
            <a:r>
              <a:rPr b="0" lang="nl-NL" sz="1700" spc="-1" strike="noStrike">
                <a:solidFill>
                  <a:srgbClr val="da2c36"/>
                </a:solidFill>
                <a:latin typeface="Euclid Symbol"/>
                <a:ea typeface="Euclid Symbol"/>
              </a:rPr>
              <a:t></a:t>
            </a:r>
            <a:r>
              <a:rPr b="0" i="1" lang="nl-NL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A</a:t>
            </a:r>
            <a:r>
              <a:rPr b="0" lang="nl-NL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 = 55</a:t>
            </a:r>
            <a:r>
              <a:rPr b="0" lang="en-US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geo bewerkt copy"/>
          <p:cNvPicPr/>
          <p:nvPr/>
        </p:nvPicPr>
        <p:blipFill>
          <a:blip r:embed="rId1"/>
          <a:stretch/>
        </p:blipFill>
        <p:spPr>
          <a:xfrm rot="1144200">
            <a:off x="2410560" y="-190440"/>
            <a:ext cx="7672680" cy="39067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2927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7678800" y="2017800"/>
            <a:ext cx="546120" cy="2278080"/>
          </a:xfrm>
          <a:custGeom>
            <a:avLst/>
            <a:gdLst>
              <a:gd name="textAreaLeft" fmla="*/ 0 w 546120"/>
              <a:gd name="textAreaRight" fmla="*/ 546480 w 546120"/>
              <a:gd name="textAreaTop" fmla="*/ 0 h 2278080"/>
              <a:gd name="textAreaBottom" fmla="*/ 2278080 h 2278080"/>
            </a:gdLst>
            <a:ahLst/>
            <a:rect l="textAreaLeft" t="textAreaTop" r="textAreaRight" b="textAreaBottom"/>
            <a:pathLst>
              <a:path w="344" h="1435">
                <a:moveTo>
                  <a:pt x="246" y="1435"/>
                </a:moveTo>
                <a:cubicBezTo>
                  <a:pt x="295" y="1260"/>
                  <a:pt x="344" y="1086"/>
                  <a:pt x="338" y="905"/>
                </a:cubicBezTo>
                <a:cubicBezTo>
                  <a:pt x="332" y="724"/>
                  <a:pt x="266" y="498"/>
                  <a:pt x="210" y="347"/>
                </a:cubicBezTo>
                <a:cubicBezTo>
                  <a:pt x="154" y="196"/>
                  <a:pt x="35" y="58"/>
                  <a:pt x="0" y="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 rot="14454600">
            <a:off x="7530840" y="18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 Unicode MS"/>
                <a:ea typeface="Arial Unicode MS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0"/>
          <p:cNvSpPr/>
          <p:nvPr/>
        </p:nvSpPr>
        <p:spPr>
          <a:xfrm rot="19993800">
            <a:off x="7300800" y="1798560"/>
            <a:ext cx="666720" cy="406440"/>
          </a:xfrm>
          <a:prstGeom prst="ellipse">
            <a:avLst/>
          </a:prstGeom>
          <a:noFill/>
          <a:ln w="50760">
            <a:solidFill>
              <a:srgbClr val="da2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1"/>
          <p:cNvSpPr/>
          <p:nvPr/>
        </p:nvSpPr>
        <p:spPr>
          <a:xfrm>
            <a:off x="5796000" y="3357720"/>
            <a:ext cx="85680" cy="215640"/>
          </a:xfrm>
          <a:custGeom>
            <a:avLst/>
            <a:gdLst>
              <a:gd name="textAreaLeft" fmla="*/ 0 w 85680"/>
              <a:gd name="textAreaRight" fmla="*/ 85680 w 85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4" h="136">
                <a:moveTo>
                  <a:pt x="46" y="136"/>
                </a:moveTo>
                <a:cubicBezTo>
                  <a:pt x="50" y="102"/>
                  <a:pt x="54" y="68"/>
                  <a:pt x="46" y="45"/>
                </a:cubicBezTo>
                <a:cubicBezTo>
                  <a:pt x="38" y="22"/>
                  <a:pt x="8" y="7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opg18a"/>
          <p:cNvPicPr/>
          <p:nvPr/>
        </p:nvPicPr>
        <p:blipFill>
          <a:blip r:embed="rId1"/>
          <a:stretch/>
        </p:blipFill>
        <p:spPr>
          <a:xfrm>
            <a:off x="4765680" y="1857240"/>
            <a:ext cx="3771720" cy="400068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 flipV="1">
            <a:off x="3948120" y="2643840"/>
            <a:ext cx="4591080" cy="1314360"/>
          </a:xfrm>
          <a:prstGeom prst="triangle">
            <a:avLst>
              <a:gd name="adj" fmla="val 59125"/>
            </a:avLst>
          </a:prstGeom>
          <a:solidFill>
            <a:srgbClr val="e84215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opg18b"/>
          <p:cNvPicPr/>
          <p:nvPr/>
        </p:nvPicPr>
        <p:blipFill>
          <a:blip r:embed="rId2"/>
          <a:stretch/>
        </p:blipFill>
        <p:spPr>
          <a:xfrm>
            <a:off x="676440" y="1809720"/>
            <a:ext cx="3781440" cy="4067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3652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2100" spc="-1" strike="noStrike">
                <a:solidFill>
                  <a:srgbClr val="da2c36"/>
                </a:solidFill>
                <a:latin typeface="Arial"/>
              </a:rPr>
              <a:t>Kijklijnen</a:t>
            </a:r>
            <a:endParaRPr b="0" lang="en-US" sz="21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2627280" y="1825200"/>
            <a:ext cx="108108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 flipH="1" flipV="1">
            <a:off x="684000" y="1825200"/>
            <a:ext cx="1942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 flipV="1">
            <a:off x="684360" y="1824480"/>
            <a:ext cx="3024000" cy="2737080"/>
          </a:xfrm>
          <a:prstGeom prst="triangle">
            <a:avLst>
              <a:gd name="adj" fmla="val 63884"/>
            </a:avLst>
          </a:prstGeom>
          <a:solidFill>
            <a:srgbClr val="e84215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2556000" y="947880"/>
            <a:ext cx="2879640" cy="647640"/>
          </a:xfrm>
          <a:prstGeom prst="wedgeRectCallout">
            <a:avLst>
              <a:gd name="adj1" fmla="val -53472"/>
              <a:gd name="adj2" fmla="val 87254"/>
            </a:avLst>
          </a:prstGeom>
          <a:solidFill>
            <a:srgbClr val="ffffff"/>
          </a:solidFill>
          <a:ln w="19080">
            <a:solidFill>
              <a:srgbClr val="da2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a2c36"/>
                </a:solidFill>
                <a:latin typeface="Arial"/>
                <a:ea typeface="ＭＳ Ｐゴシック"/>
              </a:rPr>
              <a:t>Kijklij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bruik je om de grenzen aan te geven van het gebied dat je z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 flipV="1">
            <a:off x="6688080" y="2658600"/>
            <a:ext cx="1836720" cy="132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 flipH="1" flipV="1">
            <a:off x="4730400" y="3049560"/>
            <a:ext cx="195732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456080" y="2503440"/>
            <a:ext cx="304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761000" y="1849320"/>
            <a:ext cx="3759120" cy="798480"/>
          </a:xfrm>
          <a:prstGeom prst="rect">
            <a:avLst/>
          </a:prstGeom>
          <a:solidFill>
            <a:srgbClr val="e84215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geo bewerkt copy"/>
          <p:cNvPicPr/>
          <p:nvPr/>
        </p:nvPicPr>
        <p:blipFill>
          <a:blip r:embed="rId1"/>
          <a:stretch/>
        </p:blipFill>
        <p:spPr>
          <a:xfrm>
            <a:off x="-1045440" y="-690480"/>
            <a:ext cx="9757080" cy="49687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704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2000" spc="-1" strike="noStrike">
                <a:solidFill>
                  <a:srgbClr val="da2c36"/>
                </a:solidFill>
                <a:latin typeface="Arial"/>
              </a:rPr>
              <a:t>voorbeeld hoek tekenen</a:t>
            </a:r>
            <a:endParaRPr b="0" lang="en-US" sz="2000" spc="-1" strike="noStrike">
              <a:solidFill>
                <a:srgbClr val="da2c36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3851280" y="417816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geo bewerkt copy"/>
          <p:cNvPicPr/>
          <p:nvPr/>
        </p:nvPicPr>
        <p:blipFill>
          <a:blip r:embed="rId2"/>
          <a:stretch/>
        </p:blipFill>
        <p:spPr>
          <a:xfrm>
            <a:off x="-1044720" y="4076640"/>
            <a:ext cx="9757080" cy="4969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708360" y="37130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6070680" y="1527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3851280" y="1628280"/>
            <a:ext cx="252108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492360" y="414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679920" y="3917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085760" y="1557360"/>
            <a:ext cx="3186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ken een hoek </a:t>
            </a:r>
            <a:r>
              <a:rPr b="0" i="1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n 45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2"/>
          <p:cNvSpPr/>
          <p:nvPr/>
        </p:nvSpPr>
        <p:spPr>
          <a:xfrm>
            <a:off x="4211640" y="3789360"/>
            <a:ext cx="420840" cy="363600"/>
          </a:xfrm>
          <a:custGeom>
            <a:avLst/>
            <a:gdLst>
              <a:gd name="textAreaLeft" fmla="*/ 0 w 420840"/>
              <a:gd name="textAreaRight" fmla="*/ 421200 w 4208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65" h="229">
                <a:moveTo>
                  <a:pt x="265" y="229"/>
                </a:moveTo>
                <a:cubicBezTo>
                  <a:pt x="246" y="165"/>
                  <a:pt x="227" y="102"/>
                  <a:pt x="183" y="64"/>
                </a:cubicBezTo>
                <a:cubicBezTo>
                  <a:pt x="139" y="26"/>
                  <a:pt x="30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427640" y="36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7341E-007 L 0.32274 0.00046 E">
                                      <p:cBhvr>
                                        <p:cTn id="567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geo bewerkt copy"/>
          <p:cNvPicPr/>
          <p:nvPr/>
        </p:nvPicPr>
        <p:blipFill>
          <a:blip r:embed="rId1"/>
          <a:stretch/>
        </p:blipFill>
        <p:spPr>
          <a:xfrm>
            <a:off x="1835280" y="-689760"/>
            <a:ext cx="9756720" cy="4969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geo bewerkt copy"/>
          <p:cNvPicPr/>
          <p:nvPr/>
        </p:nvPicPr>
        <p:blipFill>
          <a:blip r:embed="rId2"/>
          <a:stretch/>
        </p:blipFill>
        <p:spPr>
          <a:xfrm>
            <a:off x="-1752480" y="-677160"/>
            <a:ext cx="9756720" cy="4969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geo bewerkt copy"/>
          <p:cNvPicPr/>
          <p:nvPr/>
        </p:nvPicPr>
        <p:blipFill>
          <a:blip r:embed="rId3"/>
          <a:stretch/>
        </p:blipFill>
        <p:spPr>
          <a:xfrm>
            <a:off x="-1765440" y="4076640"/>
            <a:ext cx="9757080" cy="4969080"/>
          </a:xfrm>
          <a:prstGeom prst="rect">
            <a:avLst/>
          </a:prstGeom>
          <a:ln w="0">
            <a:noFill/>
          </a:ln>
        </p:spPr>
      </p:pic>
      <p:sp>
        <p:nvSpPr>
          <p:cNvPr id="283" name="Line 5"/>
          <p:cNvSpPr/>
          <p:nvPr/>
        </p:nvSpPr>
        <p:spPr>
          <a:xfrm>
            <a:off x="3132000" y="4151160"/>
            <a:ext cx="359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809800" y="4165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748560" y="420840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295880" y="39384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63960" y="1176480"/>
            <a:ext cx="406440" cy="420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H="1">
            <a:off x="3121200" y="638280"/>
            <a:ext cx="1320480" cy="35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3846600" y="3003480"/>
            <a:ext cx="420480" cy="420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033720" y="25970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H="1" flipV="1">
            <a:off x="3178080" y="2871720"/>
            <a:ext cx="3556080" cy="12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 flipH="1">
            <a:off x="3570120" y="565200"/>
            <a:ext cx="914400" cy="239544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 flipH="1" flipV="1">
            <a:off x="2987640" y="2771280"/>
            <a:ext cx="480960" cy="2034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192480" y="2905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7" descr="geo bewerkt copy"/>
          <p:cNvPicPr/>
          <p:nvPr/>
        </p:nvPicPr>
        <p:blipFill>
          <a:blip r:embed="rId4"/>
          <a:stretch/>
        </p:blipFill>
        <p:spPr>
          <a:xfrm rot="1191600">
            <a:off x="-2108160" y="2760840"/>
            <a:ext cx="9756720" cy="49687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8"/>
          <p:cNvSpPr/>
          <p:nvPr/>
        </p:nvSpPr>
        <p:spPr>
          <a:xfrm>
            <a:off x="3492360" y="32608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9"/>
          <p:cNvSpPr/>
          <p:nvPr/>
        </p:nvSpPr>
        <p:spPr>
          <a:xfrm flipH="1">
            <a:off x="2075040" y="3005280"/>
            <a:ext cx="1481040" cy="4033800"/>
          </a:xfrm>
          <a:prstGeom prst="line">
            <a:avLst/>
          </a:prstGeom>
          <a:ln w="38160">
            <a:solidFill>
              <a:srgbClr val="da2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0"/>
          <p:cNvSpPr/>
          <p:nvPr/>
        </p:nvSpPr>
        <p:spPr>
          <a:xfrm>
            <a:off x="4935600" y="4905360"/>
            <a:ext cx="2157480" cy="492120"/>
          </a:xfrm>
          <a:prstGeom prst="wedgeRectCallout">
            <a:avLst>
              <a:gd name="adj1" fmla="val -45143"/>
              <a:gd name="adj2" fmla="val -153226"/>
            </a:avLst>
          </a:prstGeom>
          <a:solidFill>
            <a:srgbClr val="ffffff"/>
          </a:solidFill>
          <a:ln w="9360">
            <a:solidFill>
              <a:srgbClr val="da2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een driehoek zijn de 3 hoeken samen altijd </a:t>
            </a:r>
            <a:r>
              <a:rPr b="0" lang="nl-NL" sz="1200" spc="-1" strike="noStrike">
                <a:solidFill>
                  <a:srgbClr val="da2c36"/>
                </a:solidFill>
                <a:latin typeface="Arial"/>
                <a:ea typeface="ＭＳ Ｐゴシック"/>
              </a:rPr>
              <a:t>180</a:t>
            </a:r>
            <a:r>
              <a:rPr b="0" lang="en-US" sz="1200" spc="-1" strike="noStrike">
                <a:solidFill>
                  <a:srgbClr val="da2c36"/>
                </a:solidFill>
                <a:latin typeface="Arial"/>
                <a:ea typeface="ＭＳ Ｐゴシック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3324240" y="37512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435640" y="3789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3"/>
          <p:cNvSpPr/>
          <p:nvPr/>
        </p:nvSpPr>
        <p:spPr>
          <a:xfrm flipH="1" flipV="1">
            <a:off x="3492360" y="321264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4"/>
          <p:cNvSpPr/>
          <p:nvPr/>
        </p:nvSpPr>
        <p:spPr>
          <a:xfrm flipH="1">
            <a:off x="3708000" y="3068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1042920" y="990720"/>
            <a:ext cx="74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da2c36"/>
                </a:solidFill>
                <a:latin typeface="Times New Roman"/>
                <a:ea typeface="ＭＳ Ｐゴシック"/>
              </a:rPr>
              <a:t>Driehoek tekenen: PQ = 6 cm, ∟P = 70°en ∟Q = 20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20:14:19Z</dcterms:created>
  <dc:creator>r.geraedts</dc:creator>
  <dc:description/>
  <dc:language>en-US</dc:language>
  <cp:lastModifiedBy>SPVOZN</cp:lastModifiedBy>
  <dcterms:modified xsi:type="dcterms:W3CDTF">2015-07-06T13:05:15Z</dcterms:modified>
  <cp:revision>7</cp:revision>
  <dc:subject/>
  <dc:title>1 vmbo-T/havo    deel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