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18E2-AEF7-4829-8490-6B0FB2B20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0122-D010-421D-A6B3-9F3192D97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CA0BEF-EEA3-4A3D-9DA0-38C0D43A9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01FFEC-0FEC-4673-9351-E3ECEDDE6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3D1CA0-CBA7-44AD-9618-6AA967B4F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5F2720-B14D-4583-BE1E-09CD6B645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A21D35-785A-4EC4-A15E-EAB4C3A3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EB1107-4EE9-46FA-A7D1-9627C9E7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86AE8E-76B6-407D-9C48-55E1337A3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602CA9-C0D3-4691-9E4D-765BF5784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380D36-983A-4608-8A53-2C5C47859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1E3F14-88D3-4A41-8081-60C877EBE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46C4-76B4-4015-B8F2-04FC610E6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D12381-D855-4A65-BCEB-F0D183371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FE14E1-3185-4D68-BE00-AE032F3C7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22525D-D6AE-4C85-8720-13F7AD126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C90E00-F652-433F-B07B-D3AEB07CE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44483B-6F20-4F6D-AE91-6D2A4235F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C525F8-198E-45F8-B281-F590C78E4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7F3CDF-757D-4E01-8503-21E281EF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911744-37D4-4383-8815-80DC0AF71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3121AE-9289-4F1F-8C8F-849F5B0C5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E14AE6-7F3C-43BE-B748-56276E865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F87D-90D7-4E72-9CD4-719E88123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D36947-0858-4F06-ACC8-D0915F017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CBB5DA-6C3F-48CF-A5A7-E937DD815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FC7BA0-390E-4EEA-820A-15EAF3F1E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AD9C39-3B12-4E13-8DB6-14EB015C7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FBAC4A-ED94-4D82-A333-B53498C13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6BE7AA-C822-4B62-BDF1-3CD877A0B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CB9026-9278-41DC-BD5F-EB62DBD02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3BF390-F170-4E61-80EC-004457E9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4008B0-CECD-4A51-8AE5-CD59669B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30ABBB-1F14-4360-9468-AC8E3446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C2FE2-CFF0-41A2-94D8-F64115EE2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8C301A-6C58-4C1D-B8EE-A1100C547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669C05-8023-4E4C-8A3E-F4B7D8A0B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7CE9E1-E4C7-4CBA-AFAD-8F6BA8135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DA805E-32C8-48F9-BD69-09DC76562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AD1523-A61B-4C04-8BC6-C2EBFFF03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332B9F-94CB-4A9A-86DE-68B6AC1D2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D74D9F-3705-4DD3-93EB-BA4C4E833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996665-99B8-4FA1-8C6B-5FF236EAB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9B53C9-592E-4FBF-9206-8BA263960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BDBAA4-7F53-4879-954D-3B2B648C1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3089D-E8ED-402F-8677-99F7C1626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BD95CE-4529-4839-8D0E-E16BB78B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CD150A-8F60-40B9-8C9C-604CC49A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C569C4-A347-4C4C-9A2E-9BFDB4658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AAE35D-233D-4BB1-AE90-4906B936A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7A8268-A516-43AA-9B42-1662CC1C5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56C3F-9803-4F9D-AE25-A2E6BE0AE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A2763-6958-4797-8050-81CBDE0B1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682BB-FE98-4C22-B783-E9BDDA0D3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83B11-63C4-4BC2-B1F5-52DF67E95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97570-B2E8-447F-BEF4-65021DB3D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7D4E-B946-4C07-85F5-89EE6EC3E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0ED0E-4AB6-4E0D-A27B-141C4D727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610F0-E9D4-4D37-AB04-BBFA3178C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817C5-F6D8-4B3D-8065-B3A4A5B80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FC7E1-5406-456D-B748-29473EB2B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CC738-1FAE-436E-86F6-9D4BECE45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C4D45-A6B9-4903-9733-2D8D0DF0E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15E9C-A09C-4DBB-B492-8BF33CF67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55FAC-E755-4F2D-8A48-12D4788AE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9EDA2-EC46-4BC9-B631-93C19D289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70458-A375-4FBC-9397-263FB0022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BE86-1C03-4871-9683-EE69A6433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87CC5-BB2D-43B4-A8D6-D052E42BC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D611E-8A6F-4134-9C44-48FBBF21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A75B3-0C3F-4BDD-943D-8E8108C00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99943-8961-48C9-9F06-155C931A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CBE43-6B2B-413B-802B-745DBD7AC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C3FD5-6251-4257-800B-A6D10C7DF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C9691-0D16-4051-A689-DC506C185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94985-2A79-4A26-975E-9E453BA3E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42408-A8D5-400D-BD90-5413FC8F7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E35A6-B0EC-4D42-B0B2-DF8A0431B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B3F2-0CC9-499B-97BD-0C3208AE5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2782D-C225-483F-8B37-6BB77C8AA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450E2-C9C5-466B-A9DD-901159AB7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434A2-81D6-4F8F-888B-E289D2F1C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12473-7C53-4973-8752-B9899F8D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D32B9-27B5-4B9D-A0BB-BAE69E430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1907F-1CBC-4BE2-A4CC-E9D8220F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51C28-3116-41F4-9D95-1D8DCDE3A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F8FFF-1596-4D2C-A7BF-DE23ADA51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8E04D-5323-4ACD-8BF8-8305B4209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E4C3AA-2189-48E4-BCF7-D39E6D423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435C-C82D-41BA-BAFE-B5C5B1752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663BA-4E74-4D2C-847F-310875AB2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1BA18-D2B6-4647-AFA4-CA91FF888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AD23C-1411-43F8-9B08-B7C7FB248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08AB2-1060-45E7-B490-56AA44D28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351BD-8F99-4652-8CA6-8795A76A3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7B4DE-AE10-4760-9CFB-350CE4EA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29390-1149-4F15-8969-48EF13C8D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08354D-5C70-465D-ADCC-7F6A46B72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038FFF-3C88-40DA-874C-CDFE6F574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8F0E30-2F0A-4110-8EC5-2CD8E5E5E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6524-E2FE-4127-AD49-DBE0ADDE7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AE156-AC19-4253-A1DE-3F97F74AE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C40303-B9D0-4496-8DBA-72C2531B3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B35EAD-CD58-4DCC-96AB-2B5B99CBA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A61AF7-8CBE-454E-ADDB-CC7471DF1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BFE25C-2A9E-440D-B08D-D7A2292FD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A92E90-BF0E-44A6-9A6F-E29701F44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A8D5B0-32E9-46A1-8889-408AAE234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058E5F-E5C9-4E81-901A-07D3CCA2F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F45A35-5A33-4C21-9181-C1B14DEC8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4612D4-DCC3-4D11-924A-2A2AE0723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26D2-A750-45D1-BAF8-A7F2FDC77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751F61-5151-42EB-AA1C-3557775B9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D72831-922F-4A95-B20B-130B045B3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D550D3-2238-4EBA-9639-4DBCD83EE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5C9EA3-B7CF-44B3-9F0A-E6E3C7B2A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FE63C5-D876-4E03-9EB4-D349C8CE1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4DBA35-C590-4337-B45D-A2DFCD9E4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B317CE-A0BF-48FB-8E7E-3CD102101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38C8D5-D2FE-4016-8D46-1D7F1E3AC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B95CB7-B8D4-4CB0-8EFC-8660C99A4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7A8488-8345-4B75-A35C-4E87C5726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3CB2-3BB8-4D40-AEE6-EBE92B01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38F207-159F-4839-A12F-8DCD22DA1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F7F633-69CE-46E4-AAB5-0092FC70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4E8A42-3CE3-432F-9024-3BB326620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566661-D181-4478-9010-FC873A73F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BF9AD9-B855-4A0B-82C4-7B8130E12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B86F75-F4F3-484E-9433-9BEF337D6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155BAD-00F2-4C7C-BA56-A7193322E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2A5FF8-3131-4F75-81A6-0CAD93435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F314EF-6670-42BC-B795-18488077D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0125FE-2F6C-4CED-AD96-75A06F45C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262B-46E5-4378-A5F1-B3E0F7E1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CBFD60-35C6-478F-8CF7-C2763317D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001D9B-9283-4FEB-BCE2-C2A64836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B5D501-1D08-46EF-8706-F0B6FEBD9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F819C7-E2D9-46CA-8303-572DC27DE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109CC2-11B3-440E-98A6-7700E2484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BBFECF-6D24-4884-80E5-FC2487BBD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DA16EB-E196-4A6E-8FB8-97DA74B9C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42CD62-F1B2-40DB-8017-F3FDC0332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706267-5ED0-4ED6-8E1B-2F27CBBBE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E5800C-43F9-452F-9CD0-1C845D5AF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09314-4F1A-42A0-AB2F-26E0462240FE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hte verbindingslijn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hthoe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hthoek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hthoek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hthoe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hthoek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hthoek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hthoek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hthoek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34FC0-7324-48D8-B190-769D3CF858F7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4F2CD-2811-467D-B720-C8380C0EFD32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hthoe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hthoek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hthoek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hthoek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hthoek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hthoek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hte verbindingslijn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al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al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012F6-4044-4479-9A1C-05BD1EDE030B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hthoe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hthoek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hthoek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hthoek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hthoek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hte verbindingslijn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hthoek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al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al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16D71-4AD7-4AF4-97AA-D8D23046E83F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F8B25-9AA5-4390-91C4-676C50E153CC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hthoek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hthoe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hthoek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hthoek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hthoek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hthoek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hthoek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hthoek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hte verbindingslijn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al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al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8AF73-CD55-4F11-B049-0643EDE16E43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hte verbindingslijn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88856-8012-4F96-87E0-B37843332B00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hte verbindingslijn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hthoek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hthoek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hthoek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hthoek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hthoek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hthoek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hte verbindingslijn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hthoek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al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al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F8C9C-BF7A-43D7-80D0-B52B768F5FF4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612CE-04A7-40FE-BC07-A15A3E4C6A2E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hthoe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hthoek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hthoek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hthoek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hthoek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hthoek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EC033-C69B-40F2-8ED8-6BEFCB03DECE}" type="slidenum">
              <a:rPr b="0" lang="nl-NL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hthoek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hthoe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hthoek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hthoek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hthoe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hthoek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hthoek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hte verbindingslijn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hthoek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778F9-D986-495D-907F-6E23196EB312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500" spc="-1" strike="noStrike">
                <a:solidFill>
                  <a:srgbClr val="646b86"/>
                </a:solidFill>
                <a:latin typeface="Georgia"/>
              </a:rPr>
              <a:t>20 MEI 2015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500" spc="-1" strike="noStrike">
                <a:solidFill>
                  <a:srgbClr val="646b86"/>
                </a:solidFill>
                <a:latin typeface="Georgia"/>
              </a:rPr>
              <a:t>ONTWERP: CHANAN DRENT 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d16349"/>
                </a:solidFill>
                <a:latin typeface="Georgia"/>
              </a:rPr>
              <a:t>Les 4 Groepsprocessen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4. Perform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Een complexe situatie kan uitgevoerd worden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Zonder (weinig) aansturing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Iedereen is op elkaar ingespeeld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Adjourn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Weer afscheid nemen van een groep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Deze fase is er later aan toegevoegd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9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Opdrach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Ga nu kijken naar jullie eigen groepsontwikkeling op school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Ga na in welke fase jullie als groep zitten en probeer dit te verantwoorden. ( 20min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eschrijf de stappen die jullie hebben gemaakt en hoe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15 min…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Klaar?? Doe even wat voor zachtjes voor jezelf, zonder je mobieltje ;)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Huiswerk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Jullie gaan kijken naar je groepsontwikkeling op stage, sport, vriendinnengroep, werk, vrijwilligersgroep ect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Ook hierbij kijken in welke fase de groep zit en dit onderbouwen a.d.h.v. de fasen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olgende week wordt deze opdracht besprok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Doelen evaluere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Ik kan groepsprocessen herkennen en benoemen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Ik kan aan het einde van de les de vier fasen van groepsvorming (Tuckman) benoemen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Ik kan de vier fasen in de praktijk toelichten door het te koppelen aan een eigen situati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Afsluit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olgende week weer  ‘gewoon’ les van Esther van Geel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Workshop volgende week?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edankt voor jullie aandacht en succes met het huiswerk!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Wat gaan we doen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A&amp;A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esdoelen van vandaa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Workshop + evaluati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Theorie Tuckma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Opdrach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esdoelen evalueren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Lesdoele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Ik kan groepsprocessen herkennen en benoemen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Ik kan aan het einde van de les de vier fasen van groepsvorming (Tuckman) benoemen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Ik kan de vier fasen in de praktijk toelichten door het te koppelen aan een eigen situati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Workshop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Gegeven door Pinar, Moniek en Semantha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Over de streep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Tuckmans stadia voor groepsvorm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Fasen van groepsontwikkel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Grondpatroon die in iedere groep terug te vinden i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ruce Tuckman (Amerikaans sociaal psycholoog)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Doel = tot een goede samenwerking te komen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7" name="Tijdelijke aanduiding voor inhoud 1" descr=""/>
          <p:cNvPicPr/>
          <p:nvPr/>
        </p:nvPicPr>
        <p:blipFill>
          <a:blip r:embed="rId1"/>
          <a:stretch/>
        </p:blipFill>
        <p:spPr>
          <a:xfrm>
            <a:off x="1689120" y="-531720"/>
            <a:ext cx="5759280" cy="72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1. Forming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Eerste fas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Kennismak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Conflicten vermijd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Routine volg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Je plek in de groep vind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ertrouwen opbouw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Niemand komt vaak met goede initiatiev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2. Storming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Conflictfas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Gedrag en werkwijze bekritiseren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Sommige mensen deinzen terug voor conflict , waardoor deze fase nooit wordt behaald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3. Norming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Geschreven en ongeschreven regels zijn geschreven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Iedereen heeft een taak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2T13:19:06Z</dcterms:created>
  <dc:creator>Leer-gilde</dc:creator>
  <dc:description/>
  <dc:language>en-US</dc:language>
  <cp:lastModifiedBy>Leer-gilde</cp:lastModifiedBy>
  <dcterms:modified xsi:type="dcterms:W3CDTF">2015-05-20T11:21:17Z</dcterms:modified>
  <cp:revision>27</cp:revision>
  <dc:subject/>
  <dc:title>Les 4 Groepsprocessen</dc:title>
</cp:coreProperties>
</file>