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102-4E3D-4D05-8686-F9352C70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0AB-11DB-42BD-9AB3-0D56DF34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8D481-E51D-4D82-A704-598C9649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5B6CC-A2FB-4DD1-A1F5-0DE9A7CB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17CFF-1016-4343-B58D-1D31A0B8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7701A-17B9-4EE5-A849-809B06B4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EFE18-A7C1-4C59-84D2-344000E6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3515E-D4BF-476C-8CFE-071A9926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EED10-EBF4-4B9B-A3FF-ECA3C579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BA2DE-4A16-4551-84AD-240DEE97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92E43-C189-4E74-9E3B-912F2DF6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C3F83-BC20-4F79-8E7C-48795C5E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0C1-94FC-4813-9BD5-D165076E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D6B5B-A42A-4EC3-9F1E-FE5E03F1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0C88B-A8B9-4085-8DD1-2D214509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13B25-C018-4E61-96A8-40F7AF88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F00D2-E324-4C26-965F-C8AD014E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3B2EA-C3F4-4ADA-A08F-40F88CE0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CCD1D-1779-42D2-B2F5-1519699E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F5F61-B8F5-4717-8ED6-19ADC888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801E6-0340-46A7-ABB6-EE9D545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FC61F-ECC0-4204-9111-017B978A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8E535-9703-4607-B46A-6410B447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886-DC24-4C08-8010-26D1F8F0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1B769-8A73-4318-B631-0726C1B1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5C308-5262-4E09-8B70-3609C28E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3052C-DF5A-46A1-80DB-077643CC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2034C-5FB6-46EB-9C36-AF00E628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2F192-75BD-4A5B-A266-2A162869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CCA40-6579-488F-8385-FDA47946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510C3-5255-4038-AF12-8617017B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7E3EF-CD98-4B6D-9DA9-15ACE0C2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2861D-1AB6-44F3-A698-9A1A0535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078FE-7CD7-47DD-867B-4C945998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051B-2BA7-4705-B721-1297B597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3CF50-B77B-4269-A402-C8306F6C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B8143-E046-4898-BA10-E2E492A6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96C10-2ABC-4240-B8E3-5862C7F6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0D93A-FEBD-42D4-82B2-4B8496A9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CE1B8-090C-428B-8ECD-69B3B2E9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B565F-ACB3-4F65-99F3-F7541832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FD163-F296-4156-854D-ECBB21E3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76C79-1CE0-4B30-98AE-802DA51C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679CE-B66C-471B-90F6-8AA742D1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4208D-50AC-44C0-A59E-4068B59C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244D-91BF-4518-ADC5-AEA4E57B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088C5-87F8-450E-85E8-560746C4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7522D-BFD2-4518-ABE8-316B495E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8D7F6-C236-46C7-8157-8D556937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A6629-92D3-48EF-927D-63E88AE4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39485-1DF3-413A-BA73-2426CDAF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B01E-5793-4D92-8137-1F1ADE53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7173-3D11-4546-B8D0-33D8D9C4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5ED5-37C7-440F-97CB-1BDCCCFC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1C5A-3499-4385-8016-21D74958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F353-5717-4172-BE88-19CC4AC8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F1E-13F8-42F4-A03E-33ED2300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03F8-0FB7-4D39-B6CD-85DFACB2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CB93-0E32-441C-8DBF-5778AC32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62EC-4487-41DF-9360-ADDBDE4A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777C-7A81-4B26-B7E0-3CA5D99C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CE99-D9EC-4354-8D88-B9342A35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5A1E-E2BD-44C0-87B3-74AEB614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2B71-B1DE-4E48-9685-704523CA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B6FE-CF60-48DF-87C2-3FC44008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BA10-BB5F-43FF-8B8F-9E5BD5B5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7174C-FD8A-4098-8C6C-450EA460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D79-351C-4EDE-989F-7D163AEE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5F6C-C6A7-4FA6-8CA6-682E955B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A260-D432-47C2-8552-3E68B812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1FCF2-48B5-4B2D-A366-F9170D8C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9785C-307C-4797-A487-A1A8D865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1DCCC-91AC-4D37-870A-3A333AC7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7EB73-4725-4778-B935-A8887166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ED2DB-3A6B-4373-A49C-5B793A31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6C9CF-D9D2-4634-B07A-395F22E1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7C346-A13B-4421-8662-5E064E6E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58B78-8822-4617-AE71-F394D7E7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397-2301-45B8-AF54-72B95A1E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2DD8C-6DF4-4F2D-80A5-800ACED7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193B-B481-44DB-ADA0-DA501505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561E0-C4CD-46AD-B8D7-826A51C4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6743-64A9-40F3-9EE5-B623426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E36C1-F7C8-4F47-B65C-A88B5F16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9837F-E7B6-4B1A-A6F7-578EF4EB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4C2C4-E6C4-4972-87ED-13C8A2E8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A2D7-C5B5-4389-AD9A-A9F87C3B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58D34-32E1-4735-B9B9-3F62BE2E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60CB0-50F1-4211-84E5-28381004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A2E-4480-4110-80D4-DC0F0FAC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99C35-626B-421E-82D9-4D5055C2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12EB0-73BC-4F87-9999-5693C21E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76FD6-1AF6-4BBF-990D-D0A3AFCF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07B0B-CAA6-42CB-BFD7-9CB35D1F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6B245-AB27-4B1A-93A7-FD67789C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5B0B7-BB63-4E95-AA94-E8B8CE00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8D9B0-8FB0-4A5B-8DFE-3D0F7C95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F3A7C-36B9-4039-8586-459B92F3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ED38E-E7CC-4174-9971-C55E130F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0EA0F-D435-4446-BC54-2A00505E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182-117C-44DF-A192-C6648D8A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C5A3F-3CFB-4BAE-8E0C-D86A23D1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94574-D6A8-4FDB-8147-251EC202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B1DCD-91CF-4641-8C00-6D53A27A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282FD-E0F4-4FB1-9E03-49521213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2E4F2-91B7-451D-AB77-CFC71A47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D2424-BD01-407D-A4A5-A7D10E97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13E1C-D56B-4A68-8414-31681B6C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B1FAD-D4B7-4E69-853B-203D6791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D9511-6337-422E-BF7A-42148677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33C82-AD2C-40FA-96FD-E96C3BA0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551-4BA1-40FB-9ABF-6119C629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F1671-DC8D-41E1-B5F7-666F97D5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25688-F5A5-4F21-BC70-E0379680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70564-B93C-4FCC-A520-6BE39AB0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B5749-21C8-483F-A730-1D6DAA00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55065-95AD-4103-A3D3-45839944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D9E15-646B-435E-999C-06D9A287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C38DE-2BFB-4C51-8BD2-95F0FE73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F4EA9-7023-4200-9A4D-222D2D1E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DA406-A415-44FD-927E-A1EFDD65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9C50C-C097-4568-9838-6B7F5EF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ED9-450E-4E2F-9A6B-217B3BB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D0879-DE14-4040-A8AD-1CEA8F00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E8449-DFF8-4189-BA57-C9AAEFDD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115C5-2EA7-4331-8B7B-B856C3D8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DFF5C-6AE7-4C84-BAB7-057AB220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27456-A5BE-4985-BE91-CFED5794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FCF57-CF01-4F3B-B072-10E19CE9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DE6E5-A8AA-4E1E-A490-7D862925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92029-1861-4CDA-9298-4DE79716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CD922-6FEB-4121-95FB-3789295A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66272-DB8F-45E4-BC65-27047D4F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986-FC48-4B8A-94AC-904948F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9BC54-6EDE-445C-B0D6-B8133519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1C034-920C-42CE-99E5-8B26647E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64EA7-57D4-4B73-86DF-26234640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E10CD-484B-4FEC-A4AC-8D74F376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6F5B1-6566-4AA3-B680-E0F5D238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5DC7B-CC65-483D-94A7-A9034F9E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8ECE8-ACAF-4216-B36C-236F4518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FDE56-B08E-42D6-940A-2884C0EB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BE89F-DF03-4D5A-BA9B-E6F73836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2AD82-3C3F-40CB-A62F-69788398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32E6-346E-462A-856F-95E652FB0D3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4A34-9CC0-4B7A-AF6C-C642464C3B78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F760-BDFA-4577-9BD9-3EE8EE1AC2B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0BA4-FE4C-4737-8DE4-2C38F97A542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FB58-264E-4BEB-8226-2D99B862A9B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AEE6-8F10-4D57-B635-F92B444C5B2A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5EAE-9A53-4225-9107-2281DB9DBA84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92B6-22C7-4750-B45A-901C1DD9F851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737E-E0B2-44AA-8AC7-F2DA15A15A51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2255-827B-4F0A-B6B5-8CDAB8D8441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8D98-49AC-4B84-A944-0D06104DD8CC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8C06-0695-4F7A-A9EA-2BF9046E7DE6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20 MEI 2015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ONTWERP: CHANAN DRENT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Les 4 Groepsprocesse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4. Perf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complexe situatie kan uitgevoerd word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(weinig) aanstur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is op elkaar ingespee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djour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r afscheid nemen van een gro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ze fase is er later aan toegevoeg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pdrach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u kijken naar jullie eigen groepsontwikkeling op scho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a in welke fase jullie als groep zitten en probeer dit te verantwoorden. ( 20mi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chrijf de stappen die jullie hebben gemaakt en ho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15 min…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Klaar?? Doe even wat voor zachtjes voor jezelf, zonder je mobieltje ;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uiswe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ullie gaan kijken naar je groepsontwikkeling op stage, sport, vriendinnengroep, werk, vrijwilligersgroep ec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ok hierbij kijken in welke fase de groep zit en dit onderbouwen a.d.h.v. de fas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ordt deze opdracht bespro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oelen evaluer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fslui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eer  ‘gewoon’ les van Esther van Geel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volgende week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dankt voor jullie aandacht en succes met het huiswerk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gaan we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&amp;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van vanda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+ evalu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heorie Tuckm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pdrac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evaluer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Lesdo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orkshop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geven door Pinar, Moniek en Semanth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ver de stre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uckmans stadia voor groepsv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asen van groepsontwikk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ndpatroon die in iedere groep terug te vinden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uce Tuckman (Amerikaans sociaal psycholoog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el = tot een goede samenwerking te kom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689120" y="-531720"/>
            <a:ext cx="5759280" cy="72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1. F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rste 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ennism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en vermij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outine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e plek in de groep vin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trouwen opbouw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mand komt vaak met goede initiatie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2. St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drag en werkwijze bekritiser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ommige mensen deinzen terug voor conflict , waardoor deze fase nooit wordt behaa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3. N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schreven en ongeschreven regels zijn geschrev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heeft een taa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13:19:06Z</dcterms:created>
  <dc:creator>Leer-gilde</dc:creator>
  <dc:description/>
  <dc:language>en-US</dc:language>
  <cp:lastModifiedBy>Leer-gilde</cp:lastModifiedBy>
  <dcterms:modified xsi:type="dcterms:W3CDTF">2015-05-20T11:21:17Z</dcterms:modified>
  <cp:revision>27</cp:revision>
  <dc:subject/>
  <dc:title>Les 4 Groepsprocessen</dc:title>
</cp:coreProperties>
</file>