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EA68-3F9B-4ED9-AF85-97430FE2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4C7A-F69E-42BF-AD37-4DEEE5F7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5B65A1-99C9-4782-A481-7FEC6259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6A1B80-AA26-4F1D-B888-5B512CEE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6F62C1-D9A1-4CFE-906E-C9FA4359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C76542-842E-45E7-94EB-E607544E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78E82F-DEAB-49CC-B6AC-7F56D587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F043C6-B0D4-4673-9B8A-8930492C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1776DB-1CF7-47AE-B810-F433566D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1BEE75-1F2F-45E5-90B1-69A0BE2F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D5E5E7-49F9-4C53-A697-4F37B1096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CC3EEC-5CCC-4C5D-B4BF-1624E22C8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2DF9-7CB9-4EDD-B461-130D8343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A90788-4282-4DF7-98BF-0D2CC716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053F90-E4D7-4A64-A427-7D917A07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EAC71A-2D73-4449-9675-82D69337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99FE02-B243-4F51-80DE-17DE9C22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A754A8-C33D-41F4-A858-4B2F9DB2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A1E9DC-2219-4C41-80D2-45011FA3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AE8F0E-F421-4A85-8248-E3272390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B97663-BBE5-42B6-BA6F-DC19D042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889F8A-B8DE-4528-9990-422892A6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35D4B9-D85A-4188-B3F9-A138892D6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5706-0A07-4B30-A510-368FEC68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49C2C5-D219-4F1C-B0EB-E826F655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A87F7-319E-4199-9DC6-7C34E2245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00206-FD10-4FD2-A52F-3523D32A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D8EA4-1374-49D0-B4FA-7DB7E024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AE146-85AF-42BD-8116-2739F47D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51E80-CAFB-47E6-87DA-1AAEE3BD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73D4B-568B-4D6C-9528-E2AC7961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26026-D7FF-4054-B248-E542C713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4CBDB-C401-4313-9B45-1E227F5D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562E9-F24A-4A93-9636-B34B5FCC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DC0D-2901-4420-9C31-DC840C36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300C5-C071-4333-B28C-8D25DA12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C41CA-6A77-4A62-8D84-1A9D5EA3C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F8147-EE54-471B-98F8-8E55CDFA3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208060-B683-42D4-BB45-2A9B073B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805420-6A97-4A72-9B9F-5ECC9DF1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AA7DB1-9EDD-41AC-939A-D91AAE5F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4A75D5-F4B4-4F2B-9DF6-F81FBD39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C808DF-AA41-49F5-976C-66275F1E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CB0C80-3CE8-49FC-89EF-FD968B93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985AA7-6789-4A69-ADC4-77AF85DF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35A8-D2FD-4B4C-8786-8F0174BB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8D49A4-AA01-4A79-B08A-5F9DF80D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EC1204-0EB1-49BE-B294-AB1E0245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163044-77B7-4000-A48B-51B7EEC7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3CE987-9177-458E-821E-4BBC07A0C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A61AB6-72D6-4969-A014-BDD663FF5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E285-E8D7-4E3F-AABE-F4B527DA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8D5B-70D3-4EED-97C4-942888FE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A020-EC01-45FB-89C0-7AF19187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FDCE-356C-452E-BA90-C76AF09F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887B-C238-4765-B231-7D49B77B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62E8-48B2-40D7-8C9C-DCA0F065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C842-D4EE-4E3A-8EDF-0BAA4ADC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B29D-AF0F-4006-824D-BF0AFABC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5B4B-D47D-427D-AE63-2733240E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DBA2-BA2B-4043-852C-E3159642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C3E4-0FB2-4071-9523-2DA2B9C2F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41196-4B9E-46C7-8AB7-6CCB1CF2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3DB7D-8E8B-4B4D-8135-28D9DA1E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D8E3E-40AF-4251-8937-BF994BF1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FE05E-4BC3-4ACF-A953-D06C8B76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25EBE-BD28-42A6-B82E-49140046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DA07-7241-4FBE-A30F-B1546BED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97AC8-8797-4896-BFA9-98F2B4BC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CC402-0F65-4EA9-9FF7-0A7D18A2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D4C6D-CABF-44B6-BBE1-7F6EAAD8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9A899-0D39-4E36-B68C-2C38DD06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C9ECC-9BFB-44FF-A049-5F92A632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46848-3372-4039-9D79-49A01B6CC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5C12D-4918-42DC-825D-F34E9AF39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0C587-5EE9-4F94-83FB-51D6AEA6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5AE0C-4F89-4ADF-9E9C-1781F051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EE4C1-E722-44D1-90B8-5E99F564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F1F4-4793-4DCF-BAD3-C2F9EFC6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67D60-E013-4CE4-AD93-F87729B4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534E7-2DDA-4AEA-A0FF-FA53F7DC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3987A-085D-4FC0-B8A0-01E389A1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E441A-0B58-4EAD-A46A-72D701A0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E45FB-9A15-49DB-807B-D631BA96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8437F-DF26-4399-8B79-06D0F596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D7583-D6B6-4CCA-B603-A9EB211C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55715-FBA1-4FBE-8996-E4F3D2048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731E6-88F2-466B-8643-F65DA6484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1C00B-E018-4199-AD60-3A573C586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BF53-9E31-4B74-8614-EA76065A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4358D-B227-4D38-88BB-696B3F80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14A82-FA4A-4334-8D85-3014183D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78ACA-10F1-4AAE-8C80-4104E798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CED82-8764-49CA-9817-38EBF475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3708A-16C0-4247-B524-55F1A991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0B293-289C-446A-8A83-9760941D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35C33-4257-4F8E-BDDA-D2D7D48B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2EB97-DC92-422F-AC4E-54C5B299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19D39-B945-4D0C-80CB-13322EFF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833E8-1112-41AA-9567-2C7DBD04D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EE6B-378F-4000-BE49-42651937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17044-9E49-439C-81A1-E40434599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D895A-A27F-42F5-985E-9C3DCF5E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D5189-2500-4DA4-B850-DC644449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ACF96-6235-42B0-9C32-E7A13832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FCE2B-D8F7-45CC-B22B-F400503C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F9D4B-ED7A-4888-B91F-8981CEEE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BF253-8899-48D0-870D-C30415A5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296F3-E328-41E8-BFED-34D5F954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D1557-9FFC-4411-8B28-1B78F891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33200-8009-4024-AAEC-484E9723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18FF-D210-439F-BBD6-9D16BFD5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8189A-07BF-4767-9B7A-B306B347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9C5EC-F5B4-4BC7-95C1-2EA17086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778D3-318C-453D-9BEC-1CD9D0D82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422DE-A80C-4288-9CF1-7099AA52E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6E076-B1CC-41C0-907F-1B0F55F9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2DE11-6668-4123-B12B-FCB7F43A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9EE09-A298-42D6-8740-C9809B18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7D622-F2A3-4E31-92FD-BEFC9AEE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AA56C-87C4-46E1-813A-F87DF768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7DA0C-AE1D-43D9-BCB2-2A38E80E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5BDC-64BB-4CA8-B7B8-94520884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8E6E4-5E7C-4AD2-8EDD-8601BA34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77D64-2203-4C75-9BC3-C65AAE68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9995E-9ECE-43E7-BDC7-013513E4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66FA9-1021-4AEC-8380-47C80DE24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E6190-3C4E-4725-8768-FE95459D9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4F18E-3B07-40B1-A270-16D2BBAC6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F64FE-48F7-4DC0-AD04-7B938435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32D7E-67B6-4981-B464-F910A3F2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79156-EFB0-4143-89D4-707F7FE2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7D8A1-CFCA-4D55-BA45-ADEF835A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48F7-13C5-447E-8D01-BF33558F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B3120-5A1D-4290-9DCB-59EDAFCC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2AA64-5920-42BB-BCCA-C44FD83E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A5253-7CF3-4825-BBAB-03403DC2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232A4-C38D-4EC6-9FF4-9140ECCC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EE6E3-6037-4230-9038-B360D727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389B6-0D47-43F7-A363-0CBF67D2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0FA6C-12F8-43A5-A1B5-0A12AA8F7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64A5FC-6533-4275-9BA6-B019ABE94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F133EF-536E-43BF-A01B-B328D26E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89457E-75EF-4258-9745-21AAE3AE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8DC1-1BB3-408A-A48D-C548B7CBFC12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hte verbindingslijn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hthoe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hthoe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hthoek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hthoek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hthoek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B930-79C7-4DBE-9193-37C64809099D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BC85-47E6-4E42-B771-863941A4D18F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hoe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hoek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hthoek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hte verbindingslijn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A75D-AD9A-419D-91E2-28DDAEBADF5B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hoe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hoek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DCAB-A443-4F79-AA44-171CD86EEED5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6012-B904-4302-8C5B-CEC74CADEE0F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hoek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hoek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hoek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hoek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hthoek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hoek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hte verbindingslijn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6E45-B65B-4E45-A489-69A29931E907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 verbindingslijn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713A-0E04-49CE-A35F-566D5F53FB79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 verbindingslijn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hoe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hoek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hoek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hoek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hoek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 verbindingslijn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F444-1635-47C0-AA6C-B949F5482BB6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CFA9-102E-4F04-A67C-72D721CCB6DD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hthoe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hthoek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9CDA-B210-4862-AF89-2CCBB073D7AD}" type="slidenum">
              <a:rPr b="0" lang="nl-NL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hoek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hoe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hoek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hoek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 verbindingslijn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39B3-F2F8-4271-80CF-40B094E74C74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500" spc="-1" strike="noStrike">
                <a:solidFill>
                  <a:srgbClr val="646b86"/>
                </a:solidFill>
                <a:latin typeface="Georgia"/>
              </a:rPr>
              <a:t>20 MEI 2015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500" spc="-1" strike="noStrike">
                <a:solidFill>
                  <a:srgbClr val="646b86"/>
                </a:solidFill>
                <a:latin typeface="Georgia"/>
              </a:rPr>
              <a:t>ONTWERP: CHANAN DRENT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d16349"/>
                </a:solidFill>
                <a:latin typeface="Georgia"/>
              </a:rPr>
              <a:t>Les 4 Groepsprocessen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4. Perform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en complexe situatie kan uitgevoerd word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onder (weinig) aansturing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edereen is op elkaar ingespeel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Adjourn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eer afscheid nemen van een groep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eze fase is er later aan toegevoeg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9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Opdrach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a nu kijken naar jullie eigen groepsontwikkeling op school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a na in welke fase jullie als groep zitten en probeer dit te verantwoorden. ( 20mi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chrijf de stappen die jullie hebben gemaakt en hoe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15 min…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Klaar?? Doe even wat voor zachtjes voor jezelf, zonder je mobieltje ;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Huiswerk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Jullie gaan kijken naar je groepsontwikkeling op stage, sport, vriendinnengroep, werk, vrijwilligersgroep ec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ok hierbij kijken in welke fase de groep zit en dit onderbouwen a.d.h.v. de fase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lgende week wordt deze opdracht bespro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Doelen evaluer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groepsprocessen herkennen en benoem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aan het einde van de les de vier fasen van groepsvorming (Tuckman) benoem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de vier fasen in de praktijk toelichten door het te koppelen aan een eigen situati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Afslui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lgende week weer  ‘gewoon’ les van Esther van Geel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orkshop volgende week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dankt voor jullie aandacht en succes met het huiswerk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at gaan we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&amp;A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esdoelen van vandaa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orkshop + evaluat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Theorie Tuckma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pdrach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esdoelen evaluere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Lesdoel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groepsprocessen herkennen en benoem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aan het einde van de les de vier fasen van groepsvorming (Tuckman) benoem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de vier fasen in de praktijk toelichten door het te koppelen aan een eigen situati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orkshop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egeven door Pinar, Moniek en Semantha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ver de streep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Tuckmans stadia voor groepsvorm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Fasen van groepsontwikkel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rondpatroon die in iedere groep terug te vinden i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ruce Tuckman (Amerikaans sociaal psycholoog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oel = tot een goede samenwerking te kome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7" name="Tijdelijke aanduiding voor inhoud 1" descr=""/>
          <p:cNvPicPr/>
          <p:nvPr/>
        </p:nvPicPr>
        <p:blipFill>
          <a:blip r:embed="rId1"/>
          <a:stretch/>
        </p:blipFill>
        <p:spPr>
          <a:xfrm>
            <a:off x="1689120" y="-531720"/>
            <a:ext cx="5759280" cy="72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1. Forming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erste fa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ennisma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Conflicten vermijd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outine volg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Je plek in de groep vind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trouwen opbouw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iemand komt vaak met goede initiatiev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2. Storming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Conflictfa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edrag en werkwijze bekritiser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ommige mensen deinzen terug voor conflict , waardoor deze fase nooit wordt behaal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3. Norming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eschreven en ongeschreven regels zijn geschreve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edereen heeft een taak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2T13:19:06Z</dcterms:created>
  <dc:creator>Leer-gilde</dc:creator>
  <dc:description/>
  <dc:language>en-US</dc:language>
  <cp:lastModifiedBy>Leer-gilde</cp:lastModifiedBy>
  <dcterms:modified xsi:type="dcterms:W3CDTF">2015-05-20T11:21:17Z</dcterms:modified>
  <cp:revision>27</cp:revision>
  <dc:subject/>
  <dc:title>Les 4 Groepsprocessen</dc:title>
</cp:coreProperties>
</file>