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4EE4-D46A-4CB0-9C80-C22D8C2A5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E105-B7AB-460A-9721-D3AD82962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2F9798-62FD-46C9-97CB-1E0D11899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45129C-3A43-4281-9A0A-0158A873A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F760DD-E48A-4B81-9A1F-92F49AEB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000B76-5855-4D8C-8491-16C84940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6E009D-9682-45B2-BC1B-B6A42794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29D94D-C802-4D48-9346-734963F6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0F6069-9B64-499B-9D86-905EA3CE3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6CF347-9F9A-4430-A393-6A91994BA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79C3124-2BB3-4837-AE21-1A8D0E0B6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494735-C067-46C5-B2AA-75E86923D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5A2C-6B38-47EF-B436-74EA546CD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0ED0FB-C02A-4CCB-8792-01E35509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18FFB9B-A66B-4F5E-9D4A-2565EBE72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D4B4428-326B-402F-A59C-CE41D5E2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9AB85F-FA2A-4262-A53E-DCAE08914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5431B6E-A471-4FD1-8C73-DB0E4C20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C36A09C-83F9-487B-9C5A-2465C8C2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0EB0C0-2406-4C15-9E53-685CF074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EACC61-AFDC-4ADA-B9C4-9C1620471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066DEE-FCD8-42CC-86DD-BD452AC0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CDF94D0-0C25-4BF4-85F4-E9F2BA9B5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E1AD-7AD5-4AC2-A289-41B128FB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022BC5-3D7E-4DD5-863C-C5174E56B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F4CDF-69E8-4885-8BB6-FCD0B0B0C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69A672-7572-4F23-88F8-08EE466DB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97B83A-ADE3-43AC-AF01-B959C149D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060A0-B0B1-456D-A0EA-FCA159429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6C0039-7765-4D0B-8349-CF78B8FF7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A0466-D79C-400A-A904-073249B8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73C7F8-864B-4D92-B03B-5A871588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7E7D3-BD3A-4AF2-BDF4-102377B5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010EC-5D67-4684-885A-E20534C6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7528-286D-422B-BD5B-823D48FF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6DA1B4-47E5-4AF7-B731-0D63D1955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EC303D-C0BC-42BD-BD23-539644CD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F12105-1FD9-47AD-B4FA-E8388146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D574F0-2C44-4D5E-A102-B2412F7C2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686DF0-7BD4-4909-8497-F59BB974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CD0245-EEAE-4686-A7DD-CBBA62D3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97C4FA4-7A37-4F40-B30B-706B04728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0E34D80-69B8-49D1-BE89-C5DBCEF8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F390EB9-662A-4379-8783-A2BEBA02A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25BB426-EDFF-49B8-BF7A-640E59E6B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B3E09-07C9-4D7D-A90D-A51BA811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8D2098-E718-4C21-BC2B-96B9D5E2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CC02EEB-56CD-4336-8A5E-9DA4C5B7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7AB2F7-2164-4E03-9DFB-1A7047BC5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27EC1B-CC63-43DF-B94F-8E2A76B5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EB414A-C4E0-4EBC-8826-30B23E964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780EF-0BEC-4659-AB1C-BE40E997E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E40D5-7CA6-4986-9FA9-9363AC75B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7AC7-1F32-4D56-ACEC-07D200D7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73549-8328-4FB7-A293-80AA87A43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158B-663B-4425-BA83-DA333A74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0C55-39DB-45E0-B8D5-36AAB6290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9D41-C614-4ACA-A987-D5267522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F842-6D35-4B43-B333-97B1F162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D3881-8E34-40DC-87A4-867BD902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FB1B2-276D-4C3E-AFA3-C85EA0F85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EEF8-3436-4E77-9751-C7CC7E486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0DAA6-9531-45D2-9448-A0FCC7787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C51D2-893C-4BF9-B807-4229E6FE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BFD91-0569-4D01-9640-3A298225B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7B1BE9-5519-411A-BBF2-0B3D2C7F2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5F460-25E0-4998-839A-8219AC2F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5EE5-59D1-44CD-B3FC-580ECF5C2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98030-1F7D-43B6-90B0-EAEE9397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212ACD-76EB-4DAE-B0AC-D218D114C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89A975-7414-4128-BFEF-81BD85CF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A3CAF-BD04-4032-B310-B173A8A7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FEBDD-7827-4C3D-9F08-1EAF6D663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A1666-ED3A-4B59-B478-E5443EE4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E02EE-2CAE-4C8D-A3A0-71D13C2FF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E2255-BA7C-4267-BA35-730585B16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112B7F-9E1C-47F9-8B89-CAAB9D0F1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72F0D8-226B-45AA-9BEF-1638E809D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030A-DB66-4E15-9C51-D4C631EA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C857A7-754C-4505-A912-8D0D9574C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3D7899-1194-4972-8FFB-1F955726B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71235-44B4-4BBA-97D9-7D9A24006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C585B-8F40-406A-9D7D-45B84CEBB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C9213-E554-4A5F-9EFC-EF6391D6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8CBFB-8DFE-4AD1-8E7D-15EE8E4E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95658-4332-469B-84E3-0B375C09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A2C53A-E094-4EF9-991E-96EAA422A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156D1C-A8B8-4017-B7DD-61F6235C5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84B9D-AE4C-4060-915C-11F9633D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DB41-4306-4F83-93AF-10CF07DCD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C98B3-C14F-400D-B103-375B7D9BF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D007D-035D-419A-9274-77B568CC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DF010-3A91-49F6-93DC-CCF4E27A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9D202-EABC-4F78-84C7-2CF73035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E444C9-147B-4884-8C30-D3E0C2BE6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4A435-9642-45A0-BEC8-BDFEDB3E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9B46DE-3399-459A-AFE4-4174ACD4C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1C289-4BBC-4A37-88FC-4D36149B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098C4F-85A3-426B-950A-1A27558B6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F90BE-354A-4F44-9867-04963893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1FB9-585A-4B9E-9C46-BEF182191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0B3C6-F6AF-4EBC-BDC5-5A3B754FF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D6B25-BE7E-42D1-A9A9-2795516E4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556363-C527-4780-ADB3-74438E3C2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681E9-E61D-49F7-BEA3-F9EE60DFB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0D75A-F1FE-4456-B505-AB1565847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89D6F-DF8E-4800-9956-0C2005268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916B80-0D10-4447-9DAC-C88761A6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7CF29C-5D39-4D36-8EEC-FE9E865CC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36831A-BF91-4B37-B63A-7693B04A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01E59-6386-469B-8143-018A513AF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E5D6-AD49-40D7-9CB9-77467E3C3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B2DBA-B3B6-4929-BB99-22D6D3B86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5E37B-4414-4C2C-AAE8-E54E6DABA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76DDA-3600-4995-84E3-364011295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0D2D68-443E-4F17-A20C-632B79C82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85A401-58C4-4F3F-B42C-03188555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7C6B88-F099-49B0-8EA5-7A75DCF19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A7075-1B93-425B-AC22-9970FC6D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BE7AD-707A-4962-9F82-723B152F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0AC23-0A17-42B5-B413-2634A7EEC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114B47-0D0F-42A3-9047-90DAE1690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B6FA-73DA-422E-9C46-AD950D305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FAC422-4193-4B88-A0D4-98AF71AB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6B9822-0C9C-4468-B807-3ABF41D0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BE17C6-2017-4940-A9A2-6C4DB8329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C3C2BD-50F8-4057-97C3-23D18CE7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6B0ADB-2AB0-4962-8001-C9A3D3758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E175ED-BA5F-4805-835A-278421138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A08025-2C9C-4737-858E-3260B031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76CBB0-D695-4037-9AF1-B32D7381F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0F90C-A725-446A-A5EA-05927D422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5580F0-A102-4147-93C2-35C8F5B91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22C1-745F-4D39-9CC6-853057AF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058793-FA96-4EF8-8563-DF605886D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27610D-FC6F-4C61-82EE-4985A436B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DA1E0-E7BC-4A1B-B47B-133E6439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05F23-2979-4BC8-B370-BF6690DF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99744-9AB0-402A-9CF7-BBBB58063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072749-0436-4A5A-AABC-AF0856004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369D1-BB19-4187-8DBD-A4B1C22B3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6A3A69C-BB43-4CE9-B020-5CF41B674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AF1A66D-49B0-45C7-8672-C8D07C5E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61897B9-2972-4D19-AEC1-3523C262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2ADE-4F76-42BE-8114-8AADDA379CF6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hte verbindingslijn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hthoek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hthoek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hthoek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hthoek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5E256-D3AB-417C-AC23-07E2A11755E9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21B6-FBC3-4BF6-8402-8860B206AE70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echthoek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Rechthoek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hthoek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hte verbindingslijn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Ovaal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Ovaal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EAA58-394B-4E91-846C-6A67D5FC4750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hthoek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hthoek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hthoek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hte verbindingslijn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al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al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98EC-91E5-4011-BF23-EF783B6B7080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4CC72-A276-45D8-9673-6C541993E110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hthoek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hthoek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hthoek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hthoek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hthoek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hthoek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hthoek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hte verbindingslijn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al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al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86DFC-3FBD-42BC-86DD-92B585198FEA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hte verbindingslijn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6BF18-F793-4475-AF21-7C839DC44773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hte verbindingslijn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hthoek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hthoek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hthoek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hthoek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hthoek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hte verbindingslijn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hthoek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al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al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436B4-DBCE-4FD2-99D6-DDEF4625E16A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hthoek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hthoek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hthoek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hthoek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hthoek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hthoek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hte verbindingslijn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al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al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BA9B-ADD7-4CD9-8469-AA072E4CCB13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hthoek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hthoek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hthoek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hthoek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hthoek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213F-60BC-4EA7-B0B6-C1FE23FDD1E6}" type="slidenum">
              <a:rPr b="0" lang="nl-NL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hthoek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hthoek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hthoek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hthoek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hthoek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hthoek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hthoek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hte verbindingslijn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Ovaal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Ovaal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hthoek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600" spc="-1" strike="noStrike">
                <a:solidFill>
                  <a:srgbClr val="7b9899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1162F-0A20-4313-8687-CFCEF1E75C8C}" type="slidenum">
              <a:rPr b="0" lang="nl-NL" sz="1600" spc="-1" strike="noStrike">
                <a:solidFill>
                  <a:srgbClr val="7b9899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646b86"/>
                </a:solidFill>
                <a:latin typeface="Georgia"/>
              </a:rPr>
              <a:t>20 MEI 2015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500" spc="-1" strike="noStrike">
                <a:solidFill>
                  <a:srgbClr val="646b86"/>
                </a:solidFill>
                <a:latin typeface="Georgia"/>
              </a:rPr>
              <a:t>ONTWERP: CHANAN DRENT </a:t>
            </a:r>
            <a:endParaRPr b="0" lang="en-US" sz="15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200" spc="-1" strike="noStrike">
                <a:solidFill>
                  <a:srgbClr val="d16349"/>
                </a:solidFill>
                <a:latin typeface="Georgia"/>
              </a:rPr>
              <a:t>Les 4 Groepsprocessen</a:t>
            </a:r>
            <a:endParaRPr b="0" lang="en-US" sz="4200" spc="-1" strike="noStrike">
              <a:solidFill>
                <a:srgbClr val="7b9899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4. Perform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en complexe situatie kan uitgevoerd word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Zonder (weinig) aansturing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edereen is op elkaar ingespeel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Adjourn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eer afscheid nemen van een groep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eze fase is er later aan toegevoeg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29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Opdrach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a nu kijken naar jullie eigen groepsontwikkeling op school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a na in welke fase jullie als groep zitten en probeer dit te verantwoorden. ( 20min)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schrijf de stappen die jullie hebben gemaakt en hoe?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15 min…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Georgia"/>
              </a:rPr>
              <a:t>Klaar?? Doe even wat voor zachtjes voor jezelf, zonder je mobieltje ;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499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Huiswerk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Jullie gaan kijken naar je groepsontwikkeling op stage, sport, vriendinnengroep, werk, vrijwilligersgroep ect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ok hierbij kijken in welke fase de groep zit en dit onderbouwen a.d.h.v. de fas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gende week wordt deze opdracht bespro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Doelen evaluer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groepsprocessen herkennen en benoem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aan het einde van de les de vier fasen van groepsvorming (Tuckman) benoem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de vier fasen in de praktijk toelichten door het te koppelen aan een eigen situati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Afsluit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olgende week weer  ‘gewoon’ les van Esther van Geel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rkshop volgende week?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edankt voor jullie aandacht en succes met het huiswerk!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at gaan we doen?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A&amp;A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sdoelen van vandaa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Workshop + evaluati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Theorie Tuckma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pdrach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Lesdoelen evalueren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Lesdoelen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groepsprocessen herkennen en benoem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aan het einde van de les de vier fasen van groepsvorming (Tuckman) benoem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k kan de vier fasen in de praktijk toelichten door het te koppelen aan een eigen situatie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Workshop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egeven door Pinar, Moniek en Semantha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Over de streep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Tuckmans stadia voor groepsvorming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Fasen van groepsontwikkeling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rondpatroon die in iedere groep terug te vinden i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Bruce Tuckman (Amerikaans sociaal psycholoog)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Doel = tot een goede samenwerking te kom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7" name="Tijdelijke aanduiding voor inhoud 1" descr=""/>
          <p:cNvPicPr/>
          <p:nvPr/>
        </p:nvPicPr>
        <p:blipFill>
          <a:blip r:embed="rId1"/>
          <a:stretch/>
        </p:blipFill>
        <p:spPr>
          <a:xfrm>
            <a:off x="1689120" y="-531720"/>
            <a:ext cx="5759280" cy="72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1. Forming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Eerste fa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Kennismak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onflicten vermij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Routine volg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Je plek in de groep vind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Vertrouwen opbouw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Niemand komt vaak met goede initiatieven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2. Storming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Conflictfase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edrag en werkwijze bekritiseren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Sommige mensen deinzen terug voor conflict , waardoor deze fase nooit wordt behaald.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300" spc="-1" strike="noStrike">
                <a:solidFill>
                  <a:srgbClr val="7b9899"/>
                </a:solidFill>
                <a:latin typeface="Georgia"/>
              </a:rPr>
              <a:t>3. Norming 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Geschreven en ongeschreven regels zijn geschreven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700" spc="-1" strike="noStrike">
                <a:solidFill>
                  <a:srgbClr val="000000"/>
                </a:solidFill>
                <a:latin typeface="Georgia"/>
              </a:rPr>
              <a:t>Iedereen heeft een taak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Georg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13:19:06Z</dcterms:created>
  <dc:creator>Leer-gilde</dc:creator>
  <dc:description/>
  <dc:language>en-US</dc:language>
  <cp:lastModifiedBy>Leer-gilde</cp:lastModifiedBy>
  <dcterms:modified xsi:type="dcterms:W3CDTF">2015-05-20T11:21:17Z</dcterms:modified>
  <cp:revision>27</cp:revision>
  <dc:subject/>
  <dc:title>Les 4 Groepsprocessen</dc:title>
</cp:coreProperties>
</file>