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5A7B-7B60-40D8-8683-EC92CAD29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49D5-1976-4447-9B5D-DFE26EBC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8C60DC-79A5-4A77-A4DB-D13A60A8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977A14-901A-439F-8F44-9DC75DD5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66FFB7-A218-4E8B-B17F-36532F80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AB5B77-F35D-4581-BA90-0DE1A439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BB6683-DCB9-464F-A39F-2DC44266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48F29F-35DA-4D85-8F15-CEA4AEF5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D7A948-8804-4F03-8070-7F18B74E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DDDBB8-8225-4E09-8540-70E599C6F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610827-F51D-4E4D-9E56-FCDA73561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40E255-365D-44A9-B7DA-D87866AC3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6E80-DF9C-4253-8F65-DF722BD84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3AD252-B721-4A2D-92D4-2B123997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14DDC8-7DA9-4524-B257-EDB12697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1757B4-5B11-46C8-B1A1-AFE0F916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E87FAF-3BDC-4736-96BB-7281F80D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791FE2-197D-4D37-9C25-464F5068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B885C7-51C0-4091-84C9-56F257F7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78FFA4-3C4C-4391-BEA8-B585222F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4A114A-9838-47D5-96C4-E974CF2B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BC9B9B-2DDB-4201-8CC7-AEA5BEFF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F2DDFB-DC5C-49BE-8B7D-E18268B9B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95D9-0289-4F8E-822A-DF8F37BE7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1F18C5-442D-4276-8B31-C2D21D993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2D4E6-E78D-491E-9C0E-84CBD42AE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F3C03-1A79-4B51-BD37-5C160E86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4CC3CE-802A-45FF-BC41-71C938AF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B3555-3E71-40D5-B3E1-061B79AE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625D6E-DB55-4A7E-AD81-1E02B0DD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52374-BF2D-450D-AA34-BDA7666E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D8B10-FF5C-4A2B-B04A-DB457C00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E8574-5C19-4797-B841-A4207CA0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C58A47-E0A5-478D-8CF4-91BFEABA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2A2F-067B-49CC-BD4C-DDA876B41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9DF77E-3E3F-4761-8CE6-BE71AAB0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463BB4-B696-4604-B383-12C1D7995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FBDCD-D9A5-4486-9046-F9BD11ADE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9AE34F-41AA-4146-8CCB-BFE6F4D2D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517793-6CEC-4E6F-8188-C07EBE08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E568BA-AEB1-478B-93F9-E39354A2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C68829-38DB-4170-A0E2-C044DEF8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8921C7-A787-49D1-B024-EDBF2C71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EB8C39-C34B-41F4-87B1-0F2BFA46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7CA882-B38D-44ED-873E-236B9335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5C55-D349-4D6C-813F-ECB8D101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8698D4-2798-415A-B061-76D8B6FB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BCC433-F7A8-431F-AB4C-9DFFC374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8C442A-EFBB-4516-BB1D-969420AF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D2AC45-8F41-478F-A2C1-A0CFD4F05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30B20E-F69A-454E-A043-5930E756D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68A5-AA38-4831-8C94-07B05084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1F3C-6BAD-4BF6-BD36-BF644954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2C925-8F50-454B-8E6B-830CA279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D967-DC61-49C8-B2BA-036AEAFA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4D89-74EC-40D2-84B2-3875C0AA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CA0B-EE1B-4818-99C7-17EE1C64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27DF5-EBC1-4753-AE66-CCE41C0D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B0DD9-1145-490C-8483-03840284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EE89-B777-488C-9AA9-EF35FCCB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B535-F035-4004-B2C2-835984355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5219-1A2C-4A80-9FCF-51253BB1E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ADD69-B2EA-4A2D-BC0C-ADA5E5220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8030F-4130-458E-BA0D-6297068B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6D219-CF42-4C47-B247-F797793A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06175-BBAF-4C75-8C98-7FF475EA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C9BB2-03A7-43AA-8E2D-89148386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B5E5-401C-4AE5-8C7D-B5512ECA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2C5FE-93B1-4FA4-B1B1-00F10BCC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C37B7-6B1E-4C0C-86B4-AB8F044B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1589B-03D1-4CC8-9D19-16CB0B8A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025D2-3C19-49BD-8653-6D0BCE23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780A2-6697-4156-B817-3E79126B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19A39-C151-47F7-90DE-50E9C0ABC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036D0-42C3-4E3E-A8D6-BFC7FB58A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020CA-8858-4E95-A822-84E9DD830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053E9-07E2-4C2F-B50A-5394FDCE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CD641-3222-426F-A1ED-B03D2320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B165-4732-410C-A03B-8FCAFD25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E891C-9E6D-4059-AFDF-9EFD10CF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03C56-0035-41EB-8F16-5A75241D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50EC2-A9EB-45FC-9357-56D2831A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1977C-62AA-4E60-B42D-9178ACC5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4F412-9DBB-4E92-89ED-5EF7797D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57EA7-10FA-4F6F-8D54-DCFEDCAC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66DAE-A0B1-4CEE-AD85-6E729849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5C631-E7C5-4B47-8C88-522A48F15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C950F-B11B-4A6D-B824-82427C68A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CB094-A182-45AF-9A42-CABF1E510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564D-FC6E-4160-94BC-C2E59D45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57B66-9E67-409E-9741-898E5DEE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25E4E-86A5-4CFC-8889-E702B83D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AF2B3-342D-405A-93AA-E5A2D692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63EB7-3FE6-4442-A15B-C3BA873E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CDFFC-B2EF-4441-B200-A45CEAEB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F5460-F024-42DA-8FAA-199471D3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4CEB5-7886-4928-B958-D7FFD764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2BCF7-6B76-406D-B722-34951118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DCFD3-B715-4A07-A91B-93F9551E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6E8F4-6DEA-4E41-A5F9-06D7AA6AA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99D4-45ED-4BEF-93DC-7CBC4555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69DD8-5E2A-4C9B-9BCD-EEC45E052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9D29F-6BD4-4636-A2BA-FBAFCB6E7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E6D9B-A6C2-494D-B83E-A75D6DF5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F319A-0A03-4E3A-A707-6F6E2AEE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C6368-1AE2-4E0B-B9B0-D5EE138B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018C1-B76F-4A8F-8175-D9A7ECDE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7248F-8398-450B-986F-FA79DFD5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7A842-9710-4B5E-A48A-6A0582D6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2C745-F101-468C-BBC2-CC66F830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3ACB3-EAA2-4A60-9DC4-647871C8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A650-77B7-4063-B597-52E81030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74951-E9A9-43E8-A8A0-4C01A1EE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3F094-299A-4B03-B8EC-69AD82812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0D1AC-5507-439D-A1A3-89EFB8B3F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68E46-5752-4695-8EE9-9A25241B5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AC5B8-BFBB-4AA7-945F-2A8A3DF0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3DE37-6424-4E3D-9C43-30EB803F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FCC02-09BB-4E85-968B-AE991B3A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BC31B-8CF7-474C-A96B-EE562F96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DF8CD-77B6-4680-9886-E7842358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DE796-EE91-4CD8-B2B3-83FC37A7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6228-44E4-4CB5-8CB5-C1173C00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B49CF-F7D5-414C-A7F6-E8F0E240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FEB40-B4FB-47B4-BA09-EE99ACAF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89A20-B386-40E8-8CAF-EA75711B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061F9-3832-4F44-9DC5-56BE985B5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85E8D-D5FF-48B5-B5B9-4CABF4C2B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E2A7B-76A3-4DB4-9D19-50D9C4E53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63904-2A25-486C-9A1D-E5C59EC8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D5453-92FD-42CF-8EEB-8690E508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9D7E0-A4A7-4B01-89ED-B8D5322B9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D7C4C-17BB-4630-85D3-9B6D7854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B185-13A2-4831-AC76-8EDCE9B2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3BAD0-1952-4305-A81D-A66F5A0C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88937-1451-459A-8AF8-E39BFB1E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1D47F-AE06-47BB-A4AF-CE9E4ADE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2676D-A343-422B-BC43-2B51AD23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66FA2-8CE5-4351-B259-E8991B0C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AF426-5411-42EC-88DE-B3D020729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260EA-EC5D-4750-982B-B7940D5D3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332D03-668C-4699-80BD-676249BD8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9E8AF7-2D10-41DD-840D-9C07A1C7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06BBEA-C463-4A5B-BA35-0D5902C9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A563-7603-4F62-AE33-56113CB2E229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hte verbindingslijn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hthoek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hthoek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hthoek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hthoek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hthoek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hthoe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A5B6-53CC-411B-BFE9-0ACBEBFA33BD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DBCC-7199-4F96-9DC1-672B4233E351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hthoek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hthoek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hthoe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hthoek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hte verbindingslijn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4648-400F-42B8-B84F-8E94278C7017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hthoek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hthoek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hthoek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e verbindingslijn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hthoe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CFD4-EBFE-4D75-A84D-F56D5A8793E2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BF25-81F6-4341-ACD0-02C321137BFC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hthoek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hthoek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hthoek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hthoek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hthoek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hthoek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hte verbindingslijn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83C9-F4CC-42F1-A65E-44C5BA8DA4E2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hte verbindingslijn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440C-F2A6-4F1F-8560-9E72D1B13197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hte verbindingslijn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hthoek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hthoek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hthoe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hthoek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hthoek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hthoek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hte verbindingslijn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hthoek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179F-3881-48DD-BE7C-C9DC1073E254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2A4B-481D-42C9-AEB1-E1FB13108ECD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hthoek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hthoek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hthoe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hthoek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4F6D-79FD-45CC-BC50-E412BFBB2C95}" type="slidenum">
              <a:rPr b="0" lang="nl-NL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hthoek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hthoek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hthoek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hthoek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hthoe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hte verbindingslijn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hthoe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BE11-C3FB-47A5-887C-B7A3CDE43C13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500" spc="-1" strike="noStrike">
                <a:solidFill>
                  <a:srgbClr val="646b86"/>
                </a:solidFill>
                <a:latin typeface="Georgia"/>
              </a:rPr>
              <a:t>20 MEI 2015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500" spc="-1" strike="noStrike">
                <a:solidFill>
                  <a:srgbClr val="646b86"/>
                </a:solidFill>
                <a:latin typeface="Georgia"/>
              </a:rPr>
              <a:t>ONTWERP: CHANAN DRENT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d16349"/>
                </a:solidFill>
                <a:latin typeface="Georgia"/>
              </a:rPr>
              <a:t>Les 4 Groepsprocessen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4. Perform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en complexe situatie kan uitgevoerd worde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onder (weinig) aansturing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edereen is op elkaar ingespeeld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Adjourn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Weer afscheid nemen van een groep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eze fase is er later aan toegevoegd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9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Opdrach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Ga nu kijken naar jullie eigen groepsontwikkeling op school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Ga na in welke fase jullie als groep zitten en probeer dit te verantwoorden. ( 20mi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eschrijf de stappen die jullie hebben gemaakt en hoe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15 min…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Klaar?? Doe even wat voor zachtjes voor jezelf, zonder je mobieltje ;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Huiswerk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Jullie gaan kijken naar je groepsontwikkeling op stage, sport, vriendinnengroep, werk, vrijwilligersgroep ec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ok hierbij kijken in welke fase de groep zit en dit onderbouwen a.d.h.v. de fase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lgende week wordt deze opdracht besprok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Doelen evaluer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k kan groepsprocessen herkennen en benoeme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k kan aan het einde van de les de vier fasen van groepsvorming (Tuckman) benoeme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k kan de vier fasen in de praktijk toelichten door het te koppelen aan een eigen situati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Afslui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lgende week weer  ‘gewoon’ les van Esther van Geel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Workshop volgende week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edankt voor jullie aandacht en succes met het huiswerk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Wat gaan we doe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&amp;A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esdoelen van vandaa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Workshop + evaluati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Theorie Tuckma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pdrach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esdoelen evaluere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Lesdoel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k kan groepsprocessen herkennen en benoeme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k kan aan het einde van de les de vier fasen van groepsvorming (Tuckman) benoeme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k kan de vier fasen in de praktijk toelichten door het te koppelen aan een eigen situati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Workshop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Gegeven door Pinar, Moniek en Semantha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ver de streep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Tuckmans stadia voor groepsvorm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Fasen van groepsontwikkel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Grondpatroon die in iedere groep terug te vinden i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ruce Tuckman (Amerikaans sociaal psycholoog)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oel = tot een goede samenwerking te kome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7" name="Tijdelijke aanduiding voor inhoud 1" descr=""/>
          <p:cNvPicPr/>
          <p:nvPr/>
        </p:nvPicPr>
        <p:blipFill>
          <a:blip r:embed="rId1"/>
          <a:stretch/>
        </p:blipFill>
        <p:spPr>
          <a:xfrm>
            <a:off x="1689120" y="-531720"/>
            <a:ext cx="5759280" cy="72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1. Forming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erste fas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ennismak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Conflicten vermijd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Routine volg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Je plek in de groep vind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trouwen opbouw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iemand komt vaak met goede initiatiev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2. Storming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Conflictfas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Gedrag en werkwijze bekritisere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ommige mensen deinzen terug voor conflict , waardoor deze fase nooit wordt behaald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3. Norming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Geschreven en ongeschreven regels zijn geschreve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edereen heeft een taak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2T13:19:06Z</dcterms:created>
  <dc:creator>Leer-gilde</dc:creator>
  <dc:description/>
  <dc:language>en-US</dc:language>
  <cp:lastModifiedBy>Leer-gilde</cp:lastModifiedBy>
  <dcterms:modified xsi:type="dcterms:W3CDTF">2015-05-20T11:21:17Z</dcterms:modified>
  <cp:revision>27</cp:revision>
  <dc:subject/>
  <dc:title>Les 4 Groepsprocessen</dc:title>
</cp:coreProperties>
</file>