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695-1483-4F73-A223-1A3482D5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A9E-431F-4E17-8FCF-85B78432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3C8D4-0A5F-453D-BBE7-C99889DC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3091C4-8F89-4D93-BC4E-8B6B69A6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98ADB-F5CD-45AC-9D09-2AB95091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8FC0F-3829-4242-BBC4-EAFF5D96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DA1AE-6F95-43C5-A475-9BAAB05E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0E788-FC9A-4EEA-B355-8E494C01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0C084-91B5-46F5-B4B8-87E37B2E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57F17-07BA-4F51-A8F1-D7A64348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775B2-0183-49A2-8BFD-6D82C82E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8BDF2-B24B-4A48-9EF6-C3C57CD8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579-D541-4774-9323-0A0457A8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EEF2E-E4E5-45A8-B369-365A5F8C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81D19-5EDF-457C-84EF-0045230A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4F889-2403-4412-95AD-DB103F82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F130A-C996-4BCA-9190-6EBAA922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4F0F7-7AD3-401C-BEFC-2543331F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096853-7873-4A33-9AAF-AF934427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7F027-4273-4FB3-A2B1-232417E0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2265E9-5DCC-44BB-992A-D5F8D48C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A4745B-A2F9-4780-BE03-D41A9B22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CD9DB2-0C21-484D-B453-8CB97101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DE1-6003-4170-AA23-D6B71DDF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A0B792-2BC0-4065-87F2-21EB856D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88FEA-DD46-4131-9B4B-67C4E470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652DC-7DD2-44C9-8CB0-76A85C07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6256A-ECA2-44CF-9BAD-0D59DBB4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5D94A-BC19-4984-BDE3-089D9D69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FAC95-9934-4509-8322-A7AECE52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21CAB-06E2-4DFA-A96E-B1C448EE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DD3C9-D257-48FF-9375-8A749A83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900D9-FC3A-4AF6-B801-00B7A604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0ECF9-3D74-4B74-9FC9-1CB220B8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9010-609E-4307-ACD0-656FD7A9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8E07B-DDE4-4475-B9AC-56D0C246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1A45C-CB31-4E53-8C37-B2BE3CDE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4B084-66F1-4C7E-82E6-19826E4D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455A0-E659-4749-99F7-88ECBAA9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D6386-EFAD-421F-8769-110F2599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87053-1EA7-46F9-84C4-C6B3A87E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66BAD-CB7E-4FAC-8B86-CDC3D309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03B71-CC31-4319-82DD-2F37918D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D33714-2427-4753-A0FB-E1142343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7D43C-BAD5-4BE4-8386-DDF24B4D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78A2-00D3-44A8-BA0B-5755B829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54B0F-DC1A-46C2-9D4A-8E388D54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009431-53B6-4A23-8E67-5E0EC8A3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FD3A2-4AAA-4732-9847-5620C14B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7A176-F73B-49BA-9419-BEC0E66B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3F03AB-24B8-431E-BA3D-7929F515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FBE9-01BF-4416-9231-4060F7A8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F02F-3B1C-4DAA-86D0-639E8AD9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748C-920E-4D6A-82EA-6D702DAB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5B1E-531A-4CE3-A734-E81C4105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6649-D6A3-46C4-831D-6BA69B68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1CF-372E-458F-9E04-DA4E001B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C951-EB36-4A0D-8F88-F628B310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C27B-E625-4678-93F8-F40DFBC3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2373-856D-410D-B20C-2CFF087B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C5D0-8B89-447E-A360-2EB5DA43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27B0-5300-44AB-9700-A605CD66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D4136-DEA2-4AC6-9026-A1D72A00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1841A-70A8-471C-8D66-119181F9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DA757-A7C6-4F43-988D-3F5FD6F9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7BC5B-AF17-49D1-8926-E414FCCF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78936-E0D8-4005-B98C-D22211BF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F7C7-55C1-44FD-92AC-8173A2B5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FCBB2-E443-4337-8C21-C4ADFF1C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A5740-6DEE-456A-8156-17BEAF14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4DEA5-4E62-4908-B2EC-A3EC6AA8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62CDA-F4AE-41D1-8DDC-5B0F1F05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F31EF-9FF6-4C2F-B5CD-8ADD0292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F016C-FAE4-4840-8919-10426C05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D0021-71EB-42D1-A009-3CA26B80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E4E9A-A180-4C91-9A07-57027A86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EC81F-0525-4AE9-B348-B90DF321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E6E9E-9FEB-49E9-83B3-CD6E0537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0007-AC6F-4EE5-9FE7-2584A590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E17D2-D6E8-416E-BF76-BB4F7C13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4CB02-F509-4493-897B-0937ABEC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7C712-251A-423E-B73F-0A0B7EB2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BB849-163D-4292-9D0B-50A6CD68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C4C3D-BE36-41D7-A6DC-3BC2FA93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24332-F991-4E49-B7EB-AD4BE5A4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664A8-ABA3-45F5-8CA5-4919E6D0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E0EC3-BD42-4908-ABC1-5D2B1C06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7AD66-5CB0-4381-9F56-DB252304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9816F-B842-41E5-836D-D80FA868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D39-E6A6-4597-9FF1-6328E2A9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7CAA6-C32C-486B-97BA-274D48F1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6D3DB-0FB8-4372-94A6-EB173518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2965E-732D-4DB2-9204-FE52C598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6B18E-FE76-4157-B3CC-1A759EC4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FBD60-D3FD-4CAB-AF34-1F1E6C36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2DF03-A2B6-4B0A-A02B-80ACC5D5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E377F-E35B-4251-903F-35003DF9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A50CD-332D-44CB-A4D8-16DF4595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2A573-3755-4E22-9805-5B9CE43F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8B82D-A2DE-4888-839E-8A38AE91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BDA-309B-49B1-ABC4-7F97DCD0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05A9E-BA7A-438A-BB06-75047AAA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A6610-049D-4735-99F7-84E7F273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06CD2-8ECE-4D99-BD60-15445CD6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49030-DCBE-4001-AEDF-B0E031AF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65B24-2F1C-4FF8-8C5B-2A7B90FE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5F0C6-C215-40D6-8BF5-D950BE67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27EC1-D2D2-4FE7-BDA8-51D79C92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B26F1-1288-406F-AA5F-BDFCBF33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CC775-DBCF-4A11-B312-0D3E6EFC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CCB9D-D2F8-4AE0-8A88-6258E45A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272-4021-4A5F-BCF5-698FF1AA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BB8A4-8C7E-4517-8297-1156ADF5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22E50-4778-46ED-8E0A-EFE23033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CEB24-944B-405A-8CBB-7BE4E663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15533-A555-4F27-B546-F6E0615D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BE2DF-4567-49E7-B4FE-7BAE9738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F47FC-F1D7-4CF7-A21A-AE3D1777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7AB73-7E87-4823-8AE3-15C36E3D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36D76-C64E-47FD-B85E-38A10A84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6C197-7C4B-4D93-BA6A-671836BD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7BF85-6C8D-4733-8C6E-876B7F9D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73D-E981-4E06-9753-7C164DD3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1CC5E-4D5B-4FA4-8217-35FA0E4C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D39CD-D487-42D5-B142-E74FF267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CD899-F6D6-4AEC-9FBB-59561A02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DD4D1-702D-440F-AD59-C0DB1D16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74310-F38B-48AF-A2A3-1086AFBC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992B1-4204-4E1B-88D8-87BEFB7A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A71A1-0198-42BF-A6CB-D07A23D6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C011D-0695-4698-858B-AF60FD78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33EA8-08C1-4DA4-9DED-E46C37CB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80717-69A0-4307-9841-60F94062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A29-F765-4E17-9D09-2EC86CDE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8DCDB-2CBE-4ADA-B9E9-CACC883C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64197-A984-4344-A54A-3230475B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0E446-D728-4EC8-84FF-BBD171AC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ED221-131C-422C-B29D-E483CD83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61EC4-3689-478D-AAEF-61E74695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1537D-0367-4EBE-9015-73BEB435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B5610-94F8-44DE-84A7-4D356D4D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AAA34-519D-46EC-AD39-FB9F91ED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8D39D-B5A3-46CC-B400-1E5AA5B1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02FE1-250F-40A8-8CA7-DAE42DF4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B313-4E51-4B15-B68D-71BA2F1289DB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9D6B-86AD-4353-92BC-5623D9024D25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EA7E-8AE4-4C6D-B893-202FAEBA4BED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8CE0-4DD8-4BF6-A1CE-F78E03FD2600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0597-B10B-447D-B877-23968AEE9B2E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1261-3B31-4143-AC99-ACC3BE1E706E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8BAB-B3D9-43C3-B807-F39786378787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C7CA-FDA6-4F8E-BAFF-DB38C20B35D6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14EB-50C3-450F-8A07-22CC2A17DD61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3C74-3000-4A4E-B370-910DDC08A39B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0BC4-2AA9-4CBA-AD18-2342DABC0B90}" type="slidenum">
              <a:rPr b="0" lang="nl-NL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C0F3-FAC0-4F9A-BCBE-7CD49EEDC23D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646b86"/>
                </a:solidFill>
                <a:latin typeface="Georgia"/>
              </a:rPr>
              <a:t>20 MEI 2015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646b86"/>
                </a:solidFill>
                <a:latin typeface="Georgia"/>
              </a:rPr>
              <a:t>ONTWERP: CHANAN DRENT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Les 4 Groepsprocesse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4. Perform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n complexe situatie kan uitgevoerd word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(weinig) aanstur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edereen is op elkaar ingespeel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djour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eer afscheid nemen van een groe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ze fase is er later aan toegevoeg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pdrach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a nu kijken naar jullie eigen groepsontwikkeling op schoo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a na in welke fase jullie als groep zitten en probeer dit te verantwoorden. ( 20mi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chrijf de stappen die jullie hebben gemaakt en ho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15 min…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Klaar?? Doe even wat voor zachtjes voor jezelf, zonder je mobieltje ;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uiswe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ullie gaan kijken naar je groepsontwikkeling op stage, sport, vriendinnengroep, werk, vrijwilligersgroep ec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ok hierbij kijken in welke fase de groep zit en dit onderbouwen a.d.h.v. de fas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gende week wordt deze opdracht bespro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Doelen evaluer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groepsprocessen herkennen en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aan het einde van de les de vier fasen van groepsvorming (Tuckman)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de vier fasen in de praktijk toelichten door het te koppelen aan een eigen situat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fslui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gende week weer  ‘gewoon’ les van Esther van Geel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kshop volgende week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dankt voor jullie aandacht en succes met het huiswerk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gaan we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&amp;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sdoelen van vandaa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kshop + evalu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heorie Tuckm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pdrac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sdoelen evaluer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Lesdo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groepsprocessen herkennen en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aan het einde van de les de vier fasen van groepsvorming (Tuckman)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de vier fasen in de praktijk toelichten door het te koppelen aan een eigen situat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orkshop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geven door Pinar, Moniek en Semantha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ver de stree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Tuckmans stadia voor groepsvorm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Fasen van groepsontwikk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rondpatroon die in iedere groep terug te vinden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uce Tuckman (Amerikaans sociaal psycholoog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el = tot een goede samenwerking te kom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689120" y="-531720"/>
            <a:ext cx="5759280" cy="72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1. F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rste fa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ennism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onflicten vermij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outine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e plek in de groep vin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trouwen opbouw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mand komt vaak met goede initiatiev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2. St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onflictfa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drag en werkwijze bekritiser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ommige mensen deinzen terug voor conflict , waardoor deze fase nooit wordt behaal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3. N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schreven en ongeschreven regels zijn geschrev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edereen heeft een taa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13:19:06Z</dcterms:created>
  <dc:creator>Leer-gilde</dc:creator>
  <dc:description/>
  <dc:language>en-US</dc:language>
  <cp:lastModifiedBy>Leer-gilde</cp:lastModifiedBy>
  <dcterms:modified xsi:type="dcterms:W3CDTF">2015-05-20T11:21:17Z</dcterms:modified>
  <cp:revision>27</cp:revision>
  <dc:subject/>
  <dc:title>Les 4 Groepsprocessen</dc:title>
</cp:coreProperties>
</file>