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4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0166-4711-4AC3-BDE5-8B07801488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C4A0-BF25-4F4F-8106-E107CB28D1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CDFF-F36D-405E-9768-A39D5D441A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8673-39BA-4FC2-8707-0EFB46796C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B4EF-5C0E-4372-BD7C-4161545C9F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2048-08F2-4E86-A4C0-9775DFD0B4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51FE-6F69-417F-912A-F27D51ABAE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9567-E73A-409C-AD70-58D5F6BF39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8DB9-9C42-44AE-9D5C-F7C520DEF0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77E6-9218-486F-ADA1-B7F226646A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8801-816F-4D90-8730-52338BA1FA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EC02-1F4F-4749-A78B-6260274346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59FC-8079-4F3E-B961-6306D8EECE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5A49-3FC1-435D-A5FC-85C07E5DD8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B101-19FC-42A6-B56F-B914DE93AB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DCB3-411A-4A48-BED6-661862F5E4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0189-87F5-4DF2-82B4-D228F00EFA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9599-0AEC-44BA-BA62-D6069B1EBB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74B8-8DCB-4646-B251-DAB09F9A40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3584-CA89-41A1-AB38-9B404EE4B7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2720"/>
            <a:ext cx="250236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55640" y="609120"/>
            <a:ext cx="590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272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2720"/>
            <a:ext cx="7772400" cy="22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7" descr="germswas"/>
          <p:cNvPicPr/>
          <p:nvPr/>
        </p:nvPicPr>
        <p:blipFill>
          <a:blip r:embed="rId2"/>
          <a:stretch/>
        </p:blipFill>
        <p:spPr>
          <a:xfrm>
            <a:off x="826920" y="765000"/>
            <a:ext cx="1584360" cy="990720"/>
          </a:xfrm>
          <a:prstGeom prst="rect">
            <a:avLst/>
          </a:prstGeom>
          <a:ln w="0">
            <a:noFill/>
          </a:ln>
        </p:spPr>
      </p:pic>
      <p:sp>
        <p:nvSpPr>
          <p:cNvPr id="3" name="Text Box 8"/>
          <p:cNvSpPr/>
          <p:nvPr/>
        </p:nvSpPr>
        <p:spPr>
          <a:xfrm>
            <a:off x="755640" y="40464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FetteFraktur"/>
                <a:ea typeface="바탕"/>
              </a:rPr>
              <a:t>Propaga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556000" y="6922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5" descr="http://static2.akpool.de/images/cards/8/83864.jpg"/>
          <p:cNvPicPr/>
          <p:nvPr/>
        </p:nvPicPr>
        <p:blipFill>
          <a:blip r:embed="rId1"/>
          <a:stretch/>
        </p:blipFill>
        <p:spPr>
          <a:xfrm>
            <a:off x="250920" y="1982880"/>
            <a:ext cx="4208400" cy="274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http://static3.akpool.de/images/cards/6/61594.jpg"/>
          <p:cNvPicPr/>
          <p:nvPr/>
        </p:nvPicPr>
        <p:blipFill>
          <a:blip r:embed="rId2"/>
          <a:stretch/>
        </p:blipFill>
        <p:spPr>
          <a:xfrm>
            <a:off x="4572000" y="3789360"/>
            <a:ext cx="4262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opaganda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thema’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ti-Semit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anti-Joo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litar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uniformen; le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tionalism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trots op Duitslan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uperioriteit Arische 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uhrer-mythe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Hitler middelpunt natie; goddelijk-figuu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ditionele Duitse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‘Volkscultuur’’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sters - goedkoop &amp; eenvoudig te verspr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Zichtbaarheid in de stra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oortdurende herinnering aan nazi ideolo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9" descr="kauft"/>
          <p:cNvPicPr/>
          <p:nvPr/>
        </p:nvPicPr>
        <p:blipFill>
          <a:blip r:embed="rId1"/>
          <a:stretch/>
        </p:blipFill>
        <p:spPr>
          <a:xfrm>
            <a:off x="1187280" y="1989000"/>
            <a:ext cx="31276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916360" y="549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orbeelden Nazi Po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0" descr="http://www.glogster.com/media/4/23/56/31/23563114.jpg"/>
          <p:cNvPicPr/>
          <p:nvPr/>
        </p:nvPicPr>
        <p:blipFill>
          <a:blip r:embed="rId1"/>
          <a:stretch/>
        </p:blipFill>
        <p:spPr>
          <a:xfrm>
            <a:off x="179280" y="2133720"/>
            <a:ext cx="2765520" cy="395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http://www.newthinktank.com/wp-content/uploads/2011/08/gwwii037.jpg"/>
          <p:cNvPicPr/>
          <p:nvPr/>
        </p:nvPicPr>
        <p:blipFill>
          <a:blip r:embed="rId2"/>
          <a:stretch/>
        </p:blipFill>
        <p:spPr>
          <a:xfrm>
            <a:off x="3132000" y="2133720"/>
            <a:ext cx="2819520" cy="3949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6" descr="http://ww2today.com/wp-content/uploads/2010/11/Poster-for-Eternal-Jew-Ewiger-Jude.jpg"/>
          <p:cNvPicPr/>
          <p:nvPr/>
        </p:nvPicPr>
        <p:blipFill>
          <a:blip r:embed="rId3"/>
          <a:stretch/>
        </p:blipFill>
        <p:spPr>
          <a:xfrm>
            <a:off x="6012000" y="2133720"/>
            <a:ext cx="29462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http://www.militaryimages.net/photopost/data/675/44Nazi_erwacht.jpg"/>
          <p:cNvPicPr/>
          <p:nvPr/>
        </p:nvPicPr>
        <p:blipFill>
          <a:blip r:embed="rId1"/>
          <a:stretch/>
        </p:blipFill>
        <p:spPr>
          <a:xfrm>
            <a:off x="4859280" y="476280"/>
            <a:ext cx="3889440" cy="582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media.brainz.org/uploads/2010/12/poster-leader-we-follow-you.jpg"/>
          <p:cNvPicPr/>
          <p:nvPr/>
        </p:nvPicPr>
        <p:blipFill>
          <a:blip r:embed="rId2"/>
          <a:stretch/>
        </p:blipFill>
        <p:spPr>
          <a:xfrm>
            <a:off x="179280" y="404640"/>
            <a:ext cx="4143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propaganda 1932 election2"/>
          <p:cNvPicPr/>
          <p:nvPr/>
        </p:nvPicPr>
        <p:blipFill>
          <a:blip r:embed="rId1"/>
          <a:stretch/>
        </p:blipFill>
        <p:spPr>
          <a:xfrm>
            <a:off x="4716360" y="620640"/>
            <a:ext cx="3889440" cy="5459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ttp://adamcathcart.files.wordpress.com/2009/08/enthanasiepropaganda.jpg?w=431&amp;h=550"/>
          <p:cNvPicPr/>
          <p:nvPr/>
        </p:nvPicPr>
        <p:blipFill>
          <a:blip r:embed="rId2"/>
          <a:stretch/>
        </p:blipFill>
        <p:spPr>
          <a:xfrm>
            <a:off x="250920" y="620640"/>
            <a:ext cx="410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82640" y="647280"/>
            <a:ext cx="5849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514600" y="32004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4067280" y="1600200"/>
            <a:ext cx="48258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edkope “Volksempfäng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een Duitse zen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32-39 van 25% to 70% radiobezi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ezichthouders hielden bij hoe het volk reageerde op uitzend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32338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685800" y="1523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azi Fil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14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248000" cy="3213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9280" y="17002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itief beeld Hitler + Nazi ideolog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ripts vermaaksfilms goedgekeurd door nazi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oscoopbezoek verviervoudigde tussen 1933 en19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orprogramma: nazi fil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739800" y="5670720"/>
            <a:ext cx="7424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34 –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Triumph Des Willens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zi partijdag Neurenberg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eni Riefenstah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http://m.blog.hu/ki/kinetograf/image/trium.jpg"/>
          <p:cNvPicPr/>
          <p:nvPr/>
        </p:nvPicPr>
        <p:blipFill>
          <a:blip r:embed="rId1"/>
          <a:stretch/>
        </p:blipFill>
        <p:spPr>
          <a:xfrm>
            <a:off x="2411280" y="1268280"/>
            <a:ext cx="6438960" cy="431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productimages.wehkamp.nl/is/image/Wehkamp/141612_pb_01/2009artikelDetailVisualLandscape/triumph-des-willens-(dvd).jpg"/>
          <p:cNvPicPr/>
          <p:nvPr/>
        </p:nvPicPr>
        <p:blipFill>
          <a:blip r:embed="rId2"/>
          <a:stretch/>
        </p:blipFill>
        <p:spPr>
          <a:xfrm>
            <a:off x="0" y="0"/>
            <a:ext cx="322884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r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93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.700 dagbla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% in handen NSD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944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997 dagblad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82% in handen NSD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92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65440" y="647280"/>
            <a:ext cx="4867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Censuu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0 Mei 1933: boekverbranding in Berlij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vallen in openbare bibliothe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rbrandde boeken: Joods, socialistisch, pacifistis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Book-burning-Nazi-Germany200"/>
          <p:cNvPicPr/>
          <p:nvPr/>
        </p:nvPicPr>
        <p:blipFill>
          <a:blip r:embed="rId1"/>
          <a:stretch/>
        </p:blipFill>
        <p:spPr>
          <a:xfrm>
            <a:off x="5724360" y="2060640"/>
            <a:ext cx="325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opa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lame voor politieke partij of politiek idea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 bevolking wordt </a:t>
            </a:r>
            <a:r>
              <a:rPr b="0" i="1" lang="en-GB" sz="2800" spc="-1" strike="noStrike">
                <a:solidFill>
                  <a:srgbClr val="ff0000"/>
                </a:solidFill>
                <a:latin typeface="Verdana"/>
              </a:rPr>
              <a:t>gehersenspo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einestages.spiegel.de/hund-images/2007/10/08/85/1ecca20f4052d9b2f6200dc40cdf7520_image_document_large_featured_borderless.jpg"/>
          <p:cNvPicPr/>
          <p:nvPr/>
        </p:nvPicPr>
        <p:blipFill>
          <a:blip r:embed="rId2"/>
          <a:stretch/>
        </p:blipFill>
        <p:spPr>
          <a:xfrm>
            <a:off x="5148360" y="1628640"/>
            <a:ext cx="3333600" cy="476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1320" y="647280"/>
            <a:ext cx="4702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rhinderde dat andere ideeën bekend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s er tegenwoordig nog censuu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845080" y="5029200"/>
            <a:ext cx="38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2002, China boy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de zoekmachine Googl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Waaro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’ doel:  verhinderen dat men dingen zag, hoorde of las die vijandig of schadelijk voor de Nazi’s 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erkte samen met SS &amp; Gestapo om dit te berei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Verdana"/>
              </a:rPr>
              <a:t>Wat was het aandeel van de SS / Gestapo d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Duitsland onder Hitler: een totalitaire staa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3132000" y="1413000"/>
            <a:ext cx="2895480" cy="1904760"/>
            <a:chOff x="3132000" y="1413000"/>
            <a:chExt cx="2895480" cy="1904760"/>
          </a:xfrm>
        </p:grpSpPr>
        <p:sp>
          <p:nvSpPr>
            <p:cNvPr id="119" name="Oval 9"/>
            <p:cNvSpPr/>
            <p:nvPr/>
          </p:nvSpPr>
          <p:spPr>
            <a:xfrm>
              <a:off x="3132000" y="1413000"/>
              <a:ext cx="2895480" cy="1904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3635280" y="1699920"/>
              <a:ext cx="1905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imes New Roman"/>
                </a:rPr>
                <a:t>Totalitaire staat: denken en doen beheerse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Text Box 11"/>
          <p:cNvSpPr/>
          <p:nvPr/>
        </p:nvSpPr>
        <p:spPr>
          <a:xfrm>
            <a:off x="152280" y="48769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ensen waren bang om in handen Gestapo of SS te vall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300720" y="5805360"/>
            <a:ext cx="24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tler Jugend &amp; Bund Deutsche Made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" name="Group 13"/>
          <p:cNvGrpSpPr/>
          <p:nvPr/>
        </p:nvGrpSpPr>
        <p:grpSpPr>
          <a:xfrm>
            <a:off x="5580000" y="1123920"/>
            <a:ext cx="2962080" cy="1080720"/>
            <a:chOff x="5580000" y="1123920"/>
            <a:chExt cx="2962080" cy="1080720"/>
          </a:xfrm>
        </p:grpSpPr>
        <p:sp>
          <p:nvSpPr>
            <p:cNvPr id="124" name="Line 14"/>
            <p:cNvSpPr/>
            <p:nvPr/>
          </p:nvSpPr>
          <p:spPr>
            <a:xfrm flipV="1">
              <a:off x="5580000" y="1484280"/>
              <a:ext cx="1223640" cy="72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5" name="Group 15"/>
            <p:cNvGrpSpPr/>
            <p:nvPr/>
          </p:nvGrpSpPr>
          <p:grpSpPr>
            <a:xfrm>
              <a:off x="6732720" y="1123920"/>
              <a:ext cx="1809360" cy="752400"/>
              <a:chOff x="6732720" y="1123920"/>
              <a:chExt cx="1809360" cy="752400"/>
            </a:xfrm>
          </p:grpSpPr>
          <p:sp>
            <p:nvSpPr>
              <p:cNvPr id="126" name="Text Box 16"/>
              <p:cNvSpPr/>
              <p:nvPr/>
            </p:nvSpPr>
            <p:spPr>
              <a:xfrm>
                <a:off x="6732720" y="1123920"/>
                <a:ext cx="180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Propaganda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Line 17"/>
              <p:cNvSpPr/>
              <p:nvPr/>
            </p:nvSpPr>
            <p:spPr>
              <a:xfrm>
                <a:off x="7626240" y="1544400"/>
                <a:ext cx="0" cy="3319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8" name="Group 18"/>
          <p:cNvGrpSpPr/>
          <p:nvPr/>
        </p:nvGrpSpPr>
        <p:grpSpPr>
          <a:xfrm>
            <a:off x="6372360" y="1916280"/>
            <a:ext cx="2590560" cy="1101600"/>
            <a:chOff x="6372360" y="1916280"/>
            <a:chExt cx="2590560" cy="1101600"/>
          </a:xfrm>
        </p:grpSpPr>
        <p:sp>
          <p:nvSpPr>
            <p:cNvPr id="129" name="Text Box 19"/>
            <p:cNvSpPr/>
            <p:nvPr/>
          </p:nvSpPr>
          <p:spPr>
            <a:xfrm>
              <a:off x="6372360" y="1916280"/>
              <a:ext cx="259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Massa bijeenkomsten, Posters en films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>
              <a:off x="7667280" y="263700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1" name="Group 21"/>
          <p:cNvGrpSpPr/>
          <p:nvPr/>
        </p:nvGrpSpPr>
        <p:grpSpPr>
          <a:xfrm>
            <a:off x="6227640" y="2997360"/>
            <a:ext cx="2590560" cy="1536120"/>
            <a:chOff x="6227640" y="2997360"/>
            <a:chExt cx="2590560" cy="1536120"/>
          </a:xfrm>
        </p:grpSpPr>
        <p:sp>
          <p:nvSpPr>
            <p:cNvPr id="132" name="Text Box 22"/>
            <p:cNvSpPr/>
            <p:nvPr/>
          </p:nvSpPr>
          <p:spPr>
            <a:xfrm>
              <a:off x="6227640" y="299736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Nazi’s censureerden en beheersten radio &amp; krante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>
              <a:off x="7596000" y="4076640"/>
              <a:ext cx="0" cy="456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4" name="Group 24"/>
          <p:cNvGrpSpPr/>
          <p:nvPr/>
        </p:nvGrpSpPr>
        <p:grpSpPr>
          <a:xfrm>
            <a:off x="6300720" y="4437000"/>
            <a:ext cx="2590560" cy="1317600"/>
            <a:chOff x="6300720" y="4437000"/>
            <a:chExt cx="2590560" cy="1317600"/>
          </a:xfrm>
        </p:grpSpPr>
        <p:sp>
          <p:nvSpPr>
            <p:cNvPr id="135" name="Text Box 25"/>
            <p:cNvSpPr/>
            <p:nvPr/>
          </p:nvSpPr>
          <p:spPr>
            <a:xfrm>
              <a:off x="6300720" y="443700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Schoolkinderen gehersenspoeld met Nazi-ideologie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>
              <a:off x="7596000" y="53737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" name="Group 27"/>
          <p:cNvGrpSpPr/>
          <p:nvPr/>
        </p:nvGrpSpPr>
        <p:grpSpPr>
          <a:xfrm>
            <a:off x="898560" y="1123920"/>
            <a:ext cx="2420640" cy="1190160"/>
            <a:chOff x="898560" y="1123920"/>
            <a:chExt cx="2420640" cy="1190160"/>
          </a:xfrm>
        </p:grpSpPr>
        <p:sp>
          <p:nvSpPr>
            <p:cNvPr id="138" name="Line 28"/>
            <p:cNvSpPr/>
            <p:nvPr/>
          </p:nvSpPr>
          <p:spPr>
            <a:xfrm flipH="1" flipV="1">
              <a:off x="2124000" y="1484640"/>
              <a:ext cx="1195200" cy="82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9" name="Group 29"/>
            <p:cNvGrpSpPr/>
            <p:nvPr/>
          </p:nvGrpSpPr>
          <p:grpSpPr>
            <a:xfrm>
              <a:off x="898560" y="1123920"/>
              <a:ext cx="1584720" cy="905400"/>
              <a:chOff x="898560" y="1123920"/>
              <a:chExt cx="1584720" cy="905400"/>
            </a:xfrm>
          </p:grpSpPr>
          <p:sp>
            <p:nvSpPr>
              <p:cNvPr id="140" name="Text Box 30"/>
              <p:cNvSpPr/>
              <p:nvPr/>
            </p:nvSpPr>
            <p:spPr>
              <a:xfrm>
                <a:off x="898560" y="1123920"/>
                <a:ext cx="158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Terreur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Line 31"/>
              <p:cNvSpPr/>
              <p:nvPr/>
            </p:nvSpPr>
            <p:spPr>
              <a:xfrm>
                <a:off x="1547640" y="1771920"/>
                <a:ext cx="0" cy="257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2" name="Group 32"/>
          <p:cNvGrpSpPr/>
          <p:nvPr/>
        </p:nvGrpSpPr>
        <p:grpSpPr>
          <a:xfrm>
            <a:off x="250920" y="2060640"/>
            <a:ext cx="2590560" cy="1675800"/>
            <a:chOff x="250920" y="2060640"/>
            <a:chExt cx="2590560" cy="1675800"/>
          </a:xfrm>
        </p:grpSpPr>
        <p:sp>
          <p:nvSpPr>
            <p:cNvPr id="143" name="Text Box 33"/>
            <p:cNvSpPr/>
            <p:nvPr/>
          </p:nvSpPr>
          <p:spPr>
            <a:xfrm>
              <a:off x="250920" y="2060640"/>
              <a:ext cx="25905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Geheime Politie (Gestapo) bespioneerde en arresteerde staatsvijand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1545840" y="3355920"/>
              <a:ext cx="0" cy="380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5" name="Group 35"/>
          <p:cNvGrpSpPr/>
          <p:nvPr/>
        </p:nvGrpSpPr>
        <p:grpSpPr>
          <a:xfrm>
            <a:off x="228600" y="3581280"/>
            <a:ext cx="2514600" cy="1371600"/>
            <a:chOff x="228600" y="3581280"/>
            <a:chExt cx="2514600" cy="1371600"/>
          </a:xfrm>
        </p:grpSpPr>
        <p:sp>
          <p:nvSpPr>
            <p:cNvPr id="146" name="Text Box 36"/>
            <p:cNvSpPr/>
            <p:nvPr/>
          </p:nvSpPr>
          <p:spPr>
            <a:xfrm>
              <a:off x="228600" y="3581280"/>
              <a:ext cx="251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De SS runde concentratiekamp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37"/>
            <p:cNvSpPr/>
            <p:nvPr/>
          </p:nvSpPr>
          <p:spPr>
            <a:xfrm>
              <a:off x="1523880" y="44956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8" name="Group 38"/>
          <p:cNvGrpSpPr/>
          <p:nvPr/>
        </p:nvGrpSpPr>
        <p:grpSpPr>
          <a:xfrm>
            <a:off x="3708360" y="3141720"/>
            <a:ext cx="1828800" cy="990720"/>
            <a:chOff x="3708360" y="3141720"/>
            <a:chExt cx="1828800" cy="990720"/>
          </a:xfrm>
        </p:grpSpPr>
        <p:sp>
          <p:nvSpPr>
            <p:cNvPr id="149" name="Line 39"/>
            <p:cNvSpPr/>
            <p:nvPr/>
          </p:nvSpPr>
          <p:spPr>
            <a:xfrm>
              <a:off x="4622760" y="314172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Text Box 40"/>
            <p:cNvSpPr/>
            <p:nvPr/>
          </p:nvSpPr>
          <p:spPr>
            <a:xfrm>
              <a:off x="3708360" y="344664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Popularite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41"/>
            <p:cNvSpPr/>
            <p:nvPr/>
          </p:nvSpPr>
          <p:spPr>
            <a:xfrm>
              <a:off x="4622760" y="382752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" name="Text Box 42"/>
          <p:cNvSpPr/>
          <p:nvPr/>
        </p:nvSpPr>
        <p:spPr>
          <a:xfrm>
            <a:off x="3708360" y="6093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Ba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3" name="Group 49"/>
          <p:cNvGrpSpPr/>
          <p:nvPr/>
        </p:nvGrpSpPr>
        <p:grpSpPr>
          <a:xfrm>
            <a:off x="3419640" y="4941720"/>
            <a:ext cx="2361960" cy="990360"/>
            <a:chOff x="3419640" y="4941720"/>
            <a:chExt cx="2361960" cy="990360"/>
          </a:xfrm>
        </p:grpSpPr>
        <p:sp>
          <p:nvSpPr>
            <p:cNvPr id="154" name="Text Box 44"/>
            <p:cNvSpPr/>
            <p:nvPr/>
          </p:nvSpPr>
          <p:spPr>
            <a:xfrm>
              <a:off x="3419640" y="4941720"/>
              <a:ext cx="23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Zondebokken  aanwijzen (joden!) 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4638600" y="555120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6" name="Group 46"/>
          <p:cNvGrpSpPr/>
          <p:nvPr/>
        </p:nvGrpSpPr>
        <p:grpSpPr>
          <a:xfrm>
            <a:off x="3419640" y="4076640"/>
            <a:ext cx="2361960" cy="990720"/>
            <a:chOff x="3419640" y="4076640"/>
            <a:chExt cx="2361960" cy="990720"/>
          </a:xfrm>
        </p:grpSpPr>
        <p:sp>
          <p:nvSpPr>
            <p:cNvPr id="157" name="Text Box 47"/>
            <p:cNvSpPr/>
            <p:nvPr/>
          </p:nvSpPr>
          <p:spPr>
            <a:xfrm>
              <a:off x="3419640" y="4076640"/>
              <a:ext cx="23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</a:rPr>
                <a:t>Verdrag Versailles negeren.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48"/>
            <p:cNvSpPr/>
            <p:nvPr/>
          </p:nvSpPr>
          <p:spPr>
            <a:xfrm>
              <a:off x="4638600" y="4686480"/>
              <a:ext cx="0" cy="3808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nister van Propagan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deologie nazi’s overbrengen op bevol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Bestand:Bundesarchiv Bild 102-17049, Joseph Goebbels spricht.jpg"/>
          <p:cNvPicPr/>
          <p:nvPr/>
        </p:nvPicPr>
        <p:blipFill>
          <a:blip r:embed="rId2"/>
          <a:stretch/>
        </p:blipFill>
        <p:spPr>
          <a:xfrm>
            <a:off x="4932360" y="1844640"/>
            <a:ext cx="338472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229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nk (Vo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rkrade (jongenspensionaat Blijerhei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iversiteit Heidelbe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Twee boeken en toneelstukken: afgewezen (Joodse uitge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http://upload.wikimedia.org/wikipedia/commons/thumb/3/35/Bundesarchiv_Bild_146-1968-101-20A,_Joseph_Goebbels.jpg/264px-Bundesarchiv_Bild_146-1968-101-20A,_Joseph_Goebbels.jpg"/>
          <p:cNvPicPr/>
          <p:nvPr/>
        </p:nvPicPr>
        <p:blipFill>
          <a:blip r:embed="rId2"/>
          <a:stretch/>
        </p:blipFill>
        <p:spPr>
          <a:xfrm>
            <a:off x="5508720" y="1989000"/>
            <a:ext cx="32400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4316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gda Goebb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inderen: voornamen met H (van Hitl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tler's Henchmen - The Propagandist/Firebrand - Joseph Goebbels - YouT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Bestand:Bundesarchiv Bild 146-1978-086-03, Joseph Goebbels mit Familie.jpg"/>
          <p:cNvPicPr/>
          <p:nvPr/>
        </p:nvPicPr>
        <p:blipFill>
          <a:blip r:embed="rId2"/>
          <a:stretch/>
        </p:blipFill>
        <p:spPr>
          <a:xfrm>
            <a:off x="4449600" y="2421000"/>
            <a:ext cx="43927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Jozef Goebbels (1897 – 194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1943 ‘Wollt Ihr Den Totalen Krieg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oseph Goebbels:Total War Narration/Speech - YouTub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ffaire met Tsjechische Lida Baarova (Slavisch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Zelfmoord in Bun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t3.gstatic.com/images?q=tbn:ANd9GcRiYrfbyfSqzVPBI3oFM1yBHo5PrZpz9mzU0aPtp8htQVFnap-jDwnUjx__xw"/>
          <p:cNvPicPr/>
          <p:nvPr/>
        </p:nvPicPr>
        <p:blipFill>
          <a:blip r:embed="rId2"/>
          <a:stretch/>
        </p:blipFill>
        <p:spPr>
          <a:xfrm>
            <a:off x="4427640" y="1773360"/>
            <a:ext cx="3313080" cy="239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i.fanpix.net/images/orig/q/p/qpd15npeqsf2dp5f.jpg"/>
          <p:cNvPicPr/>
          <p:nvPr/>
        </p:nvPicPr>
        <p:blipFill>
          <a:blip r:embed="rId3"/>
          <a:stretch/>
        </p:blipFill>
        <p:spPr>
          <a:xfrm>
            <a:off x="6443640" y="3695760"/>
            <a:ext cx="23050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616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ww2gravestone.com/sites/default/files/uploads/sample5-dead-goebbels.jpg"/>
          <p:cNvPicPr/>
          <p:nvPr/>
        </p:nvPicPr>
        <p:blipFill>
          <a:blip r:embed="rId2"/>
          <a:stretch/>
        </p:blipFill>
        <p:spPr>
          <a:xfrm>
            <a:off x="3173400" y="476280"/>
            <a:ext cx="3809880" cy="292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1.bp.blogspot.com/-JScmQbnnri0/Td9RKVyIuwI/AAAAAAAAAG0/ugtmiZYhioY/s1600/goebbelschildren.jpg"/>
          <p:cNvPicPr/>
          <p:nvPr/>
        </p:nvPicPr>
        <p:blipFill>
          <a:blip r:embed="rId3"/>
          <a:stretch/>
        </p:blipFill>
        <p:spPr>
          <a:xfrm>
            <a:off x="241200" y="1911240"/>
            <a:ext cx="2257560" cy="297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achduthalev.com/wp-content/uploads/2010/11/dead-goebbels.jpg"/>
          <p:cNvPicPr/>
          <p:nvPr/>
        </p:nvPicPr>
        <p:blipFill>
          <a:blip r:embed="rId4"/>
          <a:stretch/>
        </p:blipFill>
        <p:spPr>
          <a:xfrm>
            <a:off x="4572000" y="3525840"/>
            <a:ext cx="4103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Perfectioneerde techniek vd ‘</a:t>
            </a:r>
            <a:r>
              <a:rPr b="0" lang="en-AU" sz="2400" spc="-1" strike="noStrike">
                <a:solidFill>
                  <a:srgbClr val="ff0000"/>
                </a:solidFill>
                <a:latin typeface="Verdana"/>
              </a:rPr>
              <a:t>Grote Leugen’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(als je die genoeg herhaalt geloven mensen j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rkt deze techniek tegenwoordig nog? Waar? Ho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4572000" y="1916280"/>
            <a:ext cx="428472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55640" y="609120"/>
            <a:ext cx="590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Krant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ensuu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Propaganda thema’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-735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Goebbel’s invlo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735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ista Harte</cp:lastModifiedBy>
  <dcterms:modified xsi:type="dcterms:W3CDTF">2014-12-07T08:46:06Z</dcterms:modified>
  <cp:revision>47</cp:revision>
  <dc:subject/>
  <dc:title>PowerPoint Presentation</dc:title>
</cp:coreProperties>
</file>