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E0B-951D-442A-8F58-4D52E9A9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516-C311-4F2B-8656-BAD43759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324-60EA-44DF-8D6B-8B8567D1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C88E-894E-42BC-9EE4-72B6B897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3F3E-EA5B-448C-8982-94A6F538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27B2-BD43-43AA-BD9D-3228AE4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7E06-EDB2-4ED8-8C85-53A4F73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FB6-64DD-4121-9E7E-EB45E068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EE6-E076-4246-B566-A3A9C620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E18-04CD-40C9-A8A8-C9EFEB55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4EF2-8E9E-4ACA-B89C-F49A433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F91-EB8D-42E8-A8FC-11835F49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3343-04E0-4B6B-808D-9DDF271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AA9B-847E-48F8-B3C8-269C4C89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8340-A262-46FE-B681-62C4614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CE6-C612-4B46-9C79-04DDF174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BB3F-0CD8-41E2-89D8-FE80DD09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91A5-5C05-4762-9965-40386524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6870-6683-4201-82B8-937C13C6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72260-9BD9-4A8E-81FB-8F973DEE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1AE98-D556-4331-81A8-CEF5C711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3CFB-0572-4FB2-AE6B-F9594A07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4AD-F97B-4049-891E-B5F121CB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381C-A703-4BE4-9B31-33F9654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77B7-648C-49D8-AA3E-C3067273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0ABD-8E98-4379-9E89-EB4BC525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D0514-50A9-4941-B823-3168134C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CC69-96D0-4CEE-B9BD-E0D20D6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D681C-7E11-4DE7-9B65-69718FFA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C190-7CB0-4D22-9033-933BCA8E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6574-365D-4B6C-B7AE-92128374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5E95-E861-4D67-B0CC-7D199F3D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2FF77-6EF6-4995-BD0F-D8853979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ABD-7D47-40A4-85A1-1B6563B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7691B-77AA-4D63-AE9B-5FF26194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548F1-78A1-4F09-8B8D-1EACF31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916B-54DB-4738-9B45-497355E1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C537F-FFF5-4117-B1F2-6EAA3B6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16960-583A-4E48-B4E4-3F07A78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4EABA-0923-4661-8380-D476938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6DACE-31FA-47C4-99D5-D3078E10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9FE0-2B4B-48CB-885F-26DC616C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17199-81C1-4FB3-B826-A55B3C25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BD3A6-2761-4F8F-8460-B0A300A1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D3D2-A7F2-48DF-999A-8879BC8F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A252-81ED-48D8-8E58-036C3892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FFBB-EA05-4769-B7AC-3FA7371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12E5-6F7B-475B-870E-C02CE2D6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8E71-4725-44C8-A911-1F4AD1E2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A2C47-8F82-4922-A85A-98857AD3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931B3-273F-4B3A-94F8-98B3AA17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BDBD6-1702-44BE-A2AD-F1B32C9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A12F-4AC4-466F-8920-F13889F7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EB3FB-41DA-46A0-B3A4-B9F32D7C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D02CB-250E-42B8-ABD8-72C00232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56D-7D56-4EA5-8B1B-78ECCAD2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68BC-FBB8-47AF-8AA3-DDD690BF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B62-399F-4D54-A40D-DCA795A9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334-2302-4779-A924-2EFEA39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694-7FBB-4536-820A-2766FF8C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70C0-7DFA-44B7-9882-1EC10C25BFA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F2A-9B4F-4E77-B128-4A79547EC58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1430-6341-48E7-A5F0-290569DC320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4CA6-E78A-402C-85FC-852007AB73D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8767-6507-4D5D-895C-02FB551379C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toen.nu/media/38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H3.3 NEDERLAND TIJDENS DE DUITSE BEZETTING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0" name="Picture 5" descr="Duitsers op het Binnenhof tijdens de Tweede Wereldoorlog."/>
          <p:cNvPicPr/>
          <p:nvPr/>
        </p:nvPicPr>
        <p:blipFill>
          <a:blip r:embed="rId1"/>
          <a:stretch/>
        </p:blipFill>
        <p:spPr>
          <a:xfrm>
            <a:off x="324000" y="2060640"/>
            <a:ext cx="4316400" cy="3240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http://www.auschwitz.nl/beeld/holocaust/5_A81-12.jpg"/>
          <p:cNvPicPr/>
          <p:nvPr/>
        </p:nvPicPr>
        <p:blipFill>
          <a:blip r:embed="rId2"/>
          <a:stretch/>
        </p:blipFill>
        <p:spPr>
          <a:xfrm>
            <a:off x="4932360" y="3068640"/>
            <a:ext cx="380988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0 Mei 1940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0 Mei 1940: aanval op Nederland als onderdeel van de Blitzkrieg op West-Europa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4 mei 1940: bombardement op Rotterdam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15 mei 1940: Nederland capituleert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Koningin en regering vluchten naar Enge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Achtergebleven bestuurders hebben opdracht ‘in belang van volk’ met de ‘nieuwe gezagsdragers’ samen te werken’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24" name="Groep 7"/>
          <p:cNvGrpSpPr/>
          <p:nvPr/>
        </p:nvGrpSpPr>
        <p:grpSpPr>
          <a:xfrm>
            <a:off x="324000" y="1197000"/>
            <a:ext cx="8191440" cy="5500080"/>
            <a:chOff x="324000" y="1197000"/>
            <a:chExt cx="8191440" cy="5500080"/>
          </a:xfrm>
        </p:grpSpPr>
        <p:pic>
          <p:nvPicPr>
            <p:cNvPr id="225" name="Picture 5" descr="http://www.lewisiana.nl/arendsmilde/foto%27s1940-45/Rotterdam%20mei%201940%201.jpg"/>
            <p:cNvPicPr/>
            <p:nvPr/>
          </p:nvPicPr>
          <p:blipFill>
            <a:blip r:embed="rId1"/>
            <a:stretch/>
          </p:blipFill>
          <p:spPr>
            <a:xfrm>
              <a:off x="324000" y="1197000"/>
              <a:ext cx="819144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kstvak 6"/>
            <p:cNvSpPr/>
            <p:nvPr/>
          </p:nvSpPr>
          <p:spPr>
            <a:xfrm>
              <a:off x="2142000" y="6237360"/>
              <a:ext cx="3210480" cy="45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2400" spc="-1" strike="noStrike">
                  <a:solidFill>
                    <a:srgbClr val="292934"/>
                  </a:solidFill>
                  <a:latin typeface="Arial"/>
                </a:rPr>
                <a:t>Brandend Rotterdam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Regering in ballingschap (Londen)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Koningin Wilhelmina symbool van het verzet in Nederland, mede dankzij toespraken voor Radio Oranje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Picture 5" descr="http://blogs.rnw.nl/wereldkids/files/2009/04/080504_wo2_radiooranje.jpg"/>
          <p:cNvPicPr/>
          <p:nvPr/>
        </p:nvPicPr>
        <p:blipFill>
          <a:blip r:embed="rId1"/>
          <a:stretch/>
        </p:blipFill>
        <p:spPr>
          <a:xfrm>
            <a:off x="2484360" y="1628640"/>
            <a:ext cx="40482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erloop Duitse bezetting van Nederland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81040" y="15123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34"/>
                </a:solidFill>
                <a:latin typeface="Arial"/>
              </a:rPr>
              <a:t>Eerste fase: 1940-1942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 bestuur (o.l.v. Seyss-Inquart) behandelt Nederlanders ‘met fluwelen handschoen’: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Reden: Nazi’s proberen ‘Germaans broedervolk’ aan Duitse kant te krijgen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aarom ook geen militair bestuur zoals in België en Frankrijk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Houding meeste Nederlanders: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Aanpassen aan nieuwe situatie (</a:t>
            </a:r>
            <a:r>
              <a:rPr b="0" i="1" lang="nl-NL" sz="1600" spc="-1" strike="noStrike">
                <a:solidFill>
                  <a:srgbClr val="292934"/>
                </a:solidFill>
                <a:latin typeface="Arial"/>
              </a:rPr>
              <a:t>accommodatie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Sommigen collaboreren (werken samen): NSB o.l.v. Mussert groei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lnSpc>
                <a:spcPct val="80000"/>
              </a:lnSpc>
              <a:spcBef>
                <a:spcPts val="400"/>
              </a:spcBef>
              <a:buClr>
                <a:srgbClr val="93a2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Nauwelijks verzet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In 1941: strenger Duits optred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NSB enige politiek partij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Duitsers controleren vakbonden, kunst, pers, onderwijs en jeugdorganisaties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5" descr="http://www.annefrankguide.net/nl-NL/content/NSBaffiche2-b-foto.jpg"/>
          <p:cNvPicPr/>
          <p:nvPr/>
        </p:nvPicPr>
        <p:blipFill>
          <a:blip r:embed="rId1"/>
          <a:stretch/>
        </p:blipFill>
        <p:spPr>
          <a:xfrm>
            <a:off x="6443640" y="2108160"/>
            <a:ext cx="2649600" cy="3882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Tweede Wereldoorlo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66720"/>
            <a:ext cx="494352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Tekstvak 7"/>
          <p:cNvSpPr/>
          <p:nvPr/>
        </p:nvSpPr>
        <p:spPr>
          <a:xfrm>
            <a:off x="349560" y="6381720"/>
            <a:ext cx="46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Seyss-Inquart spreekt NSB-bijeenkomst toe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Picture 9" descr="http://www.bs-prisma.nl/lessen/geschiedenis/groep8/thema3/Mussert2.jpg"/>
          <p:cNvPicPr/>
          <p:nvPr/>
        </p:nvPicPr>
        <p:blipFill>
          <a:blip r:embed="rId4"/>
          <a:stretch/>
        </p:blipFill>
        <p:spPr>
          <a:xfrm>
            <a:off x="2614680" y="633240"/>
            <a:ext cx="416232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Tekstvak 9"/>
          <p:cNvSpPr/>
          <p:nvPr/>
        </p:nvSpPr>
        <p:spPr>
          <a:xfrm>
            <a:off x="3286440" y="5373720"/>
            <a:ext cx="2818800" cy="3682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NSB-leider Anton Musser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2533c"/>
                </a:solidFill>
                <a:latin typeface="Arial"/>
              </a:rPr>
              <a:t>Vroeg verzet: </a:t>
            </a:r>
            <a:r>
              <a:rPr b="0" lang="nl-NL" sz="2900" spc="-1" strike="noStrike">
                <a:solidFill>
                  <a:srgbClr val="d2533c"/>
                </a:solidFill>
                <a:latin typeface="Arial"/>
              </a:rPr>
              <a:t>februaristaking 1941</a:t>
            </a:r>
            <a:endParaRPr b="0" lang="en-US" sz="29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5589360"/>
            <a:ext cx="81010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Solidariteit arbeiders met Joden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76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92934"/>
                </a:solidFill>
                <a:latin typeface="Arial"/>
              </a:rPr>
              <a:t>Bijzonder: enige grootschalige demonstratie door niet-joden in West-Europa</a:t>
            </a:r>
            <a:endParaRPr b="0" lang="en-US" sz="19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92934"/>
                </a:solidFill>
                <a:latin typeface="Arial"/>
              </a:rPr>
              <a:t>Duitsers onderdrukken staking met geweld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55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9" name="Picture 5" descr="http://www.verzetsmuseum.org/binaries/achter_de_iconen/februaristaking/razzia_j_d_370.jpg"/>
          <p:cNvPicPr/>
          <p:nvPr/>
        </p:nvPicPr>
        <p:blipFill>
          <a:blip r:embed="rId1"/>
          <a:stretch/>
        </p:blipFill>
        <p:spPr>
          <a:xfrm>
            <a:off x="395280" y="1557360"/>
            <a:ext cx="3524400" cy="3009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http://virtueletochten.noord-hollandsarchief.nl/content/image/images/custom/184.gif"/>
          <p:cNvPicPr/>
          <p:nvPr/>
        </p:nvPicPr>
        <p:blipFill>
          <a:blip r:embed="rId2"/>
          <a:stretch/>
        </p:blipFill>
        <p:spPr>
          <a:xfrm>
            <a:off x="4464000" y="0"/>
            <a:ext cx="4680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Jodenvervolging in Nederland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0-1941: burgerrechten joden ontnomen en steeds meer geïsolee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Bv. Beroeps- en uitgaansverboden / dragen jodenster / oprichting jodenwijk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1942-1943:vrijwel alle joden via kamp Westerbork en Vught naar Auschwitz en Sobibor getransporteerd en vermoor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lechts enkelen weten door onderduik (met steun van Nederlands verzet) de oorlog te overlev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3" name="Picture 5" descr="http://www.nrc.nl/multimedia/dynamic/00042/westerbork_42518e.jpg"/>
          <p:cNvPicPr/>
          <p:nvPr/>
        </p:nvPicPr>
        <p:blipFill>
          <a:blip r:embed="rId1"/>
          <a:stretch/>
        </p:blipFill>
        <p:spPr>
          <a:xfrm>
            <a:off x="2556000" y="2421000"/>
            <a:ext cx="4257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d2533c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 fase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1943-1944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Duitsers treden harder op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Verplichte tewerkstelling mannen i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Steeds meer schaarste aan goederen wegens leveringen aan Duitsland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5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34"/>
                </a:solidFill>
                <a:latin typeface="Arial"/>
              </a:rPr>
              <a:t>Gevolg: (Lichte) groei verz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Laatste fase: 1944-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Na invasie in Normandië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juni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en slag bij Arnhem </a:t>
            </a:r>
            <a:r>
              <a:rPr b="0" lang="nl-NL" sz="1600" spc="-1" strike="noStrike">
                <a:solidFill>
                  <a:srgbClr val="292934"/>
                </a:solidFill>
                <a:latin typeface="Arial"/>
              </a:rPr>
              <a:t>(september 1944)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 komt Nederland in de frontlinie te liggen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Gevolg: grote delen Zeeland, Limburg en rivierengebied lijden onder oorlogsgewel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Noord-Nederland blijft bezet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Wegens spoorwegstaking (uitgeroepen door regering in Londen) grote schaarste aan voedsel en brandstof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Gevolg: </a:t>
            </a:r>
            <a:r>
              <a:rPr b="0" lang="nl-NL" sz="2800" spc="-1" strike="noStrike">
                <a:solidFill>
                  <a:srgbClr val="292934"/>
                </a:solidFill>
                <a:latin typeface="Arial"/>
              </a:rPr>
              <a:t>Hongerwinter</a:t>
            </a:r>
            <a:r>
              <a:rPr b="0" lang="nl-NL" sz="2000" spc="-1" strike="noStrike">
                <a:solidFill>
                  <a:srgbClr val="292934"/>
                </a:solidFill>
                <a:latin typeface="Arial"/>
              </a:rPr>
              <a:t>: tienduizenden slachtoffers, vooral in de steden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8" name="Picture 5" descr="Een hongerend jongetje in Amsterdam 1944-45"/>
          <p:cNvPicPr/>
          <p:nvPr/>
        </p:nvPicPr>
        <p:blipFill>
          <a:blip r:embed="rId1"/>
          <a:stretch/>
        </p:blipFill>
        <p:spPr>
          <a:xfrm>
            <a:off x="6227640" y="2852640"/>
            <a:ext cx="2524320" cy="3286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ttp://xtbuy.com/image/album/D+Day/photo-D-Day.jpg"/>
          <p:cNvPicPr/>
          <p:nvPr/>
        </p:nvPicPr>
        <p:blipFill>
          <a:blip r:embed="rId2"/>
          <a:stretch/>
        </p:blipFill>
        <p:spPr>
          <a:xfrm>
            <a:off x="755640" y="1557360"/>
            <a:ext cx="476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2533c"/>
                </a:solidFill>
                <a:latin typeface="Arial"/>
              </a:rPr>
              <a:t>Mei 1945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95280" y="414936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Bevrijding van Noorden en Westen van Nederland door Canadezen en Engelse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34"/>
                </a:solidFill>
                <a:latin typeface="Arial"/>
              </a:rPr>
              <a:t>5 mei 1945: capitulatie Duitse leger in Nederland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5" descr="http://sgpdirksland.files.wordpress.com/2010/03/bevrijding.jpg"/>
          <p:cNvPicPr/>
          <p:nvPr/>
        </p:nvPicPr>
        <p:blipFill>
          <a:blip r:embed="rId1"/>
          <a:stretch/>
        </p:blipFill>
        <p:spPr>
          <a:xfrm>
            <a:off x="324000" y="1052640"/>
            <a:ext cx="4095720" cy="3047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http://familieclausman.nl/afbeeldingen/bevrijding.jpg"/>
          <p:cNvPicPr/>
          <p:nvPr/>
        </p:nvPicPr>
        <p:blipFill>
          <a:blip r:embed="rId2"/>
          <a:stretch/>
        </p:blipFill>
        <p:spPr>
          <a:xfrm>
            <a:off x="4643280" y="1197000"/>
            <a:ext cx="4256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8T08:34:11Z</dcterms:created>
  <dc:creator>Damstede</dc:creator>
  <dc:description/>
  <dc:language>en-US</dc:language>
  <cp:lastModifiedBy>WINDOWSXP</cp:lastModifiedBy>
  <dcterms:modified xsi:type="dcterms:W3CDTF">2011-12-20T08:57:06Z</dcterms:modified>
  <cp:revision>8</cp:revision>
  <dc:subject/>
  <dc:title>9§7 duitse bezetting van Nederland</dc:title>
</cp:coreProperties>
</file>