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4.png" ContentType="image/png"/>
  <Override PartName="/ppt/media/image1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6E54-8269-4F1E-BD30-0505EBE577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2C35-4F84-4A9B-8A94-8FAFC92ABA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E4AF-A513-4817-B9BD-118F274FA1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6031-9FBC-4E58-863F-1121147581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226C-6699-4C52-8193-885AEC1473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6490-0F2C-460E-A1C5-8B14473609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FD76-BBDD-4CBD-A035-CF7D04EDFE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1203-E3E6-48CD-912C-09FE4800BE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44D1-9D36-432F-B68E-ED83406EAC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0F33-58E8-48F3-87A9-4803AE11C2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5A8E-AC51-4FFB-9EA1-FCE86D4DDA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195C-7459-4721-972D-D9EE81D489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F04F-E637-4D65-9A15-0BED37D47D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008A-CD7C-4C8E-9FA8-F85FDFE1BF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43BB-C9C1-43A0-B846-E8C967AD59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C223-92A0-4AC8-84FB-9C43255F42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91E0-7FC3-4347-ADA5-46493199F9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32B8-A4BC-476E-AD56-45C36A0FE9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F3CF-5B3C-4C68-8FCD-AFFA0E43E0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71A1-6F58-45AA-B75C-BADF691EEF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272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555640" y="609120"/>
            <a:ext cx="590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7" descr="germswas"/>
          <p:cNvPicPr/>
          <p:nvPr/>
        </p:nvPicPr>
        <p:blipFill>
          <a:blip r:embed="rId2"/>
          <a:stretch/>
        </p:blipFill>
        <p:spPr>
          <a:xfrm>
            <a:off x="826920" y="765000"/>
            <a:ext cx="158436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Text Box 8"/>
          <p:cNvSpPr/>
          <p:nvPr/>
        </p:nvSpPr>
        <p:spPr>
          <a:xfrm>
            <a:off x="755640" y="40464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FetteFraktur"/>
                <a:ea typeface="바탕"/>
              </a:rPr>
              <a:t>Propagan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556000" y="6922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Nazi Propagand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5" descr="http://static2.akpool.de/images/cards/8/83864.jpg"/>
          <p:cNvPicPr/>
          <p:nvPr/>
        </p:nvPicPr>
        <p:blipFill>
          <a:blip r:embed="rId1"/>
          <a:stretch/>
        </p:blipFill>
        <p:spPr>
          <a:xfrm>
            <a:off x="250920" y="1982880"/>
            <a:ext cx="4208400" cy="2741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http://static3.akpool.de/images/cards/6/61594.jpg"/>
          <p:cNvPicPr/>
          <p:nvPr/>
        </p:nvPicPr>
        <p:blipFill>
          <a:blip r:embed="rId2"/>
          <a:stretch/>
        </p:blipFill>
        <p:spPr>
          <a:xfrm>
            <a:off x="4572000" y="3789360"/>
            <a:ext cx="42624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633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Propaganda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thema’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ti-Semitism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nti-Joo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litarism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uniformen; le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ationalism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trots op Duitslan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uperioriteit Arische 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uhrer-myth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Hitler middelpunt natie; goddelijk-figuu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ditionele Duitse</a:t>
            </a: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‘Volkscultuur’’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osters - goedkoop &amp; eenvoudig te versprei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Zichtbaarheid in de stra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oortdurende herinnering aan nazi ideolo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Picture 9" descr="kauft"/>
          <p:cNvPicPr/>
          <p:nvPr/>
        </p:nvPicPr>
        <p:blipFill>
          <a:blip r:embed="rId1"/>
          <a:stretch/>
        </p:blipFill>
        <p:spPr>
          <a:xfrm>
            <a:off x="1187280" y="1989000"/>
            <a:ext cx="31276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916360" y="54936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oorbeelden Nazi Po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0" descr="http://www.glogster.com/media/4/23/56/31/23563114.jpg"/>
          <p:cNvPicPr/>
          <p:nvPr/>
        </p:nvPicPr>
        <p:blipFill>
          <a:blip r:embed="rId1"/>
          <a:stretch/>
        </p:blipFill>
        <p:spPr>
          <a:xfrm>
            <a:off x="179280" y="2133720"/>
            <a:ext cx="2765520" cy="3959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http://www.newthinktank.com/wp-content/uploads/2011/08/gwwii037.jpg"/>
          <p:cNvPicPr/>
          <p:nvPr/>
        </p:nvPicPr>
        <p:blipFill>
          <a:blip r:embed="rId2"/>
          <a:stretch/>
        </p:blipFill>
        <p:spPr>
          <a:xfrm>
            <a:off x="3132000" y="2133720"/>
            <a:ext cx="2819520" cy="3949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http://ww2today.com/wp-content/uploads/2010/11/Poster-for-Eternal-Jew-Ewiger-Jude.jpg"/>
          <p:cNvPicPr/>
          <p:nvPr/>
        </p:nvPicPr>
        <p:blipFill>
          <a:blip r:embed="rId3"/>
          <a:stretch/>
        </p:blipFill>
        <p:spPr>
          <a:xfrm>
            <a:off x="6012000" y="2133720"/>
            <a:ext cx="29462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http://www.militaryimages.net/photopost/data/675/44Nazi_erwacht.jpg"/>
          <p:cNvPicPr/>
          <p:nvPr/>
        </p:nvPicPr>
        <p:blipFill>
          <a:blip r:embed="rId1"/>
          <a:stretch/>
        </p:blipFill>
        <p:spPr>
          <a:xfrm>
            <a:off x="4859280" y="476280"/>
            <a:ext cx="3889440" cy="5823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media.brainz.org/uploads/2010/12/poster-leader-we-follow-you.jpg"/>
          <p:cNvPicPr/>
          <p:nvPr/>
        </p:nvPicPr>
        <p:blipFill>
          <a:blip r:embed="rId2"/>
          <a:stretch/>
        </p:blipFill>
        <p:spPr>
          <a:xfrm>
            <a:off x="179280" y="404640"/>
            <a:ext cx="41436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propaganda 1932 election2"/>
          <p:cNvPicPr/>
          <p:nvPr/>
        </p:nvPicPr>
        <p:blipFill>
          <a:blip r:embed="rId1"/>
          <a:stretch/>
        </p:blipFill>
        <p:spPr>
          <a:xfrm>
            <a:off x="4716360" y="620640"/>
            <a:ext cx="3889440" cy="5459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http://adamcathcart.files.wordpress.com/2009/08/enthanasiepropaganda.jpg?w=431&amp;h=550"/>
          <p:cNvPicPr/>
          <p:nvPr/>
        </p:nvPicPr>
        <p:blipFill>
          <a:blip r:embed="rId2"/>
          <a:stretch/>
        </p:blipFill>
        <p:spPr>
          <a:xfrm>
            <a:off x="250920" y="620640"/>
            <a:ext cx="410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82640" y="647280"/>
            <a:ext cx="58496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ad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514600" y="32004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4067280" y="1600200"/>
            <a:ext cx="482580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oedkope “Volksempfänger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een Duitse zen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932-39 van 25% to 70% radiobezi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ezichthouders hielden bij hoe het volk reageerde op uitzendi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13" descr=""/>
          <p:cNvPicPr/>
          <p:nvPr/>
        </p:nvPicPr>
        <p:blipFill>
          <a:blip r:embed="rId1"/>
          <a:stretch/>
        </p:blipFill>
        <p:spPr>
          <a:xfrm>
            <a:off x="457200" y="1989000"/>
            <a:ext cx="32338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685800" y="1523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azi Fil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14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4248000" cy="3213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59280" y="170028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sitief beeld Hitler + Nazi ideologi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cripts vermaaksfilms goedgekeurd door nazi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ioscoopbezoek verviervoudigde tussen 1933 en19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oorprogramma: nazi fil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739800" y="5670720"/>
            <a:ext cx="7424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934 –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Triumph Des Willens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azi partijdag Neurenberg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eni Riefenstah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http://m.blog.hu/ki/kinetograf/image/trium.jpg"/>
          <p:cNvPicPr/>
          <p:nvPr/>
        </p:nvPicPr>
        <p:blipFill>
          <a:blip r:embed="rId1"/>
          <a:stretch/>
        </p:blipFill>
        <p:spPr>
          <a:xfrm>
            <a:off x="2411280" y="1268280"/>
            <a:ext cx="6438960" cy="4314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http://productimages.wehkamp.nl/is/image/Wehkamp/141612_pb_01/2009artikelDetailVisualLandscape/triumph-des-willens-(dvd).jpg"/>
          <p:cNvPicPr/>
          <p:nvPr/>
        </p:nvPicPr>
        <p:blipFill>
          <a:blip r:embed="rId2"/>
          <a:stretch/>
        </p:blipFill>
        <p:spPr>
          <a:xfrm>
            <a:off x="0" y="0"/>
            <a:ext cx="32288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ran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93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4.700 dagbla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% in handen NSD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944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997 dagblade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82% in handen NSD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3692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65440" y="647280"/>
            <a:ext cx="48672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Censuu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6584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10 Mei 1933: boekverbranding in Berlij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vallen in openbare bibliothe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erbrandde boeken: Joods, socialistisch, pacifistis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5" descr="Book-burning-Nazi-Germany200"/>
          <p:cNvPicPr/>
          <p:nvPr/>
        </p:nvPicPr>
        <p:blipFill>
          <a:blip r:embed="rId1"/>
          <a:stretch/>
        </p:blipFill>
        <p:spPr>
          <a:xfrm>
            <a:off x="5724360" y="2060640"/>
            <a:ext cx="3251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ropag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clame voor politieke partij of politiek idea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 bevolking wordt </a:t>
            </a:r>
            <a:r>
              <a:rPr b="0" i="1" lang="en-GB" sz="2800" spc="-1" strike="noStrike">
                <a:solidFill>
                  <a:srgbClr val="ff0000"/>
                </a:solidFill>
                <a:latin typeface="Verdana"/>
              </a:rPr>
              <a:t>gehersenspo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http://einestages.spiegel.de/hund-images/2007/10/08/85/1ecca20f4052d9b2f6200dc40cdf7520_image_document_large_featured_borderless.jpg"/>
          <p:cNvPicPr/>
          <p:nvPr/>
        </p:nvPicPr>
        <p:blipFill>
          <a:blip r:embed="rId2"/>
          <a:stretch/>
        </p:blipFill>
        <p:spPr>
          <a:xfrm>
            <a:off x="5148360" y="1628640"/>
            <a:ext cx="3333600" cy="4762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11320" y="647280"/>
            <a:ext cx="47023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ensu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erhinderde dat andere ideeën bekend we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s er tegenwoordig nog censuu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845080" y="5029200"/>
            <a:ext cx="383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2002, China boyc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de zoekmachine Googl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Waaro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ensu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Goebbels’ doel:  verhinderen dat men dingen zag, hoorde of las die vijandig of schadelijk voor de Nazi’s wa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erkte samen met SS &amp; Gestapo om dit te berei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Verdana"/>
              </a:rPr>
              <a:t>Wat was het aandeel van de SS / Gestapo d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1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Duitsland onder Hitler: een totalitaire staa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8" name="Group 8"/>
          <p:cNvGrpSpPr/>
          <p:nvPr/>
        </p:nvGrpSpPr>
        <p:grpSpPr>
          <a:xfrm>
            <a:off x="3132000" y="1413000"/>
            <a:ext cx="2895480" cy="1904760"/>
            <a:chOff x="3132000" y="1413000"/>
            <a:chExt cx="2895480" cy="1904760"/>
          </a:xfrm>
        </p:grpSpPr>
        <p:sp>
          <p:nvSpPr>
            <p:cNvPr id="119" name="Oval 9"/>
            <p:cNvSpPr/>
            <p:nvPr/>
          </p:nvSpPr>
          <p:spPr>
            <a:xfrm>
              <a:off x="3132000" y="1413000"/>
              <a:ext cx="2895480" cy="1904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Text Box 10"/>
            <p:cNvSpPr/>
            <p:nvPr/>
          </p:nvSpPr>
          <p:spPr>
            <a:xfrm>
              <a:off x="3635280" y="1699920"/>
              <a:ext cx="1905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Totalitaire staat: denken en doen beheerse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1" name="Text Box 11"/>
          <p:cNvSpPr/>
          <p:nvPr/>
        </p:nvSpPr>
        <p:spPr>
          <a:xfrm>
            <a:off x="152280" y="48769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ensen waren bang om in handen Gestapo of SS te vall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6300720" y="5805360"/>
            <a:ext cx="24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itler Jugend &amp; Bund Deutsche Mad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3" name="Group 13"/>
          <p:cNvGrpSpPr/>
          <p:nvPr/>
        </p:nvGrpSpPr>
        <p:grpSpPr>
          <a:xfrm>
            <a:off x="5580000" y="1123920"/>
            <a:ext cx="2962080" cy="1080720"/>
            <a:chOff x="5580000" y="1123920"/>
            <a:chExt cx="2962080" cy="1080720"/>
          </a:xfrm>
        </p:grpSpPr>
        <p:sp>
          <p:nvSpPr>
            <p:cNvPr id="124" name="Line 14"/>
            <p:cNvSpPr/>
            <p:nvPr/>
          </p:nvSpPr>
          <p:spPr>
            <a:xfrm flipV="1">
              <a:off x="5580000" y="1484280"/>
              <a:ext cx="1223640" cy="72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5" name="Group 15"/>
            <p:cNvGrpSpPr/>
            <p:nvPr/>
          </p:nvGrpSpPr>
          <p:grpSpPr>
            <a:xfrm>
              <a:off x="6732720" y="1123920"/>
              <a:ext cx="1809360" cy="752400"/>
              <a:chOff x="6732720" y="1123920"/>
              <a:chExt cx="1809360" cy="752400"/>
            </a:xfrm>
          </p:grpSpPr>
          <p:sp>
            <p:nvSpPr>
              <p:cNvPr id="126" name="Text Box 16"/>
              <p:cNvSpPr/>
              <p:nvPr/>
            </p:nvSpPr>
            <p:spPr>
              <a:xfrm>
                <a:off x="6732720" y="1123920"/>
                <a:ext cx="180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Propaganda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Line 17"/>
              <p:cNvSpPr/>
              <p:nvPr/>
            </p:nvSpPr>
            <p:spPr>
              <a:xfrm>
                <a:off x="7626240" y="1544400"/>
                <a:ext cx="0" cy="331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28" name="Group 18"/>
          <p:cNvGrpSpPr/>
          <p:nvPr/>
        </p:nvGrpSpPr>
        <p:grpSpPr>
          <a:xfrm>
            <a:off x="6372360" y="1916280"/>
            <a:ext cx="2590560" cy="1101600"/>
            <a:chOff x="6372360" y="1916280"/>
            <a:chExt cx="2590560" cy="1101600"/>
          </a:xfrm>
        </p:grpSpPr>
        <p:sp>
          <p:nvSpPr>
            <p:cNvPr id="129" name="Text Box 19"/>
            <p:cNvSpPr/>
            <p:nvPr/>
          </p:nvSpPr>
          <p:spPr>
            <a:xfrm>
              <a:off x="6372360" y="1916280"/>
              <a:ext cx="259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Massa bijeenkomsten, Posters en films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>
              <a:off x="7667280" y="263700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1" name="Group 21"/>
          <p:cNvGrpSpPr/>
          <p:nvPr/>
        </p:nvGrpSpPr>
        <p:grpSpPr>
          <a:xfrm>
            <a:off x="6227640" y="2997360"/>
            <a:ext cx="2590560" cy="1536120"/>
            <a:chOff x="6227640" y="2997360"/>
            <a:chExt cx="2590560" cy="1536120"/>
          </a:xfrm>
        </p:grpSpPr>
        <p:sp>
          <p:nvSpPr>
            <p:cNvPr id="132" name="Text Box 22"/>
            <p:cNvSpPr/>
            <p:nvPr/>
          </p:nvSpPr>
          <p:spPr>
            <a:xfrm>
              <a:off x="6227640" y="2997360"/>
              <a:ext cx="2590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Nazi’s censureerden en beheersten radio &amp; krante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Line 23"/>
            <p:cNvSpPr/>
            <p:nvPr/>
          </p:nvSpPr>
          <p:spPr>
            <a:xfrm>
              <a:off x="7596000" y="4076640"/>
              <a:ext cx="0" cy="456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4" name="Group 24"/>
          <p:cNvGrpSpPr/>
          <p:nvPr/>
        </p:nvGrpSpPr>
        <p:grpSpPr>
          <a:xfrm>
            <a:off x="6300720" y="4437000"/>
            <a:ext cx="2590560" cy="1317600"/>
            <a:chOff x="6300720" y="4437000"/>
            <a:chExt cx="2590560" cy="1317600"/>
          </a:xfrm>
        </p:grpSpPr>
        <p:sp>
          <p:nvSpPr>
            <p:cNvPr id="135" name="Text Box 25"/>
            <p:cNvSpPr/>
            <p:nvPr/>
          </p:nvSpPr>
          <p:spPr>
            <a:xfrm>
              <a:off x="6300720" y="4437000"/>
              <a:ext cx="2590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Schoolkinderen gehersenspoeld met Nazi-ideologie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6"/>
            <p:cNvSpPr/>
            <p:nvPr/>
          </p:nvSpPr>
          <p:spPr>
            <a:xfrm>
              <a:off x="7596000" y="53737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7" name="Group 27"/>
          <p:cNvGrpSpPr/>
          <p:nvPr/>
        </p:nvGrpSpPr>
        <p:grpSpPr>
          <a:xfrm>
            <a:off x="898560" y="1123920"/>
            <a:ext cx="2420640" cy="1190160"/>
            <a:chOff x="898560" y="1123920"/>
            <a:chExt cx="2420640" cy="1190160"/>
          </a:xfrm>
        </p:grpSpPr>
        <p:sp>
          <p:nvSpPr>
            <p:cNvPr id="138" name="Line 28"/>
            <p:cNvSpPr/>
            <p:nvPr/>
          </p:nvSpPr>
          <p:spPr>
            <a:xfrm flipH="1" flipV="1">
              <a:off x="2124000" y="1484640"/>
              <a:ext cx="1195200" cy="829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9" name="Group 29"/>
            <p:cNvGrpSpPr/>
            <p:nvPr/>
          </p:nvGrpSpPr>
          <p:grpSpPr>
            <a:xfrm>
              <a:off x="898560" y="1123920"/>
              <a:ext cx="1584720" cy="905400"/>
              <a:chOff x="898560" y="1123920"/>
              <a:chExt cx="1584720" cy="905400"/>
            </a:xfrm>
          </p:grpSpPr>
          <p:sp>
            <p:nvSpPr>
              <p:cNvPr id="140" name="Text Box 30"/>
              <p:cNvSpPr/>
              <p:nvPr/>
            </p:nvSpPr>
            <p:spPr>
              <a:xfrm>
                <a:off x="898560" y="1123920"/>
                <a:ext cx="158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Terreur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Line 31"/>
              <p:cNvSpPr/>
              <p:nvPr/>
            </p:nvSpPr>
            <p:spPr>
              <a:xfrm>
                <a:off x="1547640" y="1771920"/>
                <a:ext cx="0" cy="257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42" name="Group 32"/>
          <p:cNvGrpSpPr/>
          <p:nvPr/>
        </p:nvGrpSpPr>
        <p:grpSpPr>
          <a:xfrm>
            <a:off x="250920" y="2060640"/>
            <a:ext cx="2590560" cy="1675800"/>
            <a:chOff x="250920" y="2060640"/>
            <a:chExt cx="2590560" cy="1675800"/>
          </a:xfrm>
        </p:grpSpPr>
        <p:sp>
          <p:nvSpPr>
            <p:cNvPr id="143" name="Text Box 33"/>
            <p:cNvSpPr/>
            <p:nvPr/>
          </p:nvSpPr>
          <p:spPr>
            <a:xfrm>
              <a:off x="250920" y="2060640"/>
              <a:ext cx="25905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Geheime Politie (Gestapo) bespioneerde en arresteerde staatsvijanden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1545840" y="3355920"/>
              <a:ext cx="0" cy="380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5" name="Group 35"/>
          <p:cNvGrpSpPr/>
          <p:nvPr/>
        </p:nvGrpSpPr>
        <p:grpSpPr>
          <a:xfrm>
            <a:off x="228600" y="3581280"/>
            <a:ext cx="2514600" cy="1371600"/>
            <a:chOff x="228600" y="3581280"/>
            <a:chExt cx="2514600" cy="1371600"/>
          </a:xfrm>
        </p:grpSpPr>
        <p:sp>
          <p:nvSpPr>
            <p:cNvPr id="146" name="Text Box 36"/>
            <p:cNvSpPr/>
            <p:nvPr/>
          </p:nvSpPr>
          <p:spPr>
            <a:xfrm>
              <a:off x="228600" y="3581280"/>
              <a:ext cx="2514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De SS runde concentratiekampen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37"/>
            <p:cNvSpPr/>
            <p:nvPr/>
          </p:nvSpPr>
          <p:spPr>
            <a:xfrm>
              <a:off x="1523880" y="449568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8" name="Group 38"/>
          <p:cNvGrpSpPr/>
          <p:nvPr/>
        </p:nvGrpSpPr>
        <p:grpSpPr>
          <a:xfrm>
            <a:off x="3708360" y="3141720"/>
            <a:ext cx="1828800" cy="990720"/>
            <a:chOff x="3708360" y="3141720"/>
            <a:chExt cx="1828800" cy="990720"/>
          </a:xfrm>
        </p:grpSpPr>
        <p:sp>
          <p:nvSpPr>
            <p:cNvPr id="149" name="Line 39"/>
            <p:cNvSpPr/>
            <p:nvPr/>
          </p:nvSpPr>
          <p:spPr>
            <a:xfrm>
              <a:off x="4622760" y="31417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Text Box 40"/>
            <p:cNvSpPr/>
            <p:nvPr/>
          </p:nvSpPr>
          <p:spPr>
            <a:xfrm>
              <a:off x="3708360" y="344664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Popularite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41"/>
            <p:cNvSpPr/>
            <p:nvPr/>
          </p:nvSpPr>
          <p:spPr>
            <a:xfrm>
              <a:off x="4622760" y="382752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2" name="Text Box 42"/>
          <p:cNvSpPr/>
          <p:nvPr/>
        </p:nvSpPr>
        <p:spPr>
          <a:xfrm>
            <a:off x="3708360" y="6093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Ba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3" name="Group 49"/>
          <p:cNvGrpSpPr/>
          <p:nvPr/>
        </p:nvGrpSpPr>
        <p:grpSpPr>
          <a:xfrm>
            <a:off x="3419640" y="4941720"/>
            <a:ext cx="2361960" cy="990360"/>
            <a:chOff x="3419640" y="4941720"/>
            <a:chExt cx="2361960" cy="990360"/>
          </a:xfrm>
        </p:grpSpPr>
        <p:sp>
          <p:nvSpPr>
            <p:cNvPr id="154" name="Text Box 44"/>
            <p:cNvSpPr/>
            <p:nvPr/>
          </p:nvSpPr>
          <p:spPr>
            <a:xfrm>
              <a:off x="3419640" y="4941720"/>
              <a:ext cx="236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Zondebokken  aanwijzen (joden!) 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Line 45"/>
            <p:cNvSpPr/>
            <p:nvPr/>
          </p:nvSpPr>
          <p:spPr>
            <a:xfrm>
              <a:off x="4638600" y="555120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6" name="Group 46"/>
          <p:cNvGrpSpPr/>
          <p:nvPr/>
        </p:nvGrpSpPr>
        <p:grpSpPr>
          <a:xfrm>
            <a:off x="3419640" y="4076640"/>
            <a:ext cx="2361960" cy="990720"/>
            <a:chOff x="3419640" y="4076640"/>
            <a:chExt cx="2361960" cy="990720"/>
          </a:xfrm>
        </p:grpSpPr>
        <p:sp>
          <p:nvSpPr>
            <p:cNvPr id="157" name="Text Box 47"/>
            <p:cNvSpPr/>
            <p:nvPr/>
          </p:nvSpPr>
          <p:spPr>
            <a:xfrm>
              <a:off x="3419640" y="4076640"/>
              <a:ext cx="236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Verdrag Versailles negeren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Line 48"/>
            <p:cNvSpPr/>
            <p:nvPr/>
          </p:nvSpPr>
          <p:spPr>
            <a:xfrm>
              <a:off x="4638600" y="468648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ozef Goebbels (1897 – 194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nister van Propagan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deologie nazi’s overbrengen op bevol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Bestand:Bundesarchiv Bild 102-17049, Joseph Goebbels spricht.jpg"/>
          <p:cNvPicPr/>
          <p:nvPr/>
        </p:nvPicPr>
        <p:blipFill>
          <a:blip r:embed="rId2"/>
          <a:stretch/>
        </p:blipFill>
        <p:spPr>
          <a:xfrm>
            <a:off x="4932360" y="1844640"/>
            <a:ext cx="338472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ozef Goebbels (1897 – 194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229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nk (Vo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erkrade (jongenspensionaat Blijerhei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niversiteit Heidelbe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Twee boeken en toneelstukken: afgewezen (Joodse uitgev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http://upload.wikimedia.org/wikipedia/commons/thumb/3/35/Bundesarchiv_Bild_146-1968-101-20A,_Joseph_Goebbels.jpg/264px-Bundesarchiv_Bild_146-1968-101-20A,_Joseph_Goebbels.jpg"/>
          <p:cNvPicPr/>
          <p:nvPr/>
        </p:nvPicPr>
        <p:blipFill>
          <a:blip r:embed="rId2"/>
          <a:stretch/>
        </p:blipFill>
        <p:spPr>
          <a:xfrm>
            <a:off x="5508720" y="1989000"/>
            <a:ext cx="324000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ozef Goebbels (1897 – 194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4316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gda Goebb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inderen: voornamen met H (van Hitl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tler's Henchmen - The Propagandist/Firebrand - Joseph Goebbels - YouT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Bestand:Bundesarchiv Bild 146-1978-086-03, Joseph Goebbels mit Familie.jpg"/>
          <p:cNvPicPr/>
          <p:nvPr/>
        </p:nvPicPr>
        <p:blipFill>
          <a:blip r:embed="rId2"/>
          <a:stretch/>
        </p:blipFill>
        <p:spPr>
          <a:xfrm>
            <a:off x="4449600" y="2421000"/>
            <a:ext cx="43927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ozef Goebbels (1897 – 194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943 ‘Wollt Ihr Den Totalen Krieg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oseph Goebbels:Total War Narration/Speech - YouTub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ffaire met Tsjechische Lida Baarova (Slavisch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Zelfmoord in Bun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t3.gstatic.com/images?q=tbn:ANd9GcRiYrfbyfSqzVPBI3oFM1yBHo5PrZpz9mzU0aPtp8htQVFnap-jDwnUjx__xw"/>
          <p:cNvPicPr/>
          <p:nvPr/>
        </p:nvPicPr>
        <p:blipFill>
          <a:blip r:embed="rId2"/>
          <a:stretch/>
        </p:blipFill>
        <p:spPr>
          <a:xfrm>
            <a:off x="4427640" y="1773360"/>
            <a:ext cx="3313080" cy="2395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i.fanpix.net/images/orig/q/p/qpd15npeqsf2dp5f.jpg"/>
          <p:cNvPicPr/>
          <p:nvPr/>
        </p:nvPicPr>
        <p:blipFill>
          <a:blip r:embed="rId3"/>
          <a:stretch/>
        </p:blipFill>
        <p:spPr>
          <a:xfrm>
            <a:off x="6443640" y="3695760"/>
            <a:ext cx="2305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ww2gravestone.com/sites/default/files/uploads/sample5-dead-goebbels.jpg"/>
          <p:cNvPicPr/>
          <p:nvPr/>
        </p:nvPicPr>
        <p:blipFill>
          <a:blip r:embed="rId2"/>
          <a:stretch/>
        </p:blipFill>
        <p:spPr>
          <a:xfrm>
            <a:off x="3173400" y="476280"/>
            <a:ext cx="3809880" cy="2924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1.bp.blogspot.com/-JScmQbnnri0/Td9RKVyIuwI/AAAAAAAAAG0/ugtmiZYhioY/s1600/goebbelschildren.jpg"/>
          <p:cNvPicPr/>
          <p:nvPr/>
        </p:nvPicPr>
        <p:blipFill>
          <a:blip r:embed="rId3"/>
          <a:stretch/>
        </p:blipFill>
        <p:spPr>
          <a:xfrm>
            <a:off x="241200" y="1911240"/>
            <a:ext cx="2257560" cy="2979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http://achduthalev.com/wp-content/uploads/2010/11/dead-goebbels.jpg"/>
          <p:cNvPicPr/>
          <p:nvPr/>
        </p:nvPicPr>
        <p:blipFill>
          <a:blip r:embed="rId4"/>
          <a:stretch/>
        </p:blipFill>
        <p:spPr>
          <a:xfrm>
            <a:off x="4572000" y="3525840"/>
            <a:ext cx="41036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Goebb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Perfectioneerde techniek vd ‘</a:t>
            </a:r>
            <a:r>
              <a:rPr b="0" lang="en-AU" sz="2400" spc="-1" strike="noStrike">
                <a:solidFill>
                  <a:srgbClr val="ff0000"/>
                </a:solidFill>
                <a:latin typeface="Verdana"/>
              </a:rPr>
              <a:t>Grote Leugen’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(als je die genoeg herhaalt geloven mensen j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rkt deze techniek tegenwoordig nog? Waar? Ho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428472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azi Propag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Post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adi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Fil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Krant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ensuu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Propaganda thema’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Goebbel’s invlo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rista Harte</cp:lastModifiedBy>
  <dcterms:modified xsi:type="dcterms:W3CDTF">2014-12-07T08:46:06Z</dcterms:modified>
  <cp:revision>47</cp:revision>
  <dc:subject/>
  <dc:title>PowerPoint Presentation</dc:title>
</cp:coreProperties>
</file>