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A52-A176-429B-8468-83BBEFCB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386-4E8F-4072-BD09-6971E027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A20-7E0A-4ACB-A6EB-FF1EF08B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A05-3DD6-41C4-8C50-732EB34E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9C80-1D40-4A93-914E-08F2FDF1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370B-7705-4055-9A32-816128DA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9BDE-8F66-4E6F-BA59-0169E25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8B35-1CF6-419B-900F-F6BE53A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B7B1-36DA-4E5B-ACA9-A0E89644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0B9F-AE06-4230-9F75-73CA71FB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38C5-2444-447F-AC01-442856A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346-C269-4B0F-ADC1-D7A040D6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1F25-1885-4A68-8EE0-6B7052AD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0164-AB50-439B-9EC0-574F43F3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6D21-37B7-4123-A394-286A1A03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1521-4C6D-4DDB-B6E6-BD3726C1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6842-A30C-47AA-B0A1-BC17F841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87E6-08E9-4C47-9605-B02C885A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57D6-9EEB-4745-9E7C-A8A04A43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3497-B638-4DDF-982F-BC966503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418B8-BCD3-437F-9620-2F3D4657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01FB-C4D1-4D13-B419-D68E1B47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CF8-F8D2-4CAF-9FF3-B32A1EA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C73E-C19A-4F3F-BE38-D14DEFF1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98DD-18C5-401E-B8B3-1821BC1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3F87-559D-4C46-B130-4D614D96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3F787-EA05-4E7B-9348-2F12EE7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D896-D947-49E3-8A6E-D986B7AA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F10B-61A7-45C0-A0E2-7E88D761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467F-F639-491E-B154-63322FD5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3030-A648-45FD-89ED-2519AE44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7B57E-9DB3-45A6-832D-270549D3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DAEA-E087-44E9-B172-14CD031C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0B4-B303-404B-9546-084BDC32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653D-6807-47FD-896D-6FE92FAA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984C-5E0E-496B-B966-C7C4E307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3F68-A79C-418F-BAEA-A7A8CCFF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0E44-D16A-42BF-8816-324DA1AD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9E53-239B-4E6E-B209-AEFD670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CD89-3969-4D6A-81B5-168586A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87DE-77E7-4105-9097-12410591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950C-92F9-4AE4-849E-4C8B6C99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4CDCD-8E80-46A6-904B-587F8307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9EC22-E4E0-4B9E-8251-67B5C7CC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19A-69B9-4D05-ABAB-2B677423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1989E-DCBF-4C2A-8236-A7A867CD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F4AF7-C4FE-4D52-B278-F207988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A2EF1-D68B-440A-99E7-F2D5E427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9DD5-0766-4F07-B98D-002877C9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21DB3-9335-4C5B-90C3-EFBF4BB3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1DB95-5CAA-41D5-93CF-F4CB3E70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07DF-32AD-4AE9-B9EA-795359F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D2D9-51DA-4003-9461-C24D51A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8802-2E50-4EB5-8DD7-AB41EC97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49559-2AF9-404E-8C5A-6934E981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348-27FF-491D-BBA0-75435C2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9DBB-26F0-472C-90C4-DD85CCFC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1EA-9FC9-4419-AAEC-E697FC48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785-2EA9-4F80-8004-DC7385B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A7B-0C37-42CC-9F3B-8B7313E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C131-0828-4C03-9D34-573C17B4A93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2BAB-6D15-48F9-BEED-C37F7023167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C1E1-7C7E-4C4E-BC91-3CA9E0B8EDB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6F24-2847-46C5-A732-683E05F1EDF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284-4BDE-4DA6-9CB5-CAC3D993FCC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toen.nu/media/38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H3.3 NEDERLAND TIJDENS DE DUITSE BEZETTING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5" descr="Duitsers op het Binnenhof tijdens de Tweede Wereldoorlog."/>
          <p:cNvPicPr/>
          <p:nvPr/>
        </p:nvPicPr>
        <p:blipFill>
          <a:blip r:embed="rId1"/>
          <a:stretch/>
        </p:blipFill>
        <p:spPr>
          <a:xfrm>
            <a:off x="324000" y="2060640"/>
            <a:ext cx="431640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ttp://www.auschwitz.nl/beeld/holocaust/5_A81-12.jpg"/>
          <p:cNvPicPr/>
          <p:nvPr/>
        </p:nvPicPr>
        <p:blipFill>
          <a:blip r:embed="rId2"/>
          <a:stretch/>
        </p:blipFill>
        <p:spPr>
          <a:xfrm>
            <a:off x="4932360" y="3068640"/>
            <a:ext cx="3809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0 Mei 1940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0 Mei 1940: aanval op Nederland als onderdeel van de Blitzkrieg op West-Europa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4 mei 1940: bombardement op Rotterdam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5 mei 1940: Nederland capituleer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Koningin en regering vluchten naar Enge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Achtergebleven bestuurders hebben opdracht ‘in belang van volk’ met de ‘nieuwe gezagsdragers’ samen te werken’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24" name="Groep 7"/>
          <p:cNvGrpSpPr/>
          <p:nvPr/>
        </p:nvGrpSpPr>
        <p:grpSpPr>
          <a:xfrm>
            <a:off x="324000" y="1197000"/>
            <a:ext cx="8191440" cy="5500080"/>
            <a:chOff x="324000" y="1197000"/>
            <a:chExt cx="8191440" cy="5500080"/>
          </a:xfrm>
        </p:grpSpPr>
        <p:pic>
          <p:nvPicPr>
            <p:cNvPr id="225" name="Picture 5" descr="http://www.lewisiana.nl/arendsmilde/foto%27s1940-45/Rotterdam%20mei%201940%201.jpg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81914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kstvak 6"/>
            <p:cNvSpPr/>
            <p:nvPr/>
          </p:nvSpPr>
          <p:spPr>
            <a:xfrm>
              <a:off x="2142000" y="6237360"/>
              <a:ext cx="3210480" cy="45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292934"/>
                  </a:solidFill>
                  <a:latin typeface="Arial"/>
                </a:rPr>
                <a:t>Brandend Rotterdam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Regering in ballingschap (Londen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Koningin Wilhelmina symbool van het verzet in Nederland, mede dankzij toespraken voor Radio Oranj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Picture 5" descr="http://blogs.rnw.nl/wereldkids/files/2009/04/080504_wo2_radiooranje.jpg"/>
          <p:cNvPicPr/>
          <p:nvPr/>
        </p:nvPicPr>
        <p:blipFill>
          <a:blip r:embed="rId1"/>
          <a:stretch/>
        </p:blipFill>
        <p:spPr>
          <a:xfrm>
            <a:off x="2484360" y="1628640"/>
            <a:ext cx="40482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erloop Duitse bezetting van Nederland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81040" y="15123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34"/>
                </a:solidFill>
                <a:latin typeface="Arial"/>
              </a:rPr>
              <a:t>Eerste fase: 1940-194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 bestuur (o.l.v. Seyss-Inquart) behandelt Nederlanders ‘met fluwelen handschoen’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Reden: Nazi’s proberen ‘Germaans broedervolk’ aan Duitse kant te krijge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aarom ook geen militair bestuur zoals in België en Frankrij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Houding meeste Nederlanders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Aanpassen aan nieuwe situatie (</a:t>
            </a:r>
            <a:r>
              <a:rPr b="0" i="1" lang="nl-NL" sz="1600" spc="-1" strike="noStrike">
                <a:solidFill>
                  <a:srgbClr val="292934"/>
                </a:solidFill>
                <a:latin typeface="Arial"/>
              </a:rPr>
              <a:t>accommodatie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Sommigen collaboreren (werken samen): NSB o.l.v. Mussert groei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Nauwelijks verze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In 1941: strenger Duits optred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NSB enige politiek partij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ers controleren vakbonden, kunst, pers, onderwijs en jeugdorganisati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5" descr="http://www.annefrankguide.net/nl-NL/content/NSBaffiche2-b-foto.jpg"/>
          <p:cNvPicPr/>
          <p:nvPr/>
        </p:nvPicPr>
        <p:blipFill>
          <a:blip r:embed="rId1"/>
          <a:stretch/>
        </p:blipFill>
        <p:spPr>
          <a:xfrm>
            <a:off x="6443640" y="2108160"/>
            <a:ext cx="2649600" cy="388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Tweede Wereldoorlo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66720"/>
            <a:ext cx="494352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Tekstvak 7"/>
          <p:cNvSpPr/>
          <p:nvPr/>
        </p:nvSpPr>
        <p:spPr>
          <a:xfrm>
            <a:off x="349560" y="638172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Seyss-Inquart spreekt NSB-bijeenkomst to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5" name="Picture 9" descr="http://www.bs-prisma.nl/lessen/geschiedenis/groep8/thema3/Mussert2.jpg"/>
          <p:cNvPicPr/>
          <p:nvPr/>
        </p:nvPicPr>
        <p:blipFill>
          <a:blip r:embed="rId4"/>
          <a:stretch/>
        </p:blipFill>
        <p:spPr>
          <a:xfrm>
            <a:off x="2614680" y="63324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Tekstvak 9"/>
          <p:cNvSpPr/>
          <p:nvPr/>
        </p:nvSpPr>
        <p:spPr>
          <a:xfrm>
            <a:off x="3286440" y="5373720"/>
            <a:ext cx="2818800" cy="3682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NSB-leider Anton Musse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roeg verzet: </a:t>
            </a:r>
            <a:r>
              <a:rPr b="0" lang="nl-NL" sz="2900" spc="-1" strike="noStrike">
                <a:solidFill>
                  <a:srgbClr val="d2533c"/>
                </a:solidFill>
                <a:latin typeface="Arial"/>
              </a:rPr>
              <a:t>februaristaking 1941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5589360"/>
            <a:ext cx="81010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Solidariteit arbeiders met Joden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92934"/>
                </a:solidFill>
                <a:latin typeface="Arial"/>
              </a:rPr>
              <a:t>Bijzonder: enige grootschalige demonstratie door niet-joden in West-Europa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Duitsers onderdrukken staking met gewel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9" name="Picture 5" descr="http://www.verzetsmuseum.org/binaries/achter_de_iconen/februaristaking/razzia_j_d_370.jpg"/>
          <p:cNvPicPr/>
          <p:nvPr/>
        </p:nvPicPr>
        <p:blipFill>
          <a:blip r:embed="rId1"/>
          <a:stretch/>
        </p:blipFill>
        <p:spPr>
          <a:xfrm>
            <a:off x="395280" y="1557360"/>
            <a:ext cx="3524400" cy="3009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virtueletochten.noord-hollandsarchief.nl/content/image/images/custom/184.gif"/>
          <p:cNvPicPr/>
          <p:nvPr/>
        </p:nvPicPr>
        <p:blipFill>
          <a:blip r:embed="rId2"/>
          <a:stretch/>
        </p:blipFill>
        <p:spPr>
          <a:xfrm>
            <a:off x="4464000" y="0"/>
            <a:ext cx="4680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Jodenvervolging in Nederla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0-1941: burgerrechten joden ontnomen en steeds meer geïsolee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Bv. Beroeps- en uitgaansverboden / dragen jodenster / oprichting jodenwijk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2-1943:vrijwel alle joden via kamp Westerbork en Vught naar Auschwitz en Sobibor getransporteerd en vermoo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lechts enkelen weten door onderduik (met steun van Nederlands verzet) de oorlog te overlev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5" descr="http://www.nrc.nl/multimedia/dynamic/00042/westerbork_42518e.jpg"/>
          <p:cNvPicPr/>
          <p:nvPr/>
        </p:nvPicPr>
        <p:blipFill>
          <a:blip r:embed="rId1"/>
          <a:stretch/>
        </p:blipFill>
        <p:spPr>
          <a:xfrm>
            <a:off x="2556000" y="2421000"/>
            <a:ext cx="4257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d2533c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 fas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943-1944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Duitsers treden harder op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Verplichte tewerkstelling mannen i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teeds meer schaarste aan goederen wegens leveringen aa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Gevolg: (Lichte) groei verz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Laatste fase: 1944-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Na invasie in Normandië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juni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en slag bij Arnhem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september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komt Nederland in de frontlinie te liggen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Gevolg: grote delen Zeeland, Limburg en rivierengebied lijden onder oorlogsgewel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Noord-Nederland blijft bezet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Wegens spoorwegstaking (uitgeroepen door regering in Londen) grote schaarste aan voedsel en brandstof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Gevolg: 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Hongerwinter</a:t>
            </a: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: tienduizenden slachtoffers, vooral in de sted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8" name="Picture 5" descr="Een hongerend jongetje in Amsterdam 1944-45"/>
          <p:cNvPicPr/>
          <p:nvPr/>
        </p:nvPicPr>
        <p:blipFill>
          <a:blip r:embed="rId1"/>
          <a:stretch/>
        </p:blipFill>
        <p:spPr>
          <a:xfrm>
            <a:off x="6227640" y="2852640"/>
            <a:ext cx="2524320" cy="328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ttp://xtbuy.com/image/album/D+Day/photo-D-Day.jpg"/>
          <p:cNvPicPr/>
          <p:nvPr/>
        </p:nvPicPr>
        <p:blipFill>
          <a:blip r:embed="rId2"/>
          <a:stretch/>
        </p:blipFill>
        <p:spPr>
          <a:xfrm>
            <a:off x="755640" y="1557360"/>
            <a:ext cx="476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Mei 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528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Bevrijding van Noorden en Westen van Nederland door Canadezen en Engels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5 mei 1945: capitulatie Duitse leger in Neder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5" descr="http://sgpdirksland.files.wordpress.com/2010/03/bevrijding.jpg"/>
          <p:cNvPicPr/>
          <p:nvPr/>
        </p:nvPicPr>
        <p:blipFill>
          <a:blip r:embed="rId1"/>
          <a:stretch/>
        </p:blipFill>
        <p:spPr>
          <a:xfrm>
            <a:off x="324000" y="1052640"/>
            <a:ext cx="4095720" cy="304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ttp://familieclausman.nl/afbeeldingen/bevrijding.jpg"/>
          <p:cNvPicPr/>
          <p:nvPr/>
        </p:nvPicPr>
        <p:blipFill>
          <a:blip r:embed="rId2"/>
          <a:stretch/>
        </p:blipFill>
        <p:spPr>
          <a:xfrm>
            <a:off x="4643280" y="1197000"/>
            <a:ext cx="4256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34:11Z</dcterms:created>
  <dc:creator>Damstede</dc:creator>
  <dc:description/>
  <dc:language>en-US</dc:language>
  <cp:lastModifiedBy>WINDOWSXP</cp:lastModifiedBy>
  <dcterms:modified xsi:type="dcterms:W3CDTF">2011-12-20T08:57:06Z</dcterms:modified>
  <cp:revision>8</cp:revision>
  <dc:subject/>
  <dc:title>9§7 duitse bezetting van Nederland</dc:title>
</cp:coreProperties>
</file>