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8C6-7D1F-4AF3-8E55-4C17F316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8D9-377A-4045-AC52-49B2783D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199-FA80-42DA-A559-0103BB4E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AD7-19DB-453A-9900-72B4866B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AEE4-B148-4086-A26F-0F85500C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F604-41EB-4CC4-BFD9-26D1BF70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4326-83FE-466C-83C3-2C81C027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48AA-30BA-42AA-B689-EFCA8DD0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360F-7683-4A76-B83D-808A6B5B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6A6C-A035-4FF6-9D84-23381065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4274-06C0-4AF4-B993-7011F344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4DF-9B43-4087-ADC5-2E1BFC04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E803-7FC5-4667-99E1-69246FC2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2212-F60F-4A12-B606-C0FC89C2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2712-D822-496E-A2A2-0D38A9F1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4FD7-3F1B-46F0-AABA-E70168D0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4E34-4602-4048-BCA0-4D9B3293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3CBE-0A03-4E5E-AAEB-F2FBB85C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3570-237D-41C6-95FD-7DA3D5F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C280-63BA-450F-9211-73B9A5EE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85E4-5CDF-4F93-9997-909ABF38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F445B-486D-420F-8243-07D450AB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423-F635-4986-B4EC-8EEFBDBA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8AB6-EBBD-4D99-BC4A-32832D80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9035-1700-4C10-B9D7-7F972D81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3CCB-45F0-43E3-8DAC-669EE297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016D2-3D63-4154-8B73-BB911E9B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1D78-53F4-4466-BB51-8980652C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8C3E-6E13-4CE1-96C7-B96A3407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13FE-D00D-4D32-B904-238C26E6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8F869-1E93-4C0B-8130-AEF86D1C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E188-3C41-4BCF-A91E-167D7DDF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3116-A46B-42C5-95A2-F240CF7E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E4B-DBEE-46E7-989F-9D825385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A20FE-E736-4A75-9C0D-A96545C1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BF6F-F4CB-444F-A088-484E1557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BAA6A-29F6-448E-BFDE-F5DEF6CD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5B83-18F1-4F42-AE99-FFEDB326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C9120-707E-4F33-913C-0DB688B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1EB8B-4B82-47A8-BACC-5D247E3E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0B9D-BE26-4A09-8111-8CCBABFB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05FC-7FA0-4C82-A681-09D6531E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AF406-AE0C-44AC-8B72-86C12888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EF580-1355-4A2B-A495-361FC087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45F-F83C-4517-9600-1FC7867A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DCAF3-0930-46D3-B0C7-659114EB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C804B-6759-43D5-A293-0891D9DA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64910-4EF6-4C13-AABD-C2965E27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DD0E-D960-49D3-8BD0-3738D08C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4F174-2B38-487B-95F2-74643726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796E6-835C-4F6C-8D66-F5080F0B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9751F-43A3-4ABB-9C9F-4E35B1A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200D4-7094-4AA6-BFEA-2766CC3D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E26D-5857-4045-8F28-EA2FF7D4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F67BB-B9F8-40FC-82B3-381D2D24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5BE-6CA2-4905-BA98-0551388B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50526-65DC-41E9-9E86-6EF8BB17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F0A-7E31-4D54-A5AE-BCF44420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759-2AB4-42D5-9E57-9483187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E75-4F2A-4C51-A61F-940678E4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C50B-F2B3-422C-8C15-6CF76A885CF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3E55-F684-4770-9389-6ED62219D8B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0E8F-F155-4642-A8C1-7204F4A6CC1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9591-7E5C-4614-9E3F-BBFC0FF1DD0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135-25E7-4F85-864E-92214C31D3F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toen.nu/media/38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H3.3 NEDERLAND TIJDENS DE DUITSE BEZETTING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5" descr="Duitsers op het Binnenhof tijdens de Tweede Wereldoorlog."/>
          <p:cNvPicPr/>
          <p:nvPr/>
        </p:nvPicPr>
        <p:blipFill>
          <a:blip r:embed="rId1"/>
          <a:stretch/>
        </p:blipFill>
        <p:spPr>
          <a:xfrm>
            <a:off x="324000" y="2060640"/>
            <a:ext cx="4316400" cy="3240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http://www.auschwitz.nl/beeld/holocaust/5_A81-12.jpg"/>
          <p:cNvPicPr/>
          <p:nvPr/>
        </p:nvPicPr>
        <p:blipFill>
          <a:blip r:embed="rId2"/>
          <a:stretch/>
        </p:blipFill>
        <p:spPr>
          <a:xfrm>
            <a:off x="4932360" y="3068640"/>
            <a:ext cx="3809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0 Mei 1940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0 Mei 1940: aanval op Nederland als onderdeel van de Blitzkrieg op West-Europa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4 mei 1940: bombardement op Rotterdam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5 mei 1940: Nederland capituleer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Koningin en regering vluchten naar Enge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Achtergebleven bestuurders hebben opdracht ‘in belang van volk’ met de ‘nieuwe gezagsdragers’ samen te werken’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24" name="Groep 7"/>
          <p:cNvGrpSpPr/>
          <p:nvPr/>
        </p:nvGrpSpPr>
        <p:grpSpPr>
          <a:xfrm>
            <a:off x="324000" y="1197000"/>
            <a:ext cx="8191440" cy="5500080"/>
            <a:chOff x="324000" y="1197000"/>
            <a:chExt cx="8191440" cy="5500080"/>
          </a:xfrm>
        </p:grpSpPr>
        <p:pic>
          <p:nvPicPr>
            <p:cNvPr id="225" name="Picture 5" descr="http://www.lewisiana.nl/arendsmilde/foto%27s1940-45/Rotterdam%20mei%201940%201.jpg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819144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kstvak 6"/>
            <p:cNvSpPr/>
            <p:nvPr/>
          </p:nvSpPr>
          <p:spPr>
            <a:xfrm>
              <a:off x="2142000" y="6237360"/>
              <a:ext cx="3210480" cy="459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292934"/>
                  </a:solidFill>
                  <a:latin typeface="Arial"/>
                </a:rPr>
                <a:t>Brandend Rotterdam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Regering in ballingschap (Londen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Koningin Wilhelmina symbool van het verzet in Nederland, mede dankzij toespraken voor Radio Oranj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9" name="Picture 5" descr="http://blogs.rnw.nl/wereldkids/files/2009/04/080504_wo2_radiooranje.jpg"/>
          <p:cNvPicPr/>
          <p:nvPr/>
        </p:nvPicPr>
        <p:blipFill>
          <a:blip r:embed="rId1"/>
          <a:stretch/>
        </p:blipFill>
        <p:spPr>
          <a:xfrm>
            <a:off x="2484360" y="1628640"/>
            <a:ext cx="40482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erloop Duitse bezetting van Nederland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81040" y="151236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34"/>
                </a:solidFill>
                <a:latin typeface="Arial"/>
              </a:rPr>
              <a:t>Eerste fase: 1940-194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 bestuur (o.l.v. Seyss-Inquart) behandelt Nederlanders ‘met fluwelen handschoen’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Reden: Nazi’s proberen ‘Germaans broedervolk’ aan Duitse kant te krijgen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aarom ook geen militair bestuur zoals in België en Frankrij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Houding meeste Nederlanders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Aanpassen aan nieuwe situatie (</a:t>
            </a:r>
            <a:r>
              <a:rPr b="0" i="1" lang="nl-NL" sz="1600" spc="-1" strike="noStrike">
                <a:solidFill>
                  <a:srgbClr val="292934"/>
                </a:solidFill>
                <a:latin typeface="Arial"/>
              </a:rPr>
              <a:t>accommodatie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Sommigen collaboreren (werken samen): NSB o.l.v. Mussert groei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Nauwelijks verze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In 1941: strenger Duits optred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NSB enige politiek partij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ers controleren vakbonden, kunst, pers, onderwijs en jeugdorganisati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5" descr="http://www.annefrankguide.net/nl-NL/content/NSBaffiche2-b-foto.jpg"/>
          <p:cNvPicPr/>
          <p:nvPr/>
        </p:nvPicPr>
        <p:blipFill>
          <a:blip r:embed="rId1"/>
          <a:stretch/>
        </p:blipFill>
        <p:spPr>
          <a:xfrm>
            <a:off x="6443640" y="2108160"/>
            <a:ext cx="2649600" cy="388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Tweede Wereldoorlo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66720"/>
            <a:ext cx="4943520" cy="5715000"/>
          </a:xfrm>
          <a:prstGeom prst="rect">
            <a:avLst/>
          </a:prstGeom>
          <a:ln w="0">
            <a:noFill/>
          </a:ln>
        </p:spPr>
      </p:pic>
      <p:sp>
        <p:nvSpPr>
          <p:cNvPr id="234" name="Tekstvak 7"/>
          <p:cNvSpPr/>
          <p:nvPr/>
        </p:nvSpPr>
        <p:spPr>
          <a:xfrm>
            <a:off x="349560" y="638172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Seyss-Inquart spreekt NSB-bijeenkomst to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5" name="Picture 9" descr="http://www.bs-prisma.nl/lessen/geschiedenis/groep8/thema3/Mussert2.jpg"/>
          <p:cNvPicPr/>
          <p:nvPr/>
        </p:nvPicPr>
        <p:blipFill>
          <a:blip r:embed="rId4"/>
          <a:stretch/>
        </p:blipFill>
        <p:spPr>
          <a:xfrm>
            <a:off x="2614680" y="63324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Tekstvak 9"/>
          <p:cNvSpPr/>
          <p:nvPr/>
        </p:nvSpPr>
        <p:spPr>
          <a:xfrm>
            <a:off x="3286440" y="5373720"/>
            <a:ext cx="2818800" cy="3682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NSB-leider Anton Musse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roeg verzet: </a:t>
            </a:r>
            <a:r>
              <a:rPr b="0" lang="nl-NL" sz="2900" spc="-1" strike="noStrike">
                <a:solidFill>
                  <a:srgbClr val="d2533c"/>
                </a:solidFill>
                <a:latin typeface="Arial"/>
              </a:rPr>
              <a:t>februaristaking 1941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5589360"/>
            <a:ext cx="810108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Solidariteit arbeiders met Joden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92934"/>
                </a:solidFill>
                <a:latin typeface="Arial"/>
              </a:rPr>
              <a:t>Bijzonder: enige grootschalige demonstratie door niet-joden in West-Europa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Duitsers onderdrukken staking met gewel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9" name="Picture 5" descr="http://www.verzetsmuseum.org/binaries/achter_de_iconen/februaristaking/razzia_j_d_370.jpg"/>
          <p:cNvPicPr/>
          <p:nvPr/>
        </p:nvPicPr>
        <p:blipFill>
          <a:blip r:embed="rId1"/>
          <a:stretch/>
        </p:blipFill>
        <p:spPr>
          <a:xfrm>
            <a:off x="395280" y="1557360"/>
            <a:ext cx="3524400" cy="3009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virtueletochten.noord-hollandsarchief.nl/content/image/images/custom/184.gif"/>
          <p:cNvPicPr/>
          <p:nvPr/>
        </p:nvPicPr>
        <p:blipFill>
          <a:blip r:embed="rId2"/>
          <a:stretch/>
        </p:blipFill>
        <p:spPr>
          <a:xfrm>
            <a:off x="4464000" y="0"/>
            <a:ext cx="4680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Jodenvervolging in Nederla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0-1941: burgerrechten joden ontnomen en steeds meer geïsolee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Bv. Beroeps- en uitgaansverboden / dragen jodenster / oprichting jodenwijk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2-1943:vrijwel alle joden via kamp Westerbork en Vught naar Auschwitz en Sobibor getransporteerd en vermoo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lechts enkelen weten door onderduik (met steun van Nederlands verzet) de oorlog te overlev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3" name="Picture 5" descr="http://www.nrc.nl/multimedia/dynamic/00042/westerbork_42518e.jpg"/>
          <p:cNvPicPr/>
          <p:nvPr/>
        </p:nvPicPr>
        <p:blipFill>
          <a:blip r:embed="rId1"/>
          <a:stretch/>
        </p:blipFill>
        <p:spPr>
          <a:xfrm>
            <a:off x="2556000" y="2421000"/>
            <a:ext cx="4257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d2533c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 fas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943-1944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Duitsers treden harder op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Verplichte tewerkstelling mannen i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teeds meer schaarste aan goederen wegens leveringen aa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Gevolg: (Lichte) groei verz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Laatste fase: 1944-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Na invasie in Normandië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juni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en slag bij Arnhem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september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komt Nederland in de frontlinie te liggen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Gevolg: grote delen Zeeland, Limburg en rivierengebied lijden onder oorlogsgewel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Noord-Nederland blijft bezet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Wegens spoorwegstaking (uitgeroepen door regering in Londen) grote schaarste aan voedsel en brandstof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Gevolg: 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Hongerwinter</a:t>
            </a: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: tienduizenden slachtoffers, vooral in de sted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8" name="Picture 5" descr="Een hongerend jongetje in Amsterdam 1944-45"/>
          <p:cNvPicPr/>
          <p:nvPr/>
        </p:nvPicPr>
        <p:blipFill>
          <a:blip r:embed="rId1"/>
          <a:stretch/>
        </p:blipFill>
        <p:spPr>
          <a:xfrm>
            <a:off x="6227640" y="2852640"/>
            <a:ext cx="2524320" cy="3286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http://xtbuy.com/image/album/D+Day/photo-D-Day.jpg"/>
          <p:cNvPicPr/>
          <p:nvPr/>
        </p:nvPicPr>
        <p:blipFill>
          <a:blip r:embed="rId2"/>
          <a:stretch/>
        </p:blipFill>
        <p:spPr>
          <a:xfrm>
            <a:off x="755640" y="1557360"/>
            <a:ext cx="476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Mei 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528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Bevrijding van Noorden en Westen van Nederland door Canadezen en Engels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5 mei 1945: capitulatie Duitse leger in Neder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5" descr="http://sgpdirksland.files.wordpress.com/2010/03/bevrijding.jpg"/>
          <p:cNvPicPr/>
          <p:nvPr/>
        </p:nvPicPr>
        <p:blipFill>
          <a:blip r:embed="rId1"/>
          <a:stretch/>
        </p:blipFill>
        <p:spPr>
          <a:xfrm>
            <a:off x="324000" y="1052640"/>
            <a:ext cx="4095720" cy="3047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http://familieclausman.nl/afbeeldingen/bevrijding.jpg"/>
          <p:cNvPicPr/>
          <p:nvPr/>
        </p:nvPicPr>
        <p:blipFill>
          <a:blip r:embed="rId2"/>
          <a:stretch/>
        </p:blipFill>
        <p:spPr>
          <a:xfrm>
            <a:off x="4643280" y="1197000"/>
            <a:ext cx="4256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8:34:11Z</dcterms:created>
  <dc:creator>Damstede</dc:creator>
  <dc:description/>
  <dc:language>en-US</dc:language>
  <cp:lastModifiedBy>WINDOWSXP</cp:lastModifiedBy>
  <dcterms:modified xsi:type="dcterms:W3CDTF">2011-12-20T08:57:06Z</dcterms:modified>
  <cp:revision>8</cp:revision>
  <dc:subject/>
  <dc:title>9§7 duitse bezetting van Nederland</dc:title>
</cp:coreProperties>
</file>