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99A7-9A55-4C0B-943A-4D6660DF95E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November 9, 1938, the Nazis unleashed a wave of pogroms against Germany's Jews. In the space of a few hours, thousands of synagogues and Jewish businesses and homes were damaged or destroyed. This event came to be called Kristallnacht ("Night of Broken Glass") for the shattered store windowpanes that carpeted German stre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A90B-3A0F-4F77-8BBB-90F78BAC24A8}"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ning of the synagogue in Ober Ramstadt during Kristallnacht. The local fire-department prevented the fire from spreading to a nearby home, but made no attempt to intervene in the synagogue fire. </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0054-8049-44F8-BD61-13FFAE2FC79C}"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wn of Zeven, Germany, had 2,500 inhabitants in 1938, 28 of them Jews. On November 10, 1938, under Gestapo orders, the synagogue in Zeven was forcibly emptied and the furnishings publicly burned at the town's main square. A photographer captured this event.The furnishings of the interior of the Zeven synagogue were dumped at the town square. The ten commandments are visible toward the top of the pile. The sign below the former ark and bimah reads: "Revenge for the murder of vom Rath! Death to the International. Jews and Freemas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57A7-BC15-4975-A961-2EE25F3D4368}"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ts represent cities where synagogues were destroyed</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CCA5-8FD4-44CF-BFB7-49B5B3BBE1BA}"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ish men in the city were arrested with many sent to concentration camps. The arrested men were paraded through the streets of Baden-Baden and forced to recite passages from Hitler's </a:t>
            </a:r>
            <a:r>
              <a:rPr b="0" i="1" lang="en-US" sz="1200" spc="-1" strike="noStrike">
                <a:solidFill>
                  <a:srgbClr val="000000"/>
                </a:solidFill>
                <a:latin typeface="Calibri"/>
              </a:rPr>
              <a:t>Mein Kampf</a:t>
            </a:r>
            <a:r>
              <a:rPr b="0" lang="en-US" sz="1200" spc="-1" strike="noStrike">
                <a:solidFill>
                  <a:srgbClr val="000000"/>
                </a:solidFill>
                <a:latin typeface="Calibri"/>
              </a:rPr>
              <a:t>, </a:t>
            </a:r>
            <a:r>
              <a:rPr b="0" i="1" lang="en-US" sz="1200" spc="-1" strike="noStrike">
                <a:solidFill>
                  <a:srgbClr val="000000"/>
                </a:solidFill>
                <a:latin typeface="Calibri"/>
              </a:rPr>
              <a:t>Der Stuermer</a:t>
            </a:r>
            <a:r>
              <a:rPr b="0" lang="en-US" sz="1200" spc="-1" strike="noStrike">
                <a:solidFill>
                  <a:srgbClr val="000000"/>
                </a:solidFill>
                <a:latin typeface="Calibri"/>
              </a:rPr>
              <a:t>, and other antisemitic writings at the pulpit of the synagogue before it was destroyed. </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9956-FD95-4CE6-A8C6-E003A08EF5AD}"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2DFA-FE8A-4779-B7C8-BB86DCEFB934}" type="slidenum">
              <a:rPr b="0" lang="nl-NL"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2E127-E829-4C75-A922-72AE74AF1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22FB3-7F74-4517-853D-55210375C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D7D77-D97C-4908-B563-E16E383A3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7DECE-5C26-4CC1-9E2B-0E4BAE0D7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E7A4497-69A3-4921-81D5-B44BFFE52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4E8ADB3-CB4A-46EC-A79A-630E46F99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7C8139-BDE4-4A7E-BA67-5038824BD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1BA4CC-C159-48A0-8358-9521EF4A7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3848BC9-D53D-4098-96C3-FECB5DAC6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839EA6-CEFE-4912-8743-35D30CE71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47C104-D06E-4F2B-A7D0-35B233E26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F593A-2527-4B56-A5EC-AFC7EF402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3CE9A3-C180-4F93-B67C-ED52E892C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FF43F4-DFE3-4E92-92D4-5A2C8E40C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01E6C12-ECFA-4AD5-BD7E-01E59638A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FF77A9F-CB94-4FC2-8BBB-54098DC33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7137436-F846-4EB5-A32A-9BD496308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72DAA8E-562B-4F8C-8950-70B25C4DC5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2302CC7-23AE-4E66-BAC3-21993652E6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EAC86D0-F481-4C73-8EA8-93EFAD0F7B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B507A73-1DC2-4127-B54A-BFE8F1ED57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B32542-B79E-453D-9D01-E7B630D99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F0AB2-8254-4D28-A491-FA1AA1375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DC1446F-BE44-40CA-B0C6-1E9549CDE9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2A3E8C-7F84-4372-A86D-8B72E31ED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D98CE7A-C7CF-4F4B-BEF2-2DE6D762D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5148F2-0D5A-4805-AFE5-F935AF3A66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E6CFB8D-8F7D-4E68-88E3-B5CCB1787C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E2C1859-D566-4573-B23A-E3128DFEDD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F4427F8-0AC3-409E-B286-B4CB37FF42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A3B296-A177-4707-97C8-5F454F8DD5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1AC93F-44B3-4C77-99FC-EAEB660F5D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5FFAB3-E963-4BEE-8F16-1706636513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99EA3-DE80-4F07-9D3E-AB349DDC2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201EE2-4123-40CB-9B5A-87E085E0F1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EFA7D7-4323-4388-B5FB-3CD983D995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51C0CD-0F5E-4B40-A312-E279FEC4A6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5F5DEB-5956-40D1-B090-F9682B504C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CAB5A-14ED-4500-92F8-AA46043B0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6F827A-4B34-43D3-BC20-44A0F00DA4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1677A9-C5E9-42D9-A5B6-91F5B504D5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23C727-6141-4FD9-B683-A943A0B607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64F777-E980-40BC-AA1D-4C2D81DA8A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E32927-C2FF-4DBB-B3CF-7AEE6BD6E6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3C5CA-237A-4427-8629-736CFADA9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98FFB0-2847-4FC7-A711-5F2851441F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0A9A80-0F36-4CDC-AFBD-FA8BA0909A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186EA3-9FA4-480E-8AB2-76B3710B18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04762D-8CA4-435E-B92D-4E35D73200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FB33BD-899C-474C-8383-F8044491B5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5AA87B-0673-48ED-94AF-5CFC378E9F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41C428-F081-4079-BF88-2E1D299CC9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41963E-AE32-4CA5-9D07-46655843B3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2006A0-19D6-48CD-97DB-14D33670C4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44873F-23C9-454C-A41E-D67C4DB171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D1438-DA88-4CBA-86BC-0C2BC2728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99ACF4-A6ED-4396-B15D-6635960710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C35F21-2382-46E5-AC25-CA2BEEEDC8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3342FD-D639-48AC-861C-1A1B91A6C4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858593-F53B-4DFF-A93D-5A5DBECFE4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96528D-C2EE-490A-AB81-786A444799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7B1880-18B5-4525-8AD3-83E564363C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DCB877-B6BA-47B1-AC49-186BFEC50E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A6528E-68D5-42EF-9228-DB6D448479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951148-439A-4DDB-980E-A05768D1D3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41128E-C066-4A36-82A8-EF176982C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42C01-7C2A-4A67-B4F3-925735DEF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895381-00D2-4765-A56A-9C5E91C55D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F7B545-25EC-4A7F-8CD1-0674C4A430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7BFB44-2822-4CA4-A9B7-1E8FF577C9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2B023A-4EFD-4275-B71B-9E643D8CA2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BBD4C5-0DCE-4C10-AA09-E98207A9B4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3CCB3C-6C8F-462C-BFD8-27C76F82DC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F03134-69DF-4231-A5B1-4B6A43E546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4B1594-7EFC-4DFD-AC78-6822A81F77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328794-7C36-4841-89A7-83E8C54A81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DAFF15-224A-4D32-92B5-A5931291BA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80134-7C5F-4D56-A8DB-EEC36F09C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4A3504-F14A-4CD5-B2E5-FC59BBB692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1206BF-D2FD-4AC6-B8C2-767FD2C3FB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6E2045-8E3C-4035-89B0-7C752937EE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0F6434-D499-475A-BBED-F8A77ACE50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DC5478-2DBA-4A9F-A6BE-C94CE8BDF0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4B17D-1137-40D5-971E-ED84C371A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7811-1CA7-4EAF-8C6B-FC666781ABD2}"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 name="Rectangle 7"/>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0BD7-2ADA-4356-97CC-9281F9726ECD}"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 name="Rectangle 7"/>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C5BA-449E-4209-A7D7-D0A7E69FD328}"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4"/>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8829-84E9-40A5-A0A7-7395D926DA27}"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2" name="Rectangle 7"/>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3" name="Rectangle 8"/>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E699-64CE-41F4-9D59-B2396C6456D5}"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6" name="Rectangle 8"/>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F0E2-B761-4A00-91EA-680C2C348B64}"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6"/>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9" name="Rectangle 7"/>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457D-4A00-4ED6-86E5-15B491EF8731}"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nl.wikipedia.org/wiki/Bestand:Roll_Call_Buchenwald_after_Kristallnacht.jpg" TargetMode="External"/><Relationship Id="rId2" Type="http://schemas.openxmlformats.org/officeDocument/2006/relationships/hyperlink" Target="http://nl.wikipedia.org/wiki/Bestand:Roll_Call_Buchenwald_after_Kristallnach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4/4d/Antisemitisme_Duitsland_1933.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upload.wikimedia.org/wikipedia/commons/a/ae/Ernst-vom-Rath.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d/d9/Bundesarchiv_Bild_146-1988-078-08%2C_Herschel_Feibel_Grynszpan.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f/f5/Goebbels_speech_1930%27s.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0/06/The_day_after_Kristallnacht.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brokewin"/>
          <p:cNvPicPr/>
          <p:nvPr/>
        </p:nvPicPr>
        <p:blipFill>
          <a:blip r:embed="rId1"/>
          <a:stretch/>
        </p:blipFill>
        <p:spPr>
          <a:xfrm>
            <a:off x="4705200" y="3048120"/>
            <a:ext cx="3164040" cy="5052960"/>
          </a:xfrm>
          <a:prstGeom prst="rect">
            <a:avLst/>
          </a:prstGeom>
          <a:ln w="0">
            <a:noFill/>
          </a:ln>
        </p:spPr>
      </p:pic>
      <p:sp>
        <p:nvSpPr>
          <p:cNvPr id="309" name="PlaceHolder 1"/>
          <p:cNvSpPr>
            <a:spLocks noGrp="1"/>
          </p:cNvSpPr>
          <p:nvPr>
            <p:ph type="title"/>
          </p:nvPr>
        </p:nvSpPr>
        <p:spPr>
          <a:xfrm>
            <a:off x="304920" y="1066680"/>
            <a:ext cx="7772400" cy="1524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5834"/>
                </a:solidFill>
                <a:latin typeface="Century"/>
              </a:rPr>
              <a:t>KRISTALLNACHT 1938</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JOODSE SLACHTOFFERS…</a:t>
            </a:r>
            <a:endParaRPr b="0" lang="en-US" sz="3200" spc="-1" strike="noStrike">
              <a:solidFill>
                <a:srgbClr val="ffffff"/>
              </a:solidFill>
              <a:latin typeface="Franklin Gothic Medium"/>
            </a:endParaRPr>
          </a:p>
        </p:txBody>
      </p:sp>
      <p:sp>
        <p:nvSpPr>
          <p:cNvPr id="341" name=""/>
          <p:cNvSpPr txBox="1"/>
          <p:nvPr/>
        </p:nvSpPr>
        <p:spPr>
          <a:xfrm>
            <a:off x="457200" y="1600200"/>
            <a:ext cx="4038480" cy="4525920"/>
          </a:xfrm>
          <a:prstGeom prst="rect">
            <a:avLst/>
          </a:prstGeom>
          <a:noFill/>
          <a:ln w="0">
            <a:noFill/>
          </a:ln>
        </p:spPr>
        <p:txBody>
          <a:bodyPr anchor="t">
            <a:normAutofit/>
          </a:bodyPr>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34949"/>
                </a:solidFill>
                <a:latin typeface="Garamond"/>
              </a:rPr>
              <a:t>Tijdens Kristallnacht opgepakte Joden in Buchenwald</a:t>
            </a:r>
            <a:endParaRPr b="0" lang="en-US" sz="2800" spc="-1" strike="noStrike">
              <a:solidFill>
                <a:srgbClr val="534949"/>
              </a:solidFill>
              <a:latin typeface="Franklin Gothic Medium"/>
            </a:endParaRPr>
          </a:p>
        </p:txBody>
      </p:sp>
      <p:sp>
        <p:nvSpPr>
          <p:cNvPr id="342"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36 Joden raakten zwaargewond</a:t>
            </a:r>
            <a:endParaRPr b="0" lang="en-US" sz="2800" spc="-1" strike="noStrike">
              <a:solidFill>
                <a:srgbClr val="534949"/>
              </a:solidFill>
              <a:latin typeface="Franklin Gothic Medium"/>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91 Joodse doden</a:t>
            </a:r>
            <a:endParaRPr b="0" lang="en-US" sz="2800" spc="-1" strike="noStrike">
              <a:solidFill>
                <a:srgbClr val="534949"/>
              </a:solidFill>
              <a:latin typeface="Franklin Gothic Medium"/>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Tenminsten 30.000 joden gearresteerd en naar kampen afgevoerd. </a:t>
            </a:r>
            <a:endParaRPr b="0" lang="en-US" sz="2800" spc="-1" strike="noStrike">
              <a:solidFill>
                <a:srgbClr val="534949"/>
              </a:solidFill>
              <a:latin typeface="Franklin Gothic Medium"/>
            </a:endParaRPr>
          </a:p>
        </p:txBody>
      </p:sp>
      <p:sp>
        <p:nvSpPr>
          <p:cNvPr id="343" name="Rectangle 5"/>
          <p:cNvSpPr/>
          <p:nvPr/>
        </p:nvSpPr>
        <p:spPr>
          <a:xfrm>
            <a:off x="0" y="-163080"/>
            <a:ext cx="2251080" cy="2712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aramond"/>
                <a:hlinkClick r:id="rId1"/>
              </a:rPr>
              <a:t>  </a:t>
            </a:r>
            <a:r>
              <a:rPr b="0" i="1" lang="en-US" sz="9500" spc="-1" strike="noStrike">
                <a:solidFill>
                  <a:srgbClr val="ffffff"/>
                </a:solidFill>
                <a:latin typeface="Garamond"/>
              </a:rPr>
              <a:t> </a:t>
            </a:r>
            <a:r>
              <a:rPr b="0" i="1" lang="en-US" sz="1800" spc="-1" strike="noStrike">
                <a:solidFill>
                  <a:srgbClr val="ffffff"/>
                </a:solidFill>
                <a:latin typeface="Garamond"/>
              </a:rPr>
              <a:t>                                        </a:t>
            </a:r>
            <a:r>
              <a:rPr b="0" lang="en-US" sz="1800" spc="-1" strike="noStrike">
                <a:solidFill>
                  <a:srgbClr val="000000"/>
                </a:solidFill>
                <a:latin typeface="Garamond"/>
              </a:rPr>
              <a:t>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aramond"/>
                <a:hlinkClick r:id="rId2"/>
              </a:rPr>
              <a:t>  </a:t>
            </a:r>
            <a:r>
              <a:rPr b="0" i="1" lang="en-US" sz="600" spc="-1" strike="noStrike">
                <a:solidFill>
                  <a:srgbClr val="ffffff"/>
                </a:solidFill>
                <a:latin typeface="Garamond"/>
              </a:rPr>
              <a:t> </a:t>
            </a:r>
            <a:r>
              <a:rPr b="0" i="1" lang="en-US" sz="1800" spc="-1" strike="noStrike">
                <a:solidFill>
                  <a:srgbClr val="ffffff"/>
                </a:solidFill>
                <a:latin typeface="Garamond"/>
              </a:rPr>
              <a:t>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344" name="Picture 6" descr="http://upload.wikimedia.org/wikipedia/commons/thumb/3/30/Roll_Call_Buchenwald_after_Kristallnacht.jpg/250px-Roll_Call_Buchenwald_after_Kristallnacht.jpg"/>
          <p:cNvPicPr/>
          <p:nvPr/>
        </p:nvPicPr>
        <p:blipFill>
          <a:blip r:embed="rId3"/>
          <a:stretch/>
        </p:blipFill>
        <p:spPr>
          <a:xfrm>
            <a:off x="457200" y="3200400"/>
            <a:ext cx="378000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0880" y="1719000"/>
            <a:ext cx="8407440" cy="4406760"/>
          </a:xfrm>
          <a:prstGeom prst="rect">
            <a:avLst/>
          </a:prstGeom>
          <a:noFill/>
          <a:ln w="0">
            <a:noFill/>
          </a:ln>
        </p:spPr>
        <p:txBody>
          <a:bodyPr anchor="t">
            <a:normAutofit/>
          </a:bodyPr>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Joden moesten zelf de schade betalen: 1 miljard mark (350 miljoen euro)</a:t>
            </a:r>
            <a:endParaRPr b="0" lang="en-US" sz="3600" spc="-1" strike="noStrike">
              <a:solidFill>
                <a:srgbClr val="534949"/>
              </a:solidFill>
              <a:latin typeface="Franklin Gothic Medium"/>
            </a:endParaRPr>
          </a:p>
          <a:p>
            <a:pPr marL="27288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34949"/>
              </a:solidFill>
              <a:latin typeface="Franklin Gothic Medium"/>
            </a:endParaRPr>
          </a:p>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Veel Joden wilden het land verlaten, maar dat lukte niet…</a:t>
            </a:r>
            <a:endParaRPr b="0" lang="en-US" sz="3600" spc="-1" strike="noStrike">
              <a:solidFill>
                <a:srgbClr val="534949"/>
              </a:solidFill>
              <a:latin typeface="Franklin Gothic Medium"/>
            </a:endParaRPr>
          </a:p>
        </p:txBody>
      </p:sp>
      <p:sp>
        <p:nvSpPr>
          <p:cNvPr id="34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HET JOODSE LEE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eten met de Davidsster lopen op 10 november 1938</a:t>
            </a:r>
            <a:endParaRPr b="0" lang="en-US" sz="2000" spc="-1" strike="noStrike">
              <a:solidFill>
                <a:srgbClr val="534949"/>
              </a:solidFill>
              <a:latin typeface="Franklin Gothic Medium"/>
            </a:endParaRPr>
          </a:p>
        </p:txBody>
      </p:sp>
      <p:sp>
        <p:nvSpPr>
          <p:cNvPr id="34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EN VERDER…</a:t>
            </a:r>
            <a:endParaRPr b="0" lang="en-US" sz="3200" spc="-1" strike="noStrike">
              <a:solidFill>
                <a:srgbClr val="ffffff"/>
              </a:solidFill>
              <a:latin typeface="Franklin Gothic Medium"/>
            </a:endParaRPr>
          </a:p>
        </p:txBody>
      </p:sp>
      <p:pic>
        <p:nvPicPr>
          <p:cNvPr id="349" name="Picture 2" descr="Bestand:Jews forced to march with star Kristallnacht.jpg"/>
          <p:cNvPicPr/>
          <p:nvPr/>
        </p:nvPicPr>
        <p:blipFill>
          <a:blip r:embed="rId1"/>
          <a:stretch/>
        </p:blipFill>
        <p:spPr>
          <a:xfrm>
            <a:off x="1523880" y="2895480"/>
            <a:ext cx="5791320" cy="379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C:\Documents and Settings\Owner\My Documents\My Pictures\Holocaust\Local residents watch the burning of the ceremonial hall at the Jewish cemetery in Graz.jpg"/>
          <p:cNvPicPr/>
          <p:nvPr/>
        </p:nvPicPr>
        <p:blipFill>
          <a:blip r:embed="rId1"/>
          <a:stretch/>
        </p:blipFill>
        <p:spPr>
          <a:xfrm>
            <a:off x="533520" y="522360"/>
            <a:ext cx="8076960" cy="581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C:\Documents and Settings\Owner\My Documents\My Pictures\Holocaust\The burning of the synagogue in Ober Ramstdt during Kristallnacht.jpg"/>
          <p:cNvPicPr/>
          <p:nvPr/>
        </p:nvPicPr>
        <p:blipFill>
          <a:blip r:embed="rId1"/>
          <a:stretch/>
        </p:blipFill>
        <p:spPr>
          <a:xfrm>
            <a:off x="838080" y="177840"/>
            <a:ext cx="7391520" cy="643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1" descr="The furnishings of the interior of the Zeven synagogue were dumped at the town square. The ten commandments are visible toward the top of the pile. The sign below the former ark and bimah.jpg"/>
          <p:cNvPicPr/>
          <p:nvPr/>
        </p:nvPicPr>
        <p:blipFill>
          <a:blip r:embed="rId1"/>
          <a:stretch/>
        </p:blipFill>
        <p:spPr>
          <a:xfrm>
            <a:off x="285840" y="357120"/>
            <a:ext cx="8572320" cy="614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C:\Documents and Settings\Owner\My Documents\My Pictures\Holocaust\Synagogues Destroyed on Kristallnacht.jpg"/>
          <p:cNvPicPr/>
          <p:nvPr/>
        </p:nvPicPr>
        <p:blipFill>
          <a:blip r:embed="rId1"/>
          <a:stretch/>
        </p:blipFill>
        <p:spPr>
          <a:xfrm>
            <a:off x="762120" y="855720"/>
            <a:ext cx="7391160" cy="5943600"/>
          </a:xfrm>
          <a:prstGeom prst="rect">
            <a:avLst/>
          </a:prstGeom>
          <a:ln w="0">
            <a:noFill/>
          </a:ln>
        </p:spPr>
      </p:pic>
      <p:sp>
        <p:nvSpPr>
          <p:cNvPr id="35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VERNIELDE SYNAGOGES</a:t>
            </a:r>
            <a:br>
              <a:rPr sz="3200"/>
            </a:br>
            <a:endParaRPr b="0" lang="en-US" sz="3200" spc="-1" strike="noStrike">
              <a:solidFill>
                <a:srgbClr val="ffffff"/>
              </a:solidFill>
              <a:latin typeface="Franklin Gothic Medium"/>
            </a:endParaRPr>
          </a:p>
        </p:txBody>
      </p:sp>
      <p:pic>
        <p:nvPicPr>
          <p:cNvPr id="355" name="" descr=""/>
          <p:cNvPicPr/>
          <p:nvPr/>
        </p:nvPicPr>
        <p:blipFill>
          <a:blip r:embed="rId2"/>
          <a:stretch/>
        </p:blipFill>
        <p:spPr>
          <a:xfrm>
            <a:off x="380880" y="1719000"/>
            <a:ext cx="8407440" cy="440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C:\Documents and Settings\Owner\My Documents\My Pictures\Holocaust\Male Jews are arrested during Kristallnacht.jpg"/>
          <p:cNvPicPr/>
          <p:nvPr/>
        </p:nvPicPr>
        <p:blipFill>
          <a:blip r:embed="rId1"/>
          <a:stretch/>
        </p:blipFill>
        <p:spPr>
          <a:xfrm>
            <a:off x="474840" y="642960"/>
            <a:ext cx="8192880" cy="557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Joden niet meer in parken, treinen, cafés of bioscop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Rijbewijzen en radio’s inlever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Geen postduiven houd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Uitgesloten van onderwijs</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Geen beroep meer uitoefen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Na 21.00 niet meer op straat</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Moesten bedrijven, huizen, grond, sieraden, kunst aan Duitse staat verkopen</a:t>
            </a:r>
            <a:endParaRPr b="0" lang="en-US" sz="24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NIEUWE REGELS NA KRISTALLNACH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s de Kristallnacht het begin van de Holocaust?</a:t>
            </a:r>
            <a:endParaRPr b="0" lang="en-US" sz="2000" spc="-1" strike="noStrike">
              <a:solidFill>
                <a:srgbClr val="534949"/>
              </a:solidFill>
              <a:latin typeface="Franklin Gothic Medium"/>
            </a:endParaRPr>
          </a:p>
        </p:txBody>
      </p:sp>
      <p:sp>
        <p:nvSpPr>
          <p:cNvPr id="36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EN VERDER…</a:t>
            </a:r>
            <a:endParaRPr b="0" lang="en-US" sz="3200" spc="-1" strike="noStrike">
              <a:solidFill>
                <a:srgbClr val="ffffff"/>
              </a:solidFill>
              <a:latin typeface="Franklin Gothic Medium"/>
            </a:endParaRPr>
          </a:p>
        </p:txBody>
      </p:sp>
      <p:pic>
        <p:nvPicPr>
          <p:cNvPr id="361" name="Picture 6" descr="http://library.thinkquest.org/07aug/00841/HOLOCAUST/holocaust%20pics/holocaust_israel_survivors.jpg"/>
          <p:cNvPicPr/>
          <p:nvPr/>
        </p:nvPicPr>
        <p:blipFill>
          <a:blip r:embed="rId1"/>
          <a:stretch/>
        </p:blipFill>
        <p:spPr>
          <a:xfrm>
            <a:off x="5257800" y="2895480"/>
            <a:ext cx="2971800" cy="3429000"/>
          </a:xfrm>
          <a:prstGeom prst="rect">
            <a:avLst/>
          </a:prstGeom>
          <a:ln w="0">
            <a:noFill/>
          </a:ln>
        </p:spPr>
      </p:pic>
      <p:pic>
        <p:nvPicPr>
          <p:cNvPr id="362" name="Picture 8" descr="http://www2.dsu.nodak.edu/users/dmeier/Holocaust/auschwitz1.jpg"/>
          <p:cNvPicPr/>
          <p:nvPr/>
        </p:nvPicPr>
        <p:blipFill>
          <a:blip r:embed="rId2"/>
          <a:stretch/>
        </p:blipFill>
        <p:spPr>
          <a:xfrm>
            <a:off x="457200" y="3276720"/>
            <a:ext cx="4533840" cy="33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6840" y="1600200"/>
            <a:ext cx="4343400" cy="4525920"/>
          </a:xfrm>
          <a:prstGeom prst="rect">
            <a:avLst/>
          </a:prstGeom>
          <a:noFill/>
          <a:ln w="0">
            <a:noFill/>
          </a:ln>
        </p:spPr>
        <p:txBody>
          <a:bodyPr anchor="t">
            <a:normAutofit/>
          </a:bodyPr>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Joodse ambtenaren ontslagen</a:t>
            </a: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Boycott tegen Joodse winkels dokters en advocaten</a:t>
            </a:r>
            <a:endParaRPr b="0" lang="en-US" sz="2400" spc="-1" strike="noStrike">
              <a:solidFill>
                <a:srgbClr val="534949"/>
              </a:solidFill>
              <a:latin typeface="Franklin Gothic Medium"/>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1935 </a:t>
            </a:r>
            <a:r>
              <a:rPr b="0" lang="nl-NL" sz="2400" spc="-1" strike="noStrike">
                <a:solidFill>
                  <a:srgbClr val="ff0000"/>
                </a:solidFill>
                <a:latin typeface="Franklin Gothic Medium"/>
              </a:rPr>
              <a:t>Neurenberger wetten</a:t>
            </a:r>
            <a:r>
              <a:rPr b="0" lang="nl-NL" sz="2400" spc="-1" strike="noStrike">
                <a:solidFill>
                  <a:srgbClr val="534949"/>
                </a:solidFill>
                <a:latin typeface="Franklin Gothic Medium"/>
              </a:rPr>
              <a:t>: </a:t>
            </a:r>
            <a:endParaRPr b="0" lang="en-US" sz="24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zijn geen Duitse burgers meer</a:t>
            </a:r>
            <a:endParaRPr b="0" lang="en-US" sz="20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gen niet met Duitsers trouwen</a:t>
            </a:r>
            <a:endParaRPr b="0" lang="en-US" sz="20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gen geen Duitsers in dienst hebben</a:t>
            </a:r>
            <a:endParaRPr b="0" lang="en-US" sz="2000" spc="-1" strike="noStrike">
              <a:solidFill>
                <a:srgbClr val="534949"/>
              </a:solidFill>
              <a:latin typeface="Franklin Gothic Medium"/>
            </a:endParaRPr>
          </a:p>
        </p:txBody>
      </p:sp>
      <p:sp>
        <p:nvSpPr>
          <p:cNvPr id="311" name=""/>
          <p:cNvSpPr txBox="1"/>
          <p:nvPr/>
        </p:nvSpPr>
        <p:spPr>
          <a:xfrm>
            <a:off x="4648320" y="1719000"/>
            <a:ext cx="4038480" cy="4406760"/>
          </a:xfrm>
          <a:prstGeom prst="rect">
            <a:avLst/>
          </a:prstGeom>
          <a:noFill/>
          <a:ln w="0">
            <a:noFill/>
          </a:ln>
        </p:spPr>
        <p:txBody>
          <a:bodyPr anchor="t">
            <a:normAutofit/>
          </a:bodyPr>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ANTI-JOODSE MAATREGELEN TOT 1938</a:t>
            </a:r>
            <a:endParaRPr b="0" lang="en-US" sz="3200" spc="-1" strike="noStrike">
              <a:solidFill>
                <a:srgbClr val="ffffff"/>
              </a:solidFill>
              <a:latin typeface="Franklin Gothic Medium"/>
            </a:endParaRPr>
          </a:p>
        </p:txBody>
      </p:sp>
      <p:pic>
        <p:nvPicPr>
          <p:cNvPr id="313" name="Picture 2" descr="Bestand:Antisemitisme Duitsland 1933.jpg">
            <a:hlinkClick r:id="rId1"/>
          </p:cNvPr>
          <p:cNvPicPr/>
          <p:nvPr/>
        </p:nvPicPr>
        <p:blipFill>
          <a:blip r:embed="rId2"/>
          <a:stretch/>
        </p:blipFill>
        <p:spPr>
          <a:xfrm>
            <a:off x="4876920" y="1676520"/>
            <a:ext cx="3878280" cy="505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880" y="1719000"/>
            <a:ext cx="8407440" cy="4406760"/>
          </a:xfrm>
          <a:prstGeom prst="rect">
            <a:avLst/>
          </a:prstGeom>
          <a:noFill/>
          <a:ln w="0">
            <a:noFill/>
          </a:ln>
        </p:spPr>
        <p:txBody>
          <a:bodyPr anchor="t">
            <a:normAutofit/>
          </a:bodyPr>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elke anti-joodse wetten waren al in 1935 van kr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In welk jaar vond de kristallnacht plaats?</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was de aanleiding voor de kristalln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ie was de nazi minister van Propaganda? Wat was zijn reactie op de moord?</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gebeurde er tijdens de kristalln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deden politie en brandweer?</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ie betaalde de schade?</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wilden veel joden doen na kristallnacht en lukte di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arom was de kristallnacht zo’n schandalige gebeurtenis?</a:t>
            </a: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Kristallnacht herdenking 2008</a:t>
            </a: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VRAGEN</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9 November 1938: een uitbarsting van nazi-geweld tegen joden. In een paar uur tijd werden duizenden Joodse synagogen, winkels en huizen vernield of verwoest. </a:t>
            </a:r>
            <a:endParaRPr b="0" lang="en-US" sz="2400" spc="-1" strike="noStrike">
              <a:solidFill>
                <a:srgbClr val="534949"/>
              </a:solidFill>
              <a:latin typeface="Franklin Gothic Medium"/>
            </a:endParaRPr>
          </a:p>
          <a:p>
            <a:pPr marL="2728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Deze gebeurtenis is later bekend geworden als de Kristallnacht (of “Nacht van gebroken glas") omdat de straten bezaaid waren met glassplinters van vernielde ramen.</a:t>
            </a:r>
            <a:endParaRPr b="0" lang="en-US" sz="2400" spc="-1" strike="noStrike">
              <a:solidFill>
                <a:srgbClr val="534949"/>
              </a:solidFill>
              <a:latin typeface="Franklin Gothic Medium"/>
            </a:endParaRPr>
          </a:p>
        </p:txBody>
      </p:sp>
      <p:sp>
        <p:nvSpPr>
          <p:cNvPr id="31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WAT WAS DE KRISTALLNACH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1719000"/>
            <a:ext cx="403848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Herschel Grynszpan </a:t>
            </a:r>
            <a:endParaRPr b="0" lang="en-US" sz="2800" spc="-1" strike="noStrike">
              <a:solidFill>
                <a:srgbClr val="534949"/>
              </a:solidFill>
              <a:latin typeface="Franklin Gothic Medium"/>
            </a:endParaRPr>
          </a:p>
        </p:txBody>
      </p:sp>
      <p:sp>
        <p:nvSpPr>
          <p:cNvPr id="317" name=""/>
          <p:cNvSpPr txBox="1"/>
          <p:nvPr/>
        </p:nvSpPr>
        <p:spPr>
          <a:xfrm>
            <a:off x="4648320" y="1719000"/>
            <a:ext cx="403848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Ernst vom Rath </a:t>
            </a: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sp>
        <p:nvSpPr>
          <p:cNvPr id="31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WAT WAS DE AANLEIDING? </a:t>
            </a:r>
            <a:endParaRPr b="0" lang="en-US" sz="3200" spc="-1" strike="noStrike">
              <a:solidFill>
                <a:srgbClr val="ffffff"/>
              </a:solidFill>
              <a:latin typeface="Franklin Gothic Medium"/>
            </a:endParaRPr>
          </a:p>
        </p:txBody>
      </p:sp>
      <p:pic>
        <p:nvPicPr>
          <p:cNvPr id="319" name="Picture 1" descr="Herschel_Grynszpan.jpg"/>
          <p:cNvPicPr/>
          <p:nvPr/>
        </p:nvPicPr>
        <p:blipFill>
          <a:blip r:embed="rId1"/>
          <a:stretch/>
        </p:blipFill>
        <p:spPr>
          <a:xfrm>
            <a:off x="762120" y="2398680"/>
            <a:ext cx="3047760" cy="3909960"/>
          </a:xfrm>
          <a:prstGeom prst="rect">
            <a:avLst/>
          </a:prstGeom>
          <a:ln w="0">
            <a:noFill/>
          </a:ln>
        </p:spPr>
      </p:pic>
      <p:pic>
        <p:nvPicPr>
          <p:cNvPr id="320" name="Picture 2" descr="Bestand:Ernst-vom-Rath.jpg">
            <a:hlinkClick r:id="rId2"/>
          </p:cNvPr>
          <p:cNvPicPr/>
          <p:nvPr/>
        </p:nvPicPr>
        <p:blipFill>
          <a:blip r:embed="rId3"/>
          <a:stretch/>
        </p:blipFill>
        <p:spPr>
          <a:xfrm>
            <a:off x="5181480" y="2292480"/>
            <a:ext cx="3143520" cy="412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WAT WAS DE OORZAAK?</a:t>
            </a:r>
            <a:endParaRPr b="0" lang="en-US" sz="3200" spc="-1" strike="noStrike">
              <a:solidFill>
                <a:srgbClr val="ffffff"/>
              </a:solidFill>
              <a:latin typeface="Franklin Gothic Medium"/>
            </a:endParaRPr>
          </a:p>
        </p:txBody>
      </p:sp>
      <p:sp>
        <p:nvSpPr>
          <p:cNvPr id="322"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3"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Een Joodse tiener genaamd Herschel Grynszpan (17)</a:t>
            </a: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Woedend over de behandeling van zijn ouders,  vermoordde Grynszpan  de Duitse diplomaat Ernst vom Rath</a:t>
            </a: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Dit gebeurde  in Parijs</a:t>
            </a:r>
            <a:endParaRPr b="0" lang="en-US" sz="2800" spc="-1" strike="noStrike">
              <a:solidFill>
                <a:srgbClr val="534949"/>
              </a:solidFill>
              <a:latin typeface="Franklin Gothic Medium"/>
            </a:endParaRPr>
          </a:p>
        </p:txBody>
      </p:sp>
      <p:pic>
        <p:nvPicPr>
          <p:cNvPr id="324" name="Picture 7" descr="Bestand:Bundesarchiv Bild 146-1988-078-08, Herschel Feibel Grynszpan.jpg">
            <a:hlinkClick r:id="rId1"/>
          </p:cNvPr>
          <p:cNvPicPr/>
          <p:nvPr/>
        </p:nvPicPr>
        <p:blipFill>
          <a:blip r:embed="rId2"/>
          <a:stretch/>
        </p:blipFill>
        <p:spPr>
          <a:xfrm>
            <a:off x="914400" y="1523880"/>
            <a:ext cx="3429000" cy="505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GRYNZSPAN NA ARRESTATIE</a:t>
            </a:r>
            <a:endParaRPr b="0" lang="en-US" sz="3200" spc="-1" strike="noStrike">
              <a:solidFill>
                <a:srgbClr val="ffffff"/>
              </a:solidFill>
              <a:latin typeface="Franklin Gothic Medium"/>
            </a:endParaRPr>
          </a:p>
        </p:txBody>
      </p:sp>
      <p:sp>
        <p:nvSpPr>
          <p:cNvPr id="326"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534949"/>
              </a:solidFill>
              <a:latin typeface="Franklin Gothic Medium"/>
            </a:endParaRPr>
          </a:p>
        </p:txBody>
      </p:sp>
      <p:pic>
        <p:nvPicPr>
          <p:cNvPr id="328" name="Picture 1" descr="Herschel Grynszpan, Apprehended Shortly after he Assassinated Ernst von Rath, the Legation Secretary of the German Embassy in Paris (November 7, 1938).jpg"/>
          <p:cNvPicPr/>
          <p:nvPr/>
        </p:nvPicPr>
        <p:blipFill>
          <a:blip r:embed="rId1"/>
          <a:stretch/>
        </p:blipFill>
        <p:spPr>
          <a:xfrm>
            <a:off x="914400" y="1558800"/>
            <a:ext cx="7188120" cy="514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DE DUITSE REACTIE</a:t>
            </a:r>
            <a:endParaRPr b="0" lang="en-US" sz="3200" spc="-1" strike="noStrike">
              <a:solidFill>
                <a:srgbClr val="ffffff"/>
              </a:solidFill>
              <a:latin typeface="Franklin Gothic Medium"/>
            </a:endParaRPr>
          </a:p>
        </p:txBody>
      </p:sp>
      <p:sp>
        <p:nvSpPr>
          <p:cNvPr id="330" name=""/>
          <p:cNvSpPr txBox="1"/>
          <p:nvPr/>
        </p:nvSpPr>
        <p:spPr>
          <a:xfrm>
            <a:off x="457200" y="1600200"/>
            <a:ext cx="4038480" cy="4525920"/>
          </a:xfrm>
          <a:prstGeom prst="rect">
            <a:avLst/>
          </a:prstGeom>
          <a:noFill/>
          <a:ln w="0">
            <a:noFill/>
          </a:ln>
        </p:spPr>
        <p:txBody>
          <a:bodyPr anchor="t">
            <a:normAutofit/>
          </a:bodyPr>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Toespraak Goebbels (minister van propaganda): </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Moet ik u vertellen tot welk ras het vuile zwijn behoorde dat deze lage misdaad heeft begaan? Een Jood!".</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Franklin Gothic Medium"/>
              </a:rPr>
              <a:t>Stelling Goebbels: alle joden zijn verantwoordelijk voor de moord! </a:t>
            </a:r>
            <a:endParaRPr b="0" lang="en-US" sz="2000" spc="-1" strike="noStrike">
              <a:solidFill>
                <a:srgbClr val="534949"/>
              </a:solidFill>
              <a:latin typeface="Franklin Gothic Medium"/>
            </a:endParaRPr>
          </a:p>
        </p:txBody>
      </p:sp>
      <p:sp>
        <p:nvSpPr>
          <p:cNvPr id="33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pic>
        <p:nvPicPr>
          <p:cNvPr id="332" name="Picture 7" descr="Bestand:Goebbels speech 1930's.jpg">
            <a:hlinkClick r:id="rId1"/>
          </p:cNvPr>
          <p:cNvPicPr/>
          <p:nvPr/>
        </p:nvPicPr>
        <p:blipFill>
          <a:blip r:embed="rId2"/>
          <a:stretch/>
        </p:blipFill>
        <p:spPr>
          <a:xfrm>
            <a:off x="5105520" y="1676520"/>
            <a:ext cx="3571920" cy="475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30">
                                            <p:txEl>
                                              <p:pRg st="4" end="4"/>
                                            </p:txEl>
                                          </p:spTgt>
                                        </p:tgtEl>
                                        <p:attrNameLst>
                                          <p:attrName>style.visibility</p:attrName>
                                        </p:attrNameLst>
                                      </p:cBhvr>
                                      <p:to>
                                        <p:strVal val="visible"/>
                                      </p:to>
                                    </p:set>
                                    <p:anim calcmode="lin" valueType="num">
                                      <p:cBhvr additive="base">
                                        <p:cTn id="7" dur="500" fill="hold"/>
                                        <p:tgtEl>
                                          <p:spTgt spid="330">
                                            <p:txEl>
                                              <p:pRg st="4" end="4"/>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DE DUITSE REACTIE</a:t>
            </a:r>
            <a:endParaRPr b="0" lang="en-US" sz="3200" spc="-1" strike="noStrike">
              <a:solidFill>
                <a:srgbClr val="ffffff"/>
              </a:solidFill>
              <a:latin typeface="Franklin Gothic Medium"/>
            </a:endParaRPr>
          </a:p>
        </p:txBody>
      </p:sp>
      <p:sp>
        <p:nvSpPr>
          <p:cNvPr id="334"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5"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De Nazi’s vernielden synagogen en winkels, zelfs huizen</a:t>
            </a:r>
            <a:endParaRPr b="0" lang="en-US" sz="2600" spc="-1" strike="noStrike">
              <a:solidFill>
                <a:srgbClr val="534949"/>
              </a:solidFill>
              <a:latin typeface="Franklin Gothic Medium"/>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Ze vermoordden en verwondden veel Joden</a:t>
            </a:r>
            <a:endParaRPr b="0" lang="en-US" sz="2600" spc="-1" strike="noStrike">
              <a:solidFill>
                <a:srgbClr val="534949"/>
              </a:solidFill>
              <a:latin typeface="Franklin Gothic Medium"/>
            </a:endParaRPr>
          </a:p>
          <a:p>
            <a:pPr marL="272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De straten waren bezaaid met gebroken glas, vandaar de naam Kristallnacht</a:t>
            </a:r>
            <a:endParaRPr b="0" lang="en-US" sz="2600" spc="-1" strike="noStrike">
              <a:solidFill>
                <a:srgbClr val="534949"/>
              </a:solidFill>
              <a:latin typeface="Franklin Gothic Medium"/>
            </a:endParaRPr>
          </a:p>
        </p:txBody>
      </p:sp>
      <p:pic>
        <p:nvPicPr>
          <p:cNvPr id="336" name="Picture 6" descr="Bestand:The day after Kristallnacht.jpg">
            <a:hlinkClick r:id="rId1"/>
          </p:cNvPr>
          <p:cNvPicPr/>
          <p:nvPr/>
        </p:nvPicPr>
        <p:blipFill>
          <a:blip r:embed="rId2"/>
          <a:stretch/>
        </p:blipFill>
        <p:spPr>
          <a:xfrm>
            <a:off x="228600" y="1752480"/>
            <a:ext cx="444960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SCHADE</a:t>
            </a:r>
            <a:endParaRPr b="0" lang="en-US" sz="3200" spc="-1" strike="noStrike">
              <a:solidFill>
                <a:srgbClr val="ffffff"/>
              </a:solidFill>
              <a:latin typeface="Franklin Gothic Medium"/>
            </a:endParaRPr>
          </a:p>
        </p:txBody>
      </p:sp>
      <p:sp>
        <p:nvSpPr>
          <p:cNvPr id="338" name="PlaceHolder 2"/>
          <p:cNvSpPr>
            <a:spLocks noGrp="1"/>
          </p:cNvSpPr>
          <p:nvPr>
            <p:ph/>
          </p:nvPr>
        </p:nvSpPr>
        <p:spPr>
          <a:xfrm>
            <a:off x="457200" y="1600200"/>
            <a:ext cx="4038480" cy="4525920"/>
          </a:xfrm>
          <a:prstGeom prst="rect">
            <a:avLst/>
          </a:prstGeom>
          <a:noFill/>
          <a:ln w="0">
            <a:noFill/>
          </a:ln>
        </p:spPr>
        <p:txBody>
          <a:bodyPr anchor="t">
            <a:normAutofit/>
          </a:bodyPr>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1300 synagogen in  brand gestoken, 171 huizen afgebrand</a:t>
            </a:r>
            <a:endParaRPr b="0" lang="en-US" sz="2600" spc="-1" strike="noStrike">
              <a:solidFill>
                <a:srgbClr val="534949"/>
              </a:solidFill>
              <a:latin typeface="Franklin Gothic Medium"/>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76 synagogen verwoest, 7500 winkels geplunderd</a:t>
            </a:r>
            <a:endParaRPr b="0" lang="en-US" sz="2600" spc="-1" strike="noStrike">
              <a:solidFill>
                <a:srgbClr val="534949"/>
              </a:solidFill>
              <a:latin typeface="Franklin Gothic Medium"/>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Politie en Brandweer keken toe maar grepen niet in</a:t>
            </a:r>
            <a:endParaRPr b="0" lang="en-US" sz="2600" spc="-1" strike="noStrike">
              <a:solidFill>
                <a:srgbClr val="534949"/>
              </a:solidFill>
              <a:latin typeface="Franklin Gothic Medium"/>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pic>
        <p:nvPicPr>
          <p:cNvPr id="339" name="Picture 6" descr="image11b"/>
          <p:cNvPicPr/>
          <p:nvPr/>
        </p:nvPicPr>
        <p:blipFill>
          <a:blip r:embed="rId1"/>
          <a:stretch/>
        </p:blipFill>
        <p:spPr>
          <a:xfrm>
            <a:off x="4648320" y="1824120"/>
            <a:ext cx="4038480" cy="407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01:59:46Z</dcterms:created>
  <dc:creator> </dc:creator>
  <dc:description/>
  <dc:language>en-US</dc:language>
  <cp:lastModifiedBy>Krista Harte</cp:lastModifiedBy>
  <dcterms:modified xsi:type="dcterms:W3CDTF">2014-12-07T08:51:22Z</dcterms:modified>
  <cp:revision>24</cp:revision>
  <dc:subject/>
  <dc:title>Slide 1</dc:title>
</cp:coreProperties>
</file>