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1A8-9719-4604-A802-5E7138CB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BAC-8334-42F3-9668-7D84A4D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184-5EA8-4CC2-B5A6-88E6DE17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44F-3822-42C0-A293-16485CD2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7F4-6E07-4273-9E84-216B3D60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C525-B33B-4F31-BAB5-7762B39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645-BFAC-4FD8-8890-F3683A9E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7B5E-6C7B-4CFE-B3E6-088213DC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A25D-1D49-471B-9590-567CE9C8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B476-FD76-4CF2-9257-4D4EE9B5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A72-88FB-4E2E-9FF2-1F06047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84A-9507-4871-BA00-641A2F56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94D-65AC-410D-942B-9BD3DEAE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21CF-9B90-469F-B73A-DB62E0A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099F-D719-44FB-8D92-A32427B4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B388-FC87-4BBF-9275-9812CF0E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3DBD-6B65-46E0-AAAD-F7F1C513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9A69-39CF-4B56-90B4-C9BE929D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9851-2168-48A5-9A9E-3A928D55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81BB-D323-4417-BA3A-08DA6B0B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2A3A-386E-4236-909E-520F289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6864-79C9-40C7-93CA-D2782F02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B9A-6FEF-4B61-A6D7-2A5BDFF4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01D9-6B67-428A-A24A-12951DA0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8124-D8E2-4CB4-82A0-777A3A3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D0EA-BCE1-452C-8301-B45F13C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69F3-4EF4-47D9-9BA4-2A84AB5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7D17-05B2-4FB2-BA7A-797A047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E762-2B1D-43DA-B897-439906DF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C37A-BB8D-4701-ABAA-2CE87A27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AA93-A190-4C80-8C43-5AAF0D01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60AF-ECDE-4008-9F46-FB8E6D4B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4AE4-AAA9-49B4-A5F5-1780DC63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5CA-CFEE-459E-8C29-67C0FE08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006D-E8FF-4751-B6C6-A4956A7D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CC1F-0F47-4741-9BE9-1FC84B37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3A6B-0262-4E5E-AB09-DCECFEA1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FBBA-5B7D-457B-93E0-EF97E1C1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18E8F-20D9-4099-B854-E6C1617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87A4-1627-4CD4-8762-4A3EB47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F4D9-635A-486B-8116-3CFC46A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6F1D-01C1-4F76-A893-E59D8023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46A2-E07C-48E8-8CEC-65A292E6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A929-105F-4DD4-A958-1736FA5F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5B2-73F6-4148-A81A-92DEECBD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CEAE-67B4-4C1B-ADFD-DA084EA6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F1EE-4EF0-4A35-9239-77F6806A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F16EA-E686-4667-81D7-5EDCDB9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453C3-33E3-48F1-B3E3-C98F6DE2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DCF2-99B5-48D9-B922-BD560EA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D67A-94E9-4404-93A6-13DFD9DD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462B0-E9DA-42DD-8EA9-9C4997D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75C0-46E1-4440-A1DB-56C15A9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6D7A-E22F-480C-B2FA-F3328755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1799-6C0B-4493-80B6-BCF6EBD4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D2E-A55E-4B8C-9FCA-EF5249D8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5662B-81E9-4BBF-A3AE-C60A8080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5FF-188F-4C0B-B880-DE21A5D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01B-DD2B-4F43-815C-97568B7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AEC-E53A-48A0-8BA0-9F5E8B1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22A-CE9F-4A66-9136-7863F038414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1EF-6098-4F4D-B5F7-601E06C9B18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4224-D6CD-4719-B3C7-C6BDCF836A8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98E-8E55-4F56-A490-E43759E167E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B353-0945-4CB2-AB01-2FD373D1F97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toen.nu/media/3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H3.3 NEDERLAND TIJDENS DE DUITSE BEZETTING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Duitsers op het Binnenhof tijdens de Tweede Wereldoorlog.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www.auschwitz.nl/beeld/holocaust/5_A81-12.jpg"/>
          <p:cNvPicPr/>
          <p:nvPr/>
        </p:nvPicPr>
        <p:blipFill>
          <a:blip r:embed="rId2"/>
          <a:stretch/>
        </p:blipFill>
        <p:spPr>
          <a:xfrm>
            <a:off x="4932360" y="3068640"/>
            <a:ext cx="3809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0 Mei 1940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0 Mei 1940: aanval op Nederland als onderdeel van de Blitzkrieg op West-Europa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4 mei 1940: bombardement op Rotterdam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5 mei 1940: Nederland capituleer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Koningin en regering vluchten naar Enge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Achtergebleven bestuurders hebben opdracht ‘in belang van volk’ met de ‘nieuwe gezagsdragers’ samen te werken’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24" name="Groep 7"/>
          <p:cNvGrpSpPr/>
          <p:nvPr/>
        </p:nvGrpSpPr>
        <p:grpSpPr>
          <a:xfrm>
            <a:off x="324000" y="1197000"/>
            <a:ext cx="8191440" cy="5500080"/>
            <a:chOff x="324000" y="1197000"/>
            <a:chExt cx="8191440" cy="5500080"/>
          </a:xfrm>
        </p:grpSpPr>
        <p:pic>
          <p:nvPicPr>
            <p:cNvPr id="225" name="Picture 5" descr="http://www.lewisiana.nl/arendsmilde/foto%27s1940-45/Rotterdam%20mei%201940%201.jpg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8191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kstvak 6"/>
            <p:cNvSpPr/>
            <p:nvPr/>
          </p:nvSpPr>
          <p:spPr>
            <a:xfrm>
              <a:off x="2142000" y="6237360"/>
              <a:ext cx="3210480" cy="45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292934"/>
                  </a:solidFill>
                  <a:latin typeface="Arial"/>
                </a:rPr>
                <a:t>Brandend Rotterd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Regering in ballingschap (Londen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Koningin Wilhelmina symbool van het verzet in Nederland, mede dankzij toespraken voor Radio Oranj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http://blogs.rnw.nl/wereldkids/files/2009/04/080504_wo2_radiooranje.jpg"/>
          <p:cNvPicPr/>
          <p:nvPr/>
        </p:nvPicPr>
        <p:blipFill>
          <a:blip r:embed="rId1"/>
          <a:stretch/>
        </p:blipFill>
        <p:spPr>
          <a:xfrm>
            <a:off x="2484360" y="1628640"/>
            <a:ext cx="40482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erloop Duitse bezetting van Nederland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81040" y="1512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34"/>
                </a:solidFill>
                <a:latin typeface="Arial"/>
              </a:rPr>
              <a:t>Eerste fase: 1940-194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 bestuur (o.l.v. Seyss-Inquart) behandelt Nederlanders ‘met fluwelen handschoen’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Reden: Nazi’s proberen ‘Germaans broedervolk’ aan Duitse kant te krijge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aarom ook geen militair bestuur zoals in België en Frankrij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Houding meeste Nederlander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Aanpassen aan nieuwe situatie (</a:t>
            </a:r>
            <a:r>
              <a:rPr b="0" i="1" lang="nl-NL" sz="1600" spc="-1" strike="noStrike">
                <a:solidFill>
                  <a:srgbClr val="292934"/>
                </a:solidFill>
                <a:latin typeface="Arial"/>
              </a:rPr>
              <a:t>accommodatie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Sommigen collaboreren (werken samen): NSB o.l.v. Mussert groei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Nauwelijks verze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In 1941: strenger Duits optred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NSB enige politiek parti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ers controleren vakbonden, kunst, pers, onderwijs en jeugdorganisat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5" descr="http://www.annefrankguide.net/nl-NL/content/NSBaffiche2-b-foto.jpg"/>
          <p:cNvPicPr/>
          <p:nvPr/>
        </p:nvPicPr>
        <p:blipFill>
          <a:blip r:embed="rId1"/>
          <a:stretch/>
        </p:blipFill>
        <p:spPr>
          <a:xfrm>
            <a:off x="6443640" y="2108160"/>
            <a:ext cx="2649600" cy="388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weede Wereldoorlo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66720"/>
            <a:ext cx="494352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7"/>
          <p:cNvSpPr/>
          <p:nvPr/>
        </p:nvSpPr>
        <p:spPr>
          <a:xfrm>
            <a:off x="349560" y="638172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Seyss-Inquart spreekt NSB-bijeenkomst to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Picture 9" descr="http://www.bs-prisma.nl/lessen/geschiedenis/groep8/thema3/Mussert2.jpg"/>
          <p:cNvPicPr/>
          <p:nvPr/>
        </p:nvPicPr>
        <p:blipFill>
          <a:blip r:embed="rId4"/>
          <a:stretch/>
        </p:blipFill>
        <p:spPr>
          <a:xfrm>
            <a:off x="2614680" y="63324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kstvak 9"/>
          <p:cNvSpPr/>
          <p:nvPr/>
        </p:nvSpPr>
        <p:spPr>
          <a:xfrm>
            <a:off x="3286440" y="5373720"/>
            <a:ext cx="2818800" cy="3682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NSB-leider Anton Musse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roeg verzet: </a:t>
            </a:r>
            <a:r>
              <a:rPr b="0" lang="nl-NL" sz="2900" spc="-1" strike="noStrike">
                <a:solidFill>
                  <a:srgbClr val="d2533c"/>
                </a:solidFill>
                <a:latin typeface="Arial"/>
              </a:rPr>
              <a:t>februaristaking 1941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5589360"/>
            <a:ext cx="8101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Solidariteit arbeiders met Joden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92934"/>
                </a:solidFill>
                <a:latin typeface="Arial"/>
              </a:rPr>
              <a:t>Bijzonder: enige grootschalige demonstratie door niet-joden in West-Europ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Duitsers onderdrukken staking met gewel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9" name="Picture 5" descr="http://www.verzetsmuseum.org/binaries/achter_de_iconen/februaristaking/razzia_j_d_370.jpg"/>
          <p:cNvPicPr/>
          <p:nvPr/>
        </p:nvPicPr>
        <p:blipFill>
          <a:blip r:embed="rId1"/>
          <a:stretch/>
        </p:blipFill>
        <p:spPr>
          <a:xfrm>
            <a:off x="395280" y="1557360"/>
            <a:ext cx="3524400" cy="300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virtueletochten.noord-hollandsarchief.nl/content/image/images/custom/184.gif"/>
          <p:cNvPicPr/>
          <p:nvPr/>
        </p:nvPicPr>
        <p:blipFill>
          <a:blip r:embed="rId2"/>
          <a:stretch/>
        </p:blipFill>
        <p:spPr>
          <a:xfrm>
            <a:off x="4464000" y="0"/>
            <a:ext cx="4680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Jodenvervolging in Nederla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0-1941: burgerrechten joden ontnomen en steeds meer geïsolee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Bv. Beroeps- en uitgaansverboden / dragen jodenster / oprichting jodenwijk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2-1943:vrijwel alle joden via kamp Westerbork en Vught naar Auschwitz en Sobibor getransporteerd en vermo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lechts enkelen weten door onderduik (met steun van Nederlands verzet) de oorlog te overlev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5" descr="http://www.nrc.nl/multimedia/dynamic/00042/westerbork_42518e.jpg"/>
          <p:cNvPicPr/>
          <p:nvPr/>
        </p:nvPicPr>
        <p:blipFill>
          <a:blip r:embed="rId1"/>
          <a:stretch/>
        </p:blipFill>
        <p:spPr>
          <a:xfrm>
            <a:off x="2556000" y="2421000"/>
            <a:ext cx="4257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d2533c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 fas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943-194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Duitsers treden harder op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Verplichte tewerkstelling mannen i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teeds meer schaarste aan goederen wegens leveringen aa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Gevolg: (Lichte) groei verz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Laatste fase: 1944-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Na invasie in Normandië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juni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en slag bij Arnhem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september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komt Nederland in de frontlinie te liggen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Gevolg: grote delen Zeeland, Limburg en rivierengebied lijden onder oorlogsgewel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Noord-Nederland blijft beze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Wegens spoorwegstaking (uitgeroepen door regering in Londen) grote schaarste aan voedsel en brandstof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Gevolg: 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Hongerwinter</a:t>
            </a: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: tienduizenden slachtoffers, vooral in de sted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5" descr="Een hongerend jongetje in Amsterdam 1944-45"/>
          <p:cNvPicPr/>
          <p:nvPr/>
        </p:nvPicPr>
        <p:blipFill>
          <a:blip r:embed="rId1"/>
          <a:stretch/>
        </p:blipFill>
        <p:spPr>
          <a:xfrm>
            <a:off x="6227640" y="2852640"/>
            <a:ext cx="2524320" cy="328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ttp://xtbuy.com/image/album/D+Day/photo-D-Day.jpg"/>
          <p:cNvPicPr/>
          <p:nvPr/>
        </p:nvPicPr>
        <p:blipFill>
          <a:blip r:embed="rId2"/>
          <a:stretch/>
        </p:blipFill>
        <p:spPr>
          <a:xfrm>
            <a:off x="755640" y="155736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Mei 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Bevrijding van Noorden en Westen van Nederland door Canadezen en Engels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5 mei 1945: capitulatie Duitse leger in Neder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http://sgpdirksland.files.wordpress.com/2010/03/bevrijding.jpg"/>
          <p:cNvPicPr/>
          <p:nvPr/>
        </p:nvPicPr>
        <p:blipFill>
          <a:blip r:embed="rId1"/>
          <a:stretch/>
        </p:blipFill>
        <p:spPr>
          <a:xfrm>
            <a:off x="324000" y="1052640"/>
            <a:ext cx="4095720" cy="30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familieclausman.nl/afbeeldingen/bevrijding.jpg"/>
          <p:cNvPicPr/>
          <p:nvPr/>
        </p:nvPicPr>
        <p:blipFill>
          <a:blip r:embed="rId2"/>
          <a:stretch/>
        </p:blipFill>
        <p:spPr>
          <a:xfrm>
            <a:off x="4643280" y="1197000"/>
            <a:ext cx="4256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34:11Z</dcterms:created>
  <dc:creator>Damstede</dc:creator>
  <dc:description/>
  <dc:language>en-US</dc:language>
  <cp:lastModifiedBy>WINDOWSXP</cp:lastModifiedBy>
  <dcterms:modified xsi:type="dcterms:W3CDTF">2011-12-20T08:57:06Z</dcterms:modified>
  <cp:revision>8</cp:revision>
  <dc:subject/>
  <dc:title>9§7 duitse bezetting van Nederland</dc:title>
</cp:coreProperties>
</file>