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7E0-5343-4AB8-89D0-662D5D05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9EB-4D6D-445A-9B40-E5BE2A9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967-FABE-48BA-AC70-E6A90F05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4DA-062C-416A-B706-73C0561E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58D9-B390-4A78-9B26-F694FD8A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8968-CCA2-40D9-8403-3269DF75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92BE-FDFF-4013-A0CE-3D022C7A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C22B-6DB4-4C48-BA69-112FCBF0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C798-23DF-4896-BA76-EEDED247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CDB6-13EB-4D66-BD26-9BBBDDCA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B3FC-56E3-4EC4-AB90-8BC24B27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D92-5085-462A-892A-D6C4EA8C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661B-9E29-4842-9744-05BB501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FFCD-DD95-409A-AD12-1BD2C990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A988-D071-4F92-AEFC-8DF0D98C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06C4-68B8-4C96-8B79-E9B27A93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A595-E102-461E-B0E0-068BCC90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2A1D-11EF-4763-8464-797BDA32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36DC-A799-486E-9DCA-C46ECD3A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AAB91-962D-4D1B-AC23-B3877412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E74D-E974-4E70-98BE-0F119400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A833-CDA7-484E-9844-5CD6C036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694-F2A4-40BD-89DC-0B2E0C26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5947-057D-4525-AF70-695F0EDB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2FE78-3183-460B-8D25-F88B407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D1EE-7C44-4838-A16C-53751B47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6732-CC4D-4DB7-83DC-C22FEB8A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C1FE-041A-47F5-80A9-32753DD6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0580-F148-4AB8-9BCF-44E3A9DF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3CA16-C76F-4480-A56B-798C4FB3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019A-C8E1-4C23-A676-4C7E7A40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F649-0748-4DEC-8002-D0CB3F93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ABBE-5DB4-4BED-8A89-9F5AAC4E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ED2-A3C2-4902-90CF-37DF83AB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6DCBB-3250-4A5B-89E0-F2CD33B2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5DD36-EB28-4606-8879-481555D8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6439-1E0A-4993-8D8A-56CC46E9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7344A-A168-410D-AF3C-05F70A2D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0175-9FC5-4D9D-B61B-BC094A58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662B3-5368-468A-A978-47E6C3C3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4DBF9-3DEE-4096-A44C-D2866C2F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A8595-CF04-4F46-8914-1264E3D1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A836-FDF4-4C33-B1A6-07F13CC7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4713B-5C61-4EC8-858F-E72B7CE0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3D7-AD4B-4162-8C1D-F550A734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25F2-39A6-473E-B440-63D4C9BA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7F97C-CE59-442D-97C6-25A6404D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C2EE0-4F73-48A9-BB84-862E8BD9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DFA5A-E64A-4A67-B91A-7F31A497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D1308-4DAA-450A-A9EF-33A5C80F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6E23A-1892-48AA-B1C4-487D9C9B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216C2-4855-48E1-BE3D-A9163B1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D6A23-58FF-4AE1-94A4-76B992D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69AAF-6FED-4485-B7A5-510F456F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28E4-A572-4E92-B923-28A89482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481-E21D-4B32-A15A-68D7632F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C4AF8-3E44-4513-9D2E-B977BB5F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B48-F8AC-48A1-BABF-FED710CE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B9B-ACC7-464E-82F0-F995AEB7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CF0-EFE4-4568-A33C-F6B3D0E4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E793-B717-45D8-B03B-9495A5AC330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B059-B7D3-4F26-8209-6FEBB769FBD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C9B7-0854-4A1A-82F9-1439885B002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6556-3915-4D2E-9FC1-D2757FD11A6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1AAE-D306-40F0-BCA0-5140B3C54A6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toen.nu/media/38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H3.3 NEDERLAND TIJDENS DE DUITSE BEZETTING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5" descr="Duitsers op het Binnenhof tijdens de Tweede Wereldoorlog."/>
          <p:cNvPicPr/>
          <p:nvPr/>
        </p:nvPicPr>
        <p:blipFill>
          <a:blip r:embed="rId1"/>
          <a:stretch/>
        </p:blipFill>
        <p:spPr>
          <a:xfrm>
            <a:off x="324000" y="2060640"/>
            <a:ext cx="4316400" cy="3240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http://www.auschwitz.nl/beeld/holocaust/5_A81-12.jpg"/>
          <p:cNvPicPr/>
          <p:nvPr/>
        </p:nvPicPr>
        <p:blipFill>
          <a:blip r:embed="rId2"/>
          <a:stretch/>
        </p:blipFill>
        <p:spPr>
          <a:xfrm>
            <a:off x="4932360" y="3068640"/>
            <a:ext cx="3809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0 Mei 1940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0 Mei 1940: aanval op Nederland als onderdeel van de Blitzkrieg op West-Europa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4 mei 1940: bombardement op Rotterdam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5 mei 1940: Nederland capituleer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Koningin en regering vluchten naar Enge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Achtergebleven bestuurders hebben opdracht ‘in belang van volk’ met de ‘nieuwe gezagsdragers’ samen te werken’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24" name="Groep 7"/>
          <p:cNvGrpSpPr/>
          <p:nvPr/>
        </p:nvGrpSpPr>
        <p:grpSpPr>
          <a:xfrm>
            <a:off x="324000" y="1197000"/>
            <a:ext cx="8191440" cy="5500080"/>
            <a:chOff x="324000" y="1197000"/>
            <a:chExt cx="8191440" cy="5500080"/>
          </a:xfrm>
        </p:grpSpPr>
        <p:pic>
          <p:nvPicPr>
            <p:cNvPr id="225" name="Picture 5" descr="http://www.lewisiana.nl/arendsmilde/foto%27s1940-45/Rotterdam%20mei%201940%201.jpg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819144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kstvak 6"/>
            <p:cNvSpPr/>
            <p:nvPr/>
          </p:nvSpPr>
          <p:spPr>
            <a:xfrm>
              <a:off x="2142000" y="6237360"/>
              <a:ext cx="3210480" cy="459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292934"/>
                  </a:solidFill>
                  <a:latin typeface="Arial"/>
                </a:rPr>
                <a:t>Brandend Rotterdam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Regering in ballingschap (Londen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Koningin Wilhelmina symbool van het verzet in Nederland, mede dankzij toespraken voor Radio Oranj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9" name="Picture 5" descr="http://blogs.rnw.nl/wereldkids/files/2009/04/080504_wo2_radiooranje.jpg"/>
          <p:cNvPicPr/>
          <p:nvPr/>
        </p:nvPicPr>
        <p:blipFill>
          <a:blip r:embed="rId1"/>
          <a:stretch/>
        </p:blipFill>
        <p:spPr>
          <a:xfrm>
            <a:off x="2484360" y="1628640"/>
            <a:ext cx="40482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erloop Duitse bezetting van Nederland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81040" y="151236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34"/>
                </a:solidFill>
                <a:latin typeface="Arial"/>
              </a:rPr>
              <a:t>Eerste fase: 1940-194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 bestuur (o.l.v. Seyss-Inquart) behandelt Nederlanders ‘met fluwelen handschoen’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Reden: Nazi’s proberen ‘Germaans broedervolk’ aan Duitse kant te krijgen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aarom ook geen militair bestuur zoals in België en Frankrij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Houding meeste Nederlanders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Aanpassen aan nieuwe situatie (</a:t>
            </a:r>
            <a:r>
              <a:rPr b="0" i="1" lang="nl-NL" sz="1600" spc="-1" strike="noStrike">
                <a:solidFill>
                  <a:srgbClr val="292934"/>
                </a:solidFill>
                <a:latin typeface="Arial"/>
              </a:rPr>
              <a:t>accommodatie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Sommigen collaboreren (werken samen): NSB o.l.v. Mussert groei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Nauwelijks verze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In 1941: strenger Duits optred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NSB enige politiek partij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ers controleren vakbonden, kunst, pers, onderwijs en jeugdorganisati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5" descr="http://www.annefrankguide.net/nl-NL/content/NSBaffiche2-b-foto.jpg"/>
          <p:cNvPicPr/>
          <p:nvPr/>
        </p:nvPicPr>
        <p:blipFill>
          <a:blip r:embed="rId1"/>
          <a:stretch/>
        </p:blipFill>
        <p:spPr>
          <a:xfrm>
            <a:off x="6443640" y="2108160"/>
            <a:ext cx="2649600" cy="388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Tweede Wereldoorlo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66720"/>
            <a:ext cx="4943520" cy="5715000"/>
          </a:xfrm>
          <a:prstGeom prst="rect">
            <a:avLst/>
          </a:prstGeom>
          <a:ln w="0">
            <a:noFill/>
          </a:ln>
        </p:spPr>
      </p:pic>
      <p:sp>
        <p:nvSpPr>
          <p:cNvPr id="234" name="Tekstvak 7"/>
          <p:cNvSpPr/>
          <p:nvPr/>
        </p:nvSpPr>
        <p:spPr>
          <a:xfrm>
            <a:off x="349560" y="638172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Seyss-Inquart spreekt NSB-bijeenkomst to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5" name="Picture 9" descr="http://www.bs-prisma.nl/lessen/geschiedenis/groep8/thema3/Mussert2.jpg"/>
          <p:cNvPicPr/>
          <p:nvPr/>
        </p:nvPicPr>
        <p:blipFill>
          <a:blip r:embed="rId4"/>
          <a:stretch/>
        </p:blipFill>
        <p:spPr>
          <a:xfrm>
            <a:off x="2614680" y="63324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Tekstvak 9"/>
          <p:cNvSpPr/>
          <p:nvPr/>
        </p:nvSpPr>
        <p:spPr>
          <a:xfrm>
            <a:off x="3286440" y="5373720"/>
            <a:ext cx="2818800" cy="3682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NSB-leider Anton Musse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roeg verzet: </a:t>
            </a:r>
            <a:r>
              <a:rPr b="0" lang="nl-NL" sz="2900" spc="-1" strike="noStrike">
                <a:solidFill>
                  <a:srgbClr val="d2533c"/>
                </a:solidFill>
                <a:latin typeface="Arial"/>
              </a:rPr>
              <a:t>februaristaking 1941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5589360"/>
            <a:ext cx="810108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Solidariteit arbeiders met Joden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92934"/>
                </a:solidFill>
                <a:latin typeface="Arial"/>
              </a:rPr>
              <a:t>Bijzonder: enige grootschalige demonstratie door niet-joden in West-Europa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Duitsers onderdrukken staking met gewel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9" name="Picture 5" descr="http://www.verzetsmuseum.org/binaries/achter_de_iconen/februaristaking/razzia_j_d_370.jpg"/>
          <p:cNvPicPr/>
          <p:nvPr/>
        </p:nvPicPr>
        <p:blipFill>
          <a:blip r:embed="rId1"/>
          <a:stretch/>
        </p:blipFill>
        <p:spPr>
          <a:xfrm>
            <a:off x="395280" y="1557360"/>
            <a:ext cx="3524400" cy="3009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virtueletochten.noord-hollandsarchief.nl/content/image/images/custom/184.gif"/>
          <p:cNvPicPr/>
          <p:nvPr/>
        </p:nvPicPr>
        <p:blipFill>
          <a:blip r:embed="rId2"/>
          <a:stretch/>
        </p:blipFill>
        <p:spPr>
          <a:xfrm>
            <a:off x="4464000" y="0"/>
            <a:ext cx="4680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Jodenvervolging in Nederla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0-1941: burgerrechten joden ontnomen en steeds meer geïsolee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Bv. Beroeps- en uitgaansverboden / dragen jodenster / oprichting jodenwijk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2-1943:vrijwel alle joden via kamp Westerbork en Vught naar Auschwitz en Sobibor getransporteerd en vermoo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lechts enkelen weten door onderduik (met steun van Nederlands verzet) de oorlog te overlev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3" name="Picture 5" descr="http://www.nrc.nl/multimedia/dynamic/00042/westerbork_42518e.jpg"/>
          <p:cNvPicPr/>
          <p:nvPr/>
        </p:nvPicPr>
        <p:blipFill>
          <a:blip r:embed="rId1"/>
          <a:stretch/>
        </p:blipFill>
        <p:spPr>
          <a:xfrm>
            <a:off x="2556000" y="2421000"/>
            <a:ext cx="4257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d2533c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 fas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943-1944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Duitsers treden harder op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Verplichte tewerkstelling mannen i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teeds meer schaarste aan goederen wegens leveringen aa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Gevolg: (Lichte) groei verz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Laatste fase: 1944-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Na invasie in Normandië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juni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en slag bij Arnhem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september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komt Nederland in de frontlinie te liggen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Gevolg: grote delen Zeeland, Limburg en rivierengebied lijden onder oorlogsgewel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Noord-Nederland blijft bezet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Wegens spoorwegstaking (uitgeroepen door regering in Londen) grote schaarste aan voedsel en brandstof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Gevolg: 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Hongerwinter</a:t>
            </a: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: tienduizenden slachtoffers, vooral in de sted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8" name="Picture 5" descr="Een hongerend jongetje in Amsterdam 1944-45"/>
          <p:cNvPicPr/>
          <p:nvPr/>
        </p:nvPicPr>
        <p:blipFill>
          <a:blip r:embed="rId1"/>
          <a:stretch/>
        </p:blipFill>
        <p:spPr>
          <a:xfrm>
            <a:off x="6227640" y="2852640"/>
            <a:ext cx="2524320" cy="3286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http://xtbuy.com/image/album/D+Day/photo-D-Day.jpg"/>
          <p:cNvPicPr/>
          <p:nvPr/>
        </p:nvPicPr>
        <p:blipFill>
          <a:blip r:embed="rId2"/>
          <a:stretch/>
        </p:blipFill>
        <p:spPr>
          <a:xfrm>
            <a:off x="755640" y="1557360"/>
            <a:ext cx="476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Mei 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528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Bevrijding van Noorden en Westen van Nederland door Canadezen en Engels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5 mei 1945: capitulatie Duitse leger in Neder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5" descr="http://sgpdirksland.files.wordpress.com/2010/03/bevrijding.jpg"/>
          <p:cNvPicPr/>
          <p:nvPr/>
        </p:nvPicPr>
        <p:blipFill>
          <a:blip r:embed="rId1"/>
          <a:stretch/>
        </p:blipFill>
        <p:spPr>
          <a:xfrm>
            <a:off x="324000" y="1052640"/>
            <a:ext cx="4095720" cy="3047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http://familieclausman.nl/afbeeldingen/bevrijding.jpg"/>
          <p:cNvPicPr/>
          <p:nvPr/>
        </p:nvPicPr>
        <p:blipFill>
          <a:blip r:embed="rId2"/>
          <a:stretch/>
        </p:blipFill>
        <p:spPr>
          <a:xfrm>
            <a:off x="4643280" y="1197000"/>
            <a:ext cx="4256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8:34:11Z</dcterms:created>
  <dc:creator>Damstede</dc:creator>
  <dc:description/>
  <dc:language>en-US</dc:language>
  <cp:lastModifiedBy>WINDOWSXP</cp:lastModifiedBy>
  <dcterms:modified xsi:type="dcterms:W3CDTF">2011-12-20T08:57:06Z</dcterms:modified>
  <cp:revision>8</cp:revision>
  <dc:subject/>
  <dc:title>9§7 duitse bezetting van Nederland</dc:title>
</cp:coreProperties>
</file>