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712D-1A24-417F-B511-1EB27C9F7A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BB96-4569-46CE-829B-B6E3A524F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3B5-42C0-4BB2-BF60-F2007ED7B6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6D1B-9949-4A57-B113-A221A8EED8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01CA-DE85-4BE2-BD34-A585C33FE5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86D9-816D-4A8E-B6F5-CC9D93F8B5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ADD9-9195-4FDE-9D86-4255E23D73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301F-3F66-40AF-84BA-934EDD138D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BF30-8866-4120-8167-8583266DE4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E4F-F097-469B-8700-F6BF77CF98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5C12-7B17-4BA2-BDA4-5E3314932D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748-F902-4880-9C05-190D88ED5D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6424-891E-44FE-886F-75205DD18A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31F2-4128-4409-BBC1-943F9DED09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214-64D6-4515-AAD5-8F0A765D2E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DEB5-BC0F-496A-8CAC-44C5B0503B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146-BAAC-49E3-AC5E-D2AD492F8A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C5DA-4A69-4B9C-B9DB-F87F68B8CA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A37A-65E3-4474-8E9E-04E2AE9305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542A-0CCC-4BAF-BD38-4619F1CCDB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55640" y="609120"/>
            <a:ext cx="590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7" descr="germswas"/>
          <p:cNvPicPr/>
          <p:nvPr/>
        </p:nvPicPr>
        <p:blipFill>
          <a:blip r:embed="rId2"/>
          <a:stretch/>
        </p:blipFill>
        <p:spPr>
          <a:xfrm>
            <a:off x="826920" y="765000"/>
            <a:ext cx="158436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"/>
          <p:cNvSpPr/>
          <p:nvPr/>
        </p:nvSpPr>
        <p:spPr>
          <a:xfrm>
            <a:off x="755640" y="404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etteFraktur"/>
                <a:ea typeface="바탕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556000" y="69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5" descr="http://static2.akpool.de/images/cards/8/83864.jpg"/>
          <p:cNvPicPr/>
          <p:nvPr/>
        </p:nvPicPr>
        <p:blipFill>
          <a:blip r:embed="rId1"/>
          <a:stretch/>
        </p:blipFill>
        <p:spPr>
          <a:xfrm>
            <a:off x="250920" y="1982880"/>
            <a:ext cx="4208400" cy="274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tatic3.akpool.de/images/cards/6/61594.jpg"/>
          <p:cNvPicPr/>
          <p:nvPr/>
        </p:nvPicPr>
        <p:blipFill>
          <a:blip r:embed="rId2"/>
          <a:stretch/>
        </p:blipFill>
        <p:spPr>
          <a:xfrm>
            <a:off x="4572000" y="3789360"/>
            <a:ext cx="4262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thema’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i-Semit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nti-Joo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litar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uniformen; le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trots op Duitslan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erioriteit Arische 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hrer-myth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tler middelpunt natie; goddelijk-figu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tionele Duitse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‘Volkscultuur’’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ters - goedkoop &amp; eenvoudig te verspr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Zichtbaarheid in de stra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oortdurende herinnering aan nazi ideolo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9" descr="kauft"/>
          <p:cNvPicPr/>
          <p:nvPr/>
        </p:nvPicPr>
        <p:blipFill>
          <a:blip r:embed="rId1"/>
          <a:stretch/>
        </p:blipFill>
        <p:spPr>
          <a:xfrm>
            <a:off x="1187280" y="1989000"/>
            <a:ext cx="31276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916360" y="549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beelden Nazi Po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http://www.glogster.com/media/4/23/56/31/23563114.jpg"/>
          <p:cNvPicPr/>
          <p:nvPr/>
        </p:nvPicPr>
        <p:blipFill>
          <a:blip r:embed="rId1"/>
          <a:stretch/>
        </p:blipFill>
        <p:spPr>
          <a:xfrm>
            <a:off x="179280" y="2133720"/>
            <a:ext cx="276552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www.newthinktank.com/wp-content/uploads/2011/08/gwwii037.jpg"/>
          <p:cNvPicPr/>
          <p:nvPr/>
        </p:nvPicPr>
        <p:blipFill>
          <a:blip r:embed="rId2"/>
          <a:stretch/>
        </p:blipFill>
        <p:spPr>
          <a:xfrm>
            <a:off x="3132000" y="2133720"/>
            <a:ext cx="2819520" cy="394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ww2today.com/wp-content/uploads/2010/11/Poster-for-Eternal-Jew-Ewiger-Jude.jpg"/>
          <p:cNvPicPr/>
          <p:nvPr/>
        </p:nvPicPr>
        <p:blipFill>
          <a:blip r:embed="rId3"/>
          <a:stretch/>
        </p:blipFill>
        <p:spPr>
          <a:xfrm>
            <a:off x="6012000" y="2133720"/>
            <a:ext cx="2946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http://www.militaryimages.net/photopost/data/675/44Nazi_erwacht.jpg"/>
          <p:cNvPicPr/>
          <p:nvPr/>
        </p:nvPicPr>
        <p:blipFill>
          <a:blip r:embed="rId1"/>
          <a:stretch/>
        </p:blipFill>
        <p:spPr>
          <a:xfrm>
            <a:off x="4859280" y="476280"/>
            <a:ext cx="3889440" cy="582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media.brainz.org/uploads/2010/12/poster-leader-we-follow-you.jpg"/>
          <p:cNvPicPr/>
          <p:nvPr/>
        </p:nvPicPr>
        <p:blipFill>
          <a:blip r:embed="rId2"/>
          <a:stretch/>
        </p:blipFill>
        <p:spPr>
          <a:xfrm>
            <a:off x="179280" y="404640"/>
            <a:ext cx="4143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propaganda 1932 election2"/>
          <p:cNvPicPr/>
          <p:nvPr/>
        </p:nvPicPr>
        <p:blipFill>
          <a:blip r:embed="rId1"/>
          <a:stretch/>
        </p:blipFill>
        <p:spPr>
          <a:xfrm>
            <a:off x="4716360" y="620640"/>
            <a:ext cx="3889440" cy="545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adamcathcart.files.wordpress.com/2009/08/enthanasiepropaganda.jpg?w=431&amp;h=550"/>
          <p:cNvPicPr/>
          <p:nvPr/>
        </p:nvPicPr>
        <p:blipFill>
          <a:blip r:embed="rId2"/>
          <a:stretch/>
        </p:blipFill>
        <p:spPr>
          <a:xfrm>
            <a:off x="250920" y="620640"/>
            <a:ext cx="410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2640" y="647280"/>
            <a:ext cx="5849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067280" y="1600200"/>
            <a:ext cx="4825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edkope “Volksempfäng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een Duitse zen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2-39 van 25% to 70% radiobezi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ezichthouders hielden bij hoe het volk reageerde op uitzend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233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580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zi Fil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248000" cy="321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9280" y="17002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itief beeld Hitler + Nazi ideolog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ripts vermaaksfilms goedgekeurd door nazi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oscoopbezoek verviervoudigde tussen 1933 en19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programma: nazi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39800" y="5670720"/>
            <a:ext cx="7424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4 –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riumph Des Willen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zi partijdag Neurenber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ni Riefenstah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http://m.blog.hu/ki/kinetograf/image/trium.jpg"/>
          <p:cNvPicPr/>
          <p:nvPr/>
        </p:nvPicPr>
        <p:blipFill>
          <a:blip r:embed="rId1"/>
          <a:stretch/>
        </p:blipFill>
        <p:spPr>
          <a:xfrm>
            <a:off x="2411280" y="1268280"/>
            <a:ext cx="6438960" cy="431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productimages.wehkamp.nl/is/image/Wehkamp/141612_pb_01/2009artikelDetailVisualLandscape/triumph-des-willens-(dvd).jpg"/>
          <p:cNvPicPr/>
          <p:nvPr/>
        </p:nvPicPr>
        <p:blipFill>
          <a:blip r:embed="rId2"/>
          <a:stretch/>
        </p:blipFill>
        <p:spPr>
          <a:xfrm>
            <a:off x="0" y="0"/>
            <a:ext cx="32288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3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700 dagbla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4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997 dagblad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2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9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65440" y="647280"/>
            <a:ext cx="4867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Censuu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0 Mei 1933: boekverbranding in Berlij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allen in openbare biblioth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brandde boeken: Joods, socialistisch, pacifis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Book-burning-Nazi-Germany200"/>
          <p:cNvPicPr/>
          <p:nvPr/>
        </p:nvPicPr>
        <p:blipFill>
          <a:blip r:embed="rId1"/>
          <a:stretch/>
        </p:blipFill>
        <p:spPr>
          <a:xfrm>
            <a:off x="5724360" y="2060640"/>
            <a:ext cx="325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lame voor politieke partij of politiek idea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 bevolking wordt </a:t>
            </a:r>
            <a:r>
              <a:rPr b="0" i="1" lang="en-GB" sz="2800" spc="-1" strike="noStrike">
                <a:solidFill>
                  <a:srgbClr val="ff0000"/>
                </a:solidFill>
                <a:latin typeface="Verdana"/>
              </a:rPr>
              <a:t>gehersenspo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einestages.spiegel.de/hund-images/2007/10/08/85/1ecca20f4052d9b2f6200dc40cdf7520_image_document_large_featured_borderless.jpg"/>
          <p:cNvPicPr/>
          <p:nvPr/>
        </p:nvPicPr>
        <p:blipFill>
          <a:blip r:embed="rId2"/>
          <a:stretch/>
        </p:blipFill>
        <p:spPr>
          <a:xfrm>
            <a:off x="5148360" y="1628640"/>
            <a:ext cx="3333600" cy="476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1320" y="647280"/>
            <a:ext cx="4702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hinderde dat andere ideeën bekend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s er tegenwoordig nog censu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45080" y="5029200"/>
            <a:ext cx="38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2002, China boy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de zoekmachine Goog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aaro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’ doel:  verhinderen dat men dingen zag, hoorde of las die vijandig of schadelijk voor de Nazi’s 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rkte samen met SS &amp; Gestapo om dit te berei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Wat was het aandeel van de SS / Gestapo d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uitsland onder Hitler: een totalitaire sta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3132000" y="1413000"/>
            <a:ext cx="2895480" cy="1904760"/>
            <a:chOff x="3132000" y="1413000"/>
            <a:chExt cx="2895480" cy="1904760"/>
          </a:xfrm>
        </p:grpSpPr>
        <p:sp>
          <p:nvSpPr>
            <p:cNvPr id="119" name="Oval 9"/>
            <p:cNvSpPr/>
            <p:nvPr/>
          </p:nvSpPr>
          <p:spPr>
            <a:xfrm>
              <a:off x="3132000" y="1413000"/>
              <a:ext cx="289548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3635280" y="169992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Totalitaire staat: denken en doen beheers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11"/>
          <p:cNvSpPr/>
          <p:nvPr/>
        </p:nvSpPr>
        <p:spPr>
          <a:xfrm>
            <a:off x="152280" y="4876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nsen waren bang om in handen Gestapo of SS te vall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300720" y="5805360"/>
            <a:ext cx="24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tler Jugend &amp; Bund Deutsche Ma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5580000" y="1123920"/>
            <a:ext cx="2962080" cy="1080720"/>
            <a:chOff x="5580000" y="1123920"/>
            <a:chExt cx="2962080" cy="1080720"/>
          </a:xfrm>
        </p:grpSpPr>
        <p:sp>
          <p:nvSpPr>
            <p:cNvPr id="124" name="Line 14"/>
            <p:cNvSpPr/>
            <p:nvPr/>
          </p:nvSpPr>
          <p:spPr>
            <a:xfrm flipV="1">
              <a:off x="5580000" y="1484280"/>
              <a:ext cx="1223640" cy="72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6732720" y="1123920"/>
              <a:ext cx="1809360" cy="752400"/>
              <a:chOff x="6732720" y="1123920"/>
              <a:chExt cx="1809360" cy="752400"/>
            </a:xfrm>
          </p:grpSpPr>
          <p:sp>
            <p:nvSpPr>
              <p:cNvPr id="126" name="Text Box 16"/>
              <p:cNvSpPr/>
              <p:nvPr/>
            </p:nvSpPr>
            <p:spPr>
              <a:xfrm>
                <a:off x="6732720" y="1123920"/>
                <a:ext cx="180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Propagand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17"/>
              <p:cNvSpPr/>
              <p:nvPr/>
            </p:nvSpPr>
            <p:spPr>
              <a:xfrm>
                <a:off x="7626240" y="1544400"/>
                <a:ext cx="0" cy="331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8" name="Group 18"/>
          <p:cNvGrpSpPr/>
          <p:nvPr/>
        </p:nvGrpSpPr>
        <p:grpSpPr>
          <a:xfrm>
            <a:off x="6372360" y="1916280"/>
            <a:ext cx="2590560" cy="1101600"/>
            <a:chOff x="6372360" y="1916280"/>
            <a:chExt cx="2590560" cy="1101600"/>
          </a:xfrm>
        </p:grpSpPr>
        <p:sp>
          <p:nvSpPr>
            <p:cNvPr id="129" name="Text Box 19"/>
            <p:cNvSpPr/>
            <p:nvPr/>
          </p:nvSpPr>
          <p:spPr>
            <a:xfrm>
              <a:off x="6372360" y="191628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Massa bijeenkomsten, Posters en films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7667280" y="26370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Group 21"/>
          <p:cNvGrpSpPr/>
          <p:nvPr/>
        </p:nvGrpSpPr>
        <p:grpSpPr>
          <a:xfrm>
            <a:off x="6227640" y="2997360"/>
            <a:ext cx="2590560" cy="1536120"/>
            <a:chOff x="6227640" y="2997360"/>
            <a:chExt cx="2590560" cy="1536120"/>
          </a:xfrm>
        </p:grpSpPr>
        <p:sp>
          <p:nvSpPr>
            <p:cNvPr id="132" name="Text Box 22"/>
            <p:cNvSpPr/>
            <p:nvPr/>
          </p:nvSpPr>
          <p:spPr>
            <a:xfrm>
              <a:off x="6227640" y="299736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Nazi’s censureerden en beheersten radio &amp; krant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7596000" y="4076640"/>
              <a:ext cx="0" cy="45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24"/>
          <p:cNvGrpSpPr/>
          <p:nvPr/>
        </p:nvGrpSpPr>
        <p:grpSpPr>
          <a:xfrm>
            <a:off x="6300720" y="4437000"/>
            <a:ext cx="2590560" cy="1317600"/>
            <a:chOff x="6300720" y="4437000"/>
            <a:chExt cx="2590560" cy="1317600"/>
          </a:xfrm>
        </p:grpSpPr>
        <p:sp>
          <p:nvSpPr>
            <p:cNvPr id="135" name="Text Box 25"/>
            <p:cNvSpPr/>
            <p:nvPr/>
          </p:nvSpPr>
          <p:spPr>
            <a:xfrm>
              <a:off x="6300720" y="443700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Schoolkinderen gehersenspoeld met Nazi-ideologi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7596000" y="5373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898560" y="1123920"/>
            <a:ext cx="2420640" cy="1190160"/>
            <a:chOff x="898560" y="1123920"/>
            <a:chExt cx="2420640" cy="1190160"/>
          </a:xfrm>
        </p:grpSpPr>
        <p:sp>
          <p:nvSpPr>
            <p:cNvPr id="138" name="Line 28"/>
            <p:cNvSpPr/>
            <p:nvPr/>
          </p:nvSpPr>
          <p:spPr>
            <a:xfrm flipH="1" flipV="1">
              <a:off x="2124000" y="1484640"/>
              <a:ext cx="1195200" cy="82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9" name="Group 29"/>
            <p:cNvGrpSpPr/>
            <p:nvPr/>
          </p:nvGrpSpPr>
          <p:grpSpPr>
            <a:xfrm>
              <a:off x="898560" y="1123920"/>
              <a:ext cx="1584720" cy="905400"/>
              <a:chOff x="898560" y="1123920"/>
              <a:chExt cx="1584720" cy="905400"/>
            </a:xfrm>
          </p:grpSpPr>
          <p:sp>
            <p:nvSpPr>
              <p:cNvPr id="140" name="Text Box 30"/>
              <p:cNvSpPr/>
              <p:nvPr/>
            </p:nvSpPr>
            <p:spPr>
              <a:xfrm>
                <a:off x="898560" y="1123920"/>
                <a:ext cx="15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Terreur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>
                <a:off x="1547640" y="1771920"/>
                <a:ext cx="0" cy="257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2" name="Group 32"/>
          <p:cNvGrpSpPr/>
          <p:nvPr/>
        </p:nvGrpSpPr>
        <p:grpSpPr>
          <a:xfrm>
            <a:off x="250920" y="2060640"/>
            <a:ext cx="2590560" cy="1675800"/>
            <a:chOff x="250920" y="2060640"/>
            <a:chExt cx="2590560" cy="1675800"/>
          </a:xfrm>
        </p:grpSpPr>
        <p:sp>
          <p:nvSpPr>
            <p:cNvPr id="143" name="Text Box 33"/>
            <p:cNvSpPr/>
            <p:nvPr/>
          </p:nvSpPr>
          <p:spPr>
            <a:xfrm>
              <a:off x="250920" y="2060640"/>
              <a:ext cx="2590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Geheime Politie (Gestapo) bespioneerde en arresteerde staatsvijand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1545840" y="3355920"/>
              <a:ext cx="0" cy="38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228600" y="3581280"/>
            <a:ext cx="2514600" cy="1371600"/>
            <a:chOff x="228600" y="3581280"/>
            <a:chExt cx="2514600" cy="1371600"/>
          </a:xfrm>
        </p:grpSpPr>
        <p:sp>
          <p:nvSpPr>
            <p:cNvPr id="146" name="Text Box 36"/>
            <p:cNvSpPr/>
            <p:nvPr/>
          </p:nvSpPr>
          <p:spPr>
            <a:xfrm>
              <a:off x="228600" y="358128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De SS runde concentratiekamp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>
              <a:off x="1523880" y="4495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3708360" y="3141720"/>
            <a:ext cx="1828800" cy="990720"/>
            <a:chOff x="3708360" y="3141720"/>
            <a:chExt cx="1828800" cy="990720"/>
          </a:xfrm>
        </p:grpSpPr>
        <p:sp>
          <p:nvSpPr>
            <p:cNvPr id="149" name="Line 39"/>
            <p:cNvSpPr/>
            <p:nvPr/>
          </p:nvSpPr>
          <p:spPr>
            <a:xfrm>
              <a:off x="4622760" y="3141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40"/>
            <p:cNvSpPr/>
            <p:nvPr/>
          </p:nvSpPr>
          <p:spPr>
            <a:xfrm>
              <a:off x="3708360" y="34466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pularite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22760" y="38275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Text Box 42"/>
          <p:cNvSpPr/>
          <p:nvPr/>
        </p:nvSpPr>
        <p:spPr>
          <a:xfrm>
            <a:off x="3708360" y="609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a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3419640" y="4941720"/>
            <a:ext cx="2361960" cy="990360"/>
            <a:chOff x="3419640" y="4941720"/>
            <a:chExt cx="2361960" cy="990360"/>
          </a:xfrm>
        </p:grpSpPr>
        <p:sp>
          <p:nvSpPr>
            <p:cNvPr id="154" name="Text Box 44"/>
            <p:cNvSpPr/>
            <p:nvPr/>
          </p:nvSpPr>
          <p:spPr>
            <a:xfrm>
              <a:off x="3419640" y="494172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Zondebokken  aanwijzen (joden!) 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638600" y="55512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" name="Group 46"/>
          <p:cNvGrpSpPr/>
          <p:nvPr/>
        </p:nvGrpSpPr>
        <p:grpSpPr>
          <a:xfrm>
            <a:off x="3419640" y="4076640"/>
            <a:ext cx="2361960" cy="990720"/>
            <a:chOff x="3419640" y="4076640"/>
            <a:chExt cx="2361960" cy="990720"/>
          </a:xfrm>
        </p:grpSpPr>
        <p:sp>
          <p:nvSpPr>
            <p:cNvPr id="157" name="Text Box 47"/>
            <p:cNvSpPr/>
            <p:nvPr/>
          </p:nvSpPr>
          <p:spPr>
            <a:xfrm>
              <a:off x="3419640" y="407664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Verdrag Versailles neger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4638600" y="46864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ster van Propag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eologie nazi’s overbrengen op bevo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Bestand:Bundesarchiv Bild 102-17049, Joseph Goebbels spricht.jpg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nk (Vo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rkrade (jongenspensionaat Blijerhe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versiteit Heidel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wee boeken en toneelstukken: afgewezen (Joodse uitge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upload.wikimedia.org/wikipedia/commons/thumb/3/35/Bundesarchiv_Bild_146-1968-101-20A,_Joseph_Goebbels.jpg/264px-Bundesarchiv_Bild_146-1968-101-20A,_Joseph_Goebbels.jpg"/>
          <p:cNvPicPr/>
          <p:nvPr/>
        </p:nvPicPr>
        <p:blipFill>
          <a:blip r:embed="rId2"/>
          <a:stretch/>
        </p:blipFill>
        <p:spPr>
          <a:xfrm>
            <a:off x="5508720" y="1989000"/>
            <a:ext cx="3240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da Goebb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nderen: voornamen met H (van Hitl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ler's Henchmen - The Propagandist/Firebrand - Joseph Goebbels - YouT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Bestand:Bundesarchiv Bild 146-1978-086-03, Joseph Goebbels mit Familie.jpg"/>
          <p:cNvPicPr/>
          <p:nvPr/>
        </p:nvPicPr>
        <p:blipFill>
          <a:blip r:embed="rId2"/>
          <a:stretch/>
        </p:blipFill>
        <p:spPr>
          <a:xfrm>
            <a:off x="4449600" y="2421000"/>
            <a:ext cx="4392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43 ‘Wollt Ihr Den Totalen Krieg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seph Goebbels:Total War Narration/Speech - YouTu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ffaire met Tsjechische Lida Baarova (Slavisch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lfmoord in Bun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t3.gstatic.com/images?q=tbn:ANd9GcRiYrfbyfSqzVPBI3oFM1yBHo5PrZpz9mzU0aPtp8htQVFnap-jDwnUjx__xw"/>
          <p:cNvPicPr/>
          <p:nvPr/>
        </p:nvPicPr>
        <p:blipFill>
          <a:blip r:embed="rId2"/>
          <a:stretch/>
        </p:blipFill>
        <p:spPr>
          <a:xfrm>
            <a:off x="4427640" y="1773360"/>
            <a:ext cx="331308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.fanpix.net/images/orig/q/p/qpd15npeqsf2dp5f.jpg"/>
          <p:cNvPicPr/>
          <p:nvPr/>
        </p:nvPicPr>
        <p:blipFill>
          <a:blip r:embed="rId3"/>
          <a:stretch/>
        </p:blipFill>
        <p:spPr>
          <a:xfrm>
            <a:off x="6443640" y="3695760"/>
            <a:ext cx="230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ww2gravestone.com/sites/default/files/uploads/sample5-dead-goebbels.jpg"/>
          <p:cNvPicPr/>
          <p:nvPr/>
        </p:nvPicPr>
        <p:blipFill>
          <a:blip r:embed="rId2"/>
          <a:stretch/>
        </p:blipFill>
        <p:spPr>
          <a:xfrm>
            <a:off x="3173400" y="47628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1.bp.blogspot.com/-JScmQbnnri0/Td9RKVyIuwI/AAAAAAAAAG0/ugtmiZYhioY/s1600/goebbelschildren.jpg"/>
          <p:cNvPicPr/>
          <p:nvPr/>
        </p:nvPicPr>
        <p:blipFill>
          <a:blip r:embed="rId3"/>
          <a:stretch/>
        </p:blipFill>
        <p:spPr>
          <a:xfrm>
            <a:off x="241200" y="1911240"/>
            <a:ext cx="225756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achduthalev.com/wp-content/uploads/2010/11/dead-goebbels.jpg"/>
          <p:cNvPicPr/>
          <p:nvPr/>
        </p:nvPicPr>
        <p:blipFill>
          <a:blip r:embed="rId4"/>
          <a:stretch/>
        </p:blipFill>
        <p:spPr>
          <a:xfrm>
            <a:off x="4572000" y="3525840"/>
            <a:ext cx="4103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erfectioneerde techniek vd ‘</a:t>
            </a:r>
            <a:r>
              <a:rPr b="0" lang="en-AU" sz="2400" spc="-1" strike="noStrike">
                <a:solidFill>
                  <a:srgbClr val="ff0000"/>
                </a:solidFill>
                <a:latin typeface="Verdana"/>
              </a:rPr>
              <a:t>Grote Leugen’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(als je die genoeg herhaalt geloven mensen 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rkt deze techniek tegenwoordig nog? Waar? Ho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8472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thema’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Goebbel’s invlo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sta Harte</cp:lastModifiedBy>
  <dcterms:modified xsi:type="dcterms:W3CDTF">2014-12-07T08:46:06Z</dcterms:modified>
  <cp:revision>47</cp:revision>
  <dc:subject/>
  <dc:title>PowerPoint Presentation</dc:title>
</cp:coreProperties>
</file>