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9B8-7A74-4447-A550-F752F2FA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F78-3917-4BB0-BF45-1B53D45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6EE-99D4-4921-8BD7-C4054BC1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BC8-F0CF-4125-9852-0E471169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0FE-5D05-4355-98C6-04175540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3CE1-7474-47A2-9951-AD2CEC5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5831-8604-4B23-BE07-1C9BD84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2F99-6323-4CD6-9055-527634E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8D79-1B63-47A2-AECB-625DE73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2C2-6E6D-4CBA-BDF6-5CE249BD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2334-BD8F-455A-AD6A-F619D75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A18-4F11-472E-9136-423AF05F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DE76-5623-426E-BF54-14A97C5D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8460-54E1-4D37-9EA3-4A0F262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0187-EC1C-4ADC-AA86-BF513B1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779-ED06-4CB1-AF35-30BBDA82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9FB-3384-4CC6-909C-5ABBE6DA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37722-B1A2-4D7B-8C27-B5F88CE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7E65E-6BAA-4635-BA5C-EC1C5E89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99F50-B076-4F0F-A76B-D0BA78A1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B7D14-F00C-4586-A4F2-0BA73CE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44897-54FB-41C6-A687-FA86D90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723-F57B-4F61-868D-0B83EB81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3C3A5-E72B-4484-B43D-91BD1F1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05906-B210-43D7-AC7C-1DACDCC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44D1B-29F4-4F02-8A55-FB69E90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AC5E6-31C0-4246-A70A-BCF04945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D311C-DFB9-430F-9769-23D4DB37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C67F9-3DF6-4C99-8584-AC915F27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66EA-E753-47C8-8938-7E59C3CD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6C698-7E43-4FB0-B42D-CAFC72ED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3D385-88A0-44A4-8148-081589E1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B44D1-AEF4-484A-89DA-FE1446E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7C2-BBA1-4FBA-BBE9-A22B6E3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2BFA9-E3E0-4032-BFE9-64818991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DAF5C-6B3A-4D3F-A200-5E2D677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6C3B1-5FC1-411D-A4B0-8A7DBB8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E3497-C584-48C7-B2BF-DE41A05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76415-1024-4E71-9239-3C35FB2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6BA84-4D81-4211-B503-F87E23A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7E03A-5475-44BB-9510-24B4CF1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F264D-B2AE-41AC-A0D2-5FFC845A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3038F-F7EF-40B7-B1B1-51595750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0DFAB-48B1-48EE-BB3F-3E7C9FB6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6FF-3A08-4050-A5FE-387C053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83F2C-4882-4413-9162-D1D7FEB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7AFA8-5665-41B1-9311-6C1346E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7AEB9-2739-4B36-801D-DBC7918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44C2A-0220-44C9-9C84-629EAF3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35536-2DE9-4048-9424-28D9F4A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36D68-DEB3-499A-BB75-3571C97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47DD4-9A05-4AB1-BF7C-C8B00C8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16422-EDB7-4227-A210-343E4436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7E4CF-9006-43BC-8BAB-2C8CFA3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5C746-F1D6-477E-B195-5EC16C13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7B7-52AE-4196-8122-93A5F08A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0B42C-441E-47E6-B91E-6A424956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DD33A-C81B-45EC-9D6B-4CF3EF80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45AD-BDD6-49AF-9C28-CA4989A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53B6-4476-4C18-AC8D-7B63B72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F9A5-672B-4D10-8CBB-9B8B1262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8223-E081-48B8-9449-B15AEAF5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C9A5-E9CC-4E41-A300-0C4F7BB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945BD-EC97-4912-A59E-85732382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95B65-C8A0-4B98-9AA6-9D879BB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0C421-9573-49DB-BF57-CA130D2E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56F-FDB2-4530-A98E-7F6E932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CA216-AF6E-4E0B-B22E-B9D8AB5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6F55-4121-4ED6-938E-0ED30A30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25EC-446C-4E75-84C2-406365CB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FBB96-0DED-47DA-8602-50194F9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C7ADD-5E46-484E-BE32-D328069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9522F-459D-4328-9F78-3036B3B8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2213B-0498-4F87-A7B1-C1CB38A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180EA-5C6E-4DBE-B09E-73B0F906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C2231-51AC-460D-A5B9-2F094D7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737B6-229A-4543-A7AC-BA67AE4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213-3B90-4933-B071-C20E1DE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5E61A-D162-4121-B07C-01194B8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F7195-469F-48CF-B6EE-36537DB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206E9-08CD-45CA-9C4B-E51D552F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6379A-AED6-4CA5-90F6-0F362690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6C08A-B49E-4E76-8848-9704B21A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D031-552D-4C05-AD78-138414F0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98A6-E06F-4D2F-9E2C-12BF1F48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7953-729E-4A2F-9B56-548D5E3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196E-21C6-43CF-8D9C-4F0874B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81E1-FFF8-42F9-8137-FB88DF6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BBF-E302-4DE4-9C0C-A400516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FEA6-5DC8-4FA7-BE6B-2D6A9C2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DEB00-72BD-4BD2-B265-92CF610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3A950-B01D-401A-A2E7-C6640F0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D465-F3F1-4007-ACF3-F37E982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AD69A-B8AF-4C3A-93BC-C2FA038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11C4-4F52-4B33-A78F-A3042D20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B56A-36BF-4AC5-8C1A-7CD04443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4B53-1BD1-4DBA-9B4F-2542A44127B7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5D0-A28A-43C7-A75F-586D68E7971C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E36-2A11-4F1E-939B-A758B4E538A5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529-6622-42A8-82C3-8921E64F970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33E-58DF-4EA7-869F-D536B35AB69C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6C9-0577-4F15-9F82-F59E4B0C9C43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A1C-8D07-465F-B268-EB990FA31275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F4E-F2DC-4E5B-B882-8F6E39DBD68E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wisselbank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voc-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4214880" cy="242892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DE ECONOMIE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IN DE 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GOUDEN EEUW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Aantekeninge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929120" y="785880"/>
            <a:ext cx="3929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pdrachten Bij Nederland in de Gouden Eeuw (GWP H3 en H4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2720" y="1773360"/>
          <a:ext cx="8153280" cy="3973320"/>
        </p:xfrm>
        <a:graphic>
          <a:graphicData uri="http://schemas.openxmlformats.org/drawingml/2006/table">
            <a:tbl>
              <a:tblPr/>
              <a:tblGrid>
                <a:gridCol w="2517840"/>
                <a:gridCol w="3157560"/>
                <a:gridCol w="2477880"/>
              </a:tblGrid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e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rk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graa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Z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-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-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-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1 Centrum van de wereld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Van de handel in de Oostzee naar de uithoeken van Europa en andere contin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2 De organisatie van de 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het succes van Amsterdamse wisselbank en beurs, over de VOC en de WI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2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3 Bloeiende nijverhei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orzaken voor het succes van de nijverheid in de Republi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4 Het platteland in de Gouden Eeu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de bloei van de landbouw in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st-Nederland</a:t>
            </a: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 en het ontstaan van plattelandsnijverhe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1centrum van de wereld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0000"/>
                </a:solidFill>
                <a:uFillTx/>
                <a:latin typeface="Tw Cen MT"/>
              </a:rPr>
              <a:t>A. Handel in Europ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Oostzeehandel = ‘</a:t>
            </a:r>
            <a:r>
              <a:rPr b="1" lang="nl-NL" sz="2900" spc="-1" strike="noStrike">
                <a:solidFill>
                  <a:srgbClr val="000000"/>
                </a:solidFill>
                <a:latin typeface="Tw Cen MT"/>
              </a:rPr>
              <a:t>moedernegotie</a:t>
            </a: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’, basis van alle overzeese activitei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Hoogtepunt tijdens Twaalfjarig bestand met Spanje (1609-1621).</a:t>
            </a: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Tw Cen MT"/>
              </a:rPr>
              <a:t>Ondanks Tachtigjarige Oorlog blijft Spanje handel drijven met de Republiek ivm voedseltekorten / Republiek afhankelijk van Spaans zil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Uitbreiding van de handel naar uithoeken van Europa: Rusland, Zweden (walvisvaart), Middellandse Zee, Levant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521080" y="404640"/>
            <a:ext cx="5765760" cy="61693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775f55"/>
                </a:solidFill>
                <a:latin typeface="Tw Cen MT"/>
              </a:rPr>
              <a:t>Amsterdam: stapelmarkt van Europ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ijdelijke aanduiding voor tekst 9"/>
          <p:cNvSpPr/>
          <p:nvPr/>
        </p:nvSpPr>
        <p:spPr>
          <a:xfrm>
            <a:off x="179280" y="1052640"/>
            <a:ext cx="2305080" cy="20890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andelsknooppunt tussen Noord- en Zuid-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(Oostzee – Middellandse Z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B. Handel buiten Europ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Portugezen bezaten het monopolie op specerijen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Oost-Azië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 =&gt; vraag &gt; aanbod =&gt; eigen weg naar Indië (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Eerste Scheepvaart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, 1595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Afrikaanse westkust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(va. 1598) in slaven, goud en ivo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versteek naar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atijns-Amerika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m slaven op plantages te werk te stel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import van tabak ui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Noord-Amerik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Verandering van handel i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bulkgoedere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naar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luxegoeder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2 De organisatie van de 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642680"/>
            <a:ext cx="5530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Tw Cen MT"/>
              </a:rPr>
              <a:t>Banken en beurze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wisselbank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09): kooplieden konden geld in bewaring geven, wisselen en overboek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bank van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lening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14) t.b.v. investeerd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beurs 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(1611): handel in producten en VOC-aandelen, afsluiten van verzekeringen en vervoerscontracte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Wisselbank 1609’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6143760" y="1785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6143760" y="4214880"/>
            <a:ext cx="28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De Verenigde Oost-Indische Compagni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op Indië in handen va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voorcompagnie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ë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: groepen kooplieden die gezamenlijk expedities organiseren en winst de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adelige gevolgen: onderlinge concurrentie, dalende prijz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prichting VOC (1602) in opdracht van Staten-Genera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onopolie op Nederlandse handel in Azië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tartkapitaal bijeengebracht door uitgifte van aande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gaande bevoegdheden t.b.v. handel: oorlogvoeren, verdragen sluiten met vorsten, forten bouwen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et geweld worden Portugezen + Engelsen verdreven, Batavia gesticht en Molukkers gedwongen om specerijen exclusief aan de VOC te lever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C sticht factorijen (handelsposten) en neemt deel aan inter-Aziatische handel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VOC 1602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6416640" y="142920"/>
            <a:ext cx="2309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320" y="157176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Tw Cen MT"/>
              </a:rPr>
              <a:t>West-Indische Compagnie (16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Opgericht na beëindiging Twaalfjarig Bestand (1609-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Oorlog tussen de Republiek en Spanje laait opnieuw op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Doelen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panje economisch treffen d.m.v.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kaapvaart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 (veroveren van zilvervloo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Veroveren van gebieden / stichten kolonies t.b.v. opzetten suiker- en tabaksplantages (productie in eigen behe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Na Vrede van Munster (1648) legt de WIC zich toe op de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driehoekshandel 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tussen Europa, West-Afrika en Amer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hevige concurrentie + hoge militaire koste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77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9280" y="-100080"/>
            <a:ext cx="88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18:19Z</dcterms:created>
  <dc:creator>Floor</dc:creator>
  <dc:description/>
  <dc:language>en-US</dc:language>
  <cp:lastModifiedBy>Krista Harte</cp:lastModifiedBy>
  <dcterms:modified xsi:type="dcterms:W3CDTF">2015-01-10T10:59:10Z</dcterms:modified>
  <cp:revision>17</cp:revision>
  <dc:subject/>
  <dc:title>De economie in de gouden eeuw</dc:title>
</cp:coreProperties>
</file>