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EC92-7CC4-4E83-822E-D07F4F30B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DAA1-ACEC-4921-9519-A3F52A513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8CE7-6BE7-41ED-9765-83D3C5100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85F9-3737-4F9F-BC4B-E9DACA9B3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DB19C-A4D8-41FD-9FC0-85BB178A9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F3F8F-80F9-4785-921A-47EAFB2F8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63D11-293B-4EA3-9310-D2E91F680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7FFA4-570A-4637-8CF2-A686A3CD6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C8E08-E54C-407D-B8A5-5F5DF0A68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A1D22-A4E1-4E11-AFF8-4938990B9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2FF05-1C54-49E5-AF2A-90FB2273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5767-A9CF-4105-8C94-7729429F9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D8186-D8D4-4FF2-9CFD-41D605CC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B911F-33EA-4CF7-9628-6F8CC3EF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654C7-F25B-499B-824A-88C4E4C85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EBE57-A7DD-4250-A3F8-A481AE42F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07140-5FA0-4635-8584-59EE28AA6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8A170E-2892-47B1-B967-C3D9E2F8A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176413-4FA3-4CCE-90EF-1D48FEBD8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5A5FE0-5CC5-48BE-8F9E-1E3B07AF2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BF0594-3EC8-420A-9856-44354ED25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0CABFF-A1DA-47E2-A58F-83B36A8A4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256E-5FC0-4408-B0C5-AB595EDBB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F9E0E3-EC7C-439A-942D-A817899CA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33A9C1-DE6D-49F9-9743-44A87328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D2A924-067A-4E51-A024-1914134C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6E5A71-3699-43ED-941F-2378B7C5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E47EF1-9EC9-4F9E-A155-A1D9D540B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D08B72-B2D6-4316-8E8B-0540377CA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7E02DA-C807-4C5E-BCFF-74D90F625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C32662-67A5-47A1-A4D7-DF5F5D190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939070-0326-4C2A-8639-D7A19A2B2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CF3915-5D53-4C3A-BDBF-1C3F21D64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EF5B-8804-49F7-A719-F34B6008E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DA7DFB-6115-471C-8330-83C410AA7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4A0035-E9DB-4DD4-A20D-A305F3973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5ACF37-4282-4CB5-9532-A8F47AB99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F3EBF0-010B-4017-BD17-24CF9C9A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17C8EE-535D-458B-BAF1-92762628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6B3738-C4ED-4003-9CFE-ABDDBF2D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3184C4-C0F9-448F-862B-FB018D9CB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8B9208-25F0-423A-8319-39E8E0C32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30F30A-2D71-47BE-A8D0-45D7C3D3D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E63BB6-6054-452A-9C56-CD39FAD47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8D9B-DD23-4BDE-A097-7B18942C9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29FDF5-34DB-4414-AB6D-717FA68D3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9FCFBC-F57A-409C-B242-40EF6CC5D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D3BD52-F275-4C3A-A304-6B4EF3BAC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8FECBC-2D66-43F3-90BB-184F91190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0534DA-FA49-4656-A978-DFA362249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802471-971F-4252-A685-4504A18A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A82E7E-5B8C-4129-8084-23D25749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EAB6F9-9B26-4756-BC64-179DBB81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3F206D-7D1C-44A3-8975-F19EE50C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00C32F-358F-4C43-8A0E-6A51B8ACA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02FD-A69C-49A8-B547-FD2EC0CBC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C37593-BC46-4C2A-AA16-DC90300B7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A04D7-E148-4C95-88F8-204DEE2FE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93C53-9D50-462B-A089-D7AF563A1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CA513-6826-4663-89F4-2556E30C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72FED0-4280-4359-82E0-22592931D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6215A-F7AB-43EF-BAC6-9651B3CF0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ADB27-4724-45E6-AFBB-C91B41982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83B94-FAE5-482F-931F-6D632725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ED40A-3437-459B-8B0E-83C877F6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97CC8-D161-49D1-B69B-31A4AD4A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C870-4239-48D3-952D-9B8F4FC8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F5ECCC-4DA6-4AAC-A96D-3DA4E0EC8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97E2F-D207-4E17-8B47-DAD3FBDAC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52E6D-4CA9-40C3-9A58-2A63757C6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4F4EDE-9DD7-4597-9DD2-A6A611FCC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AC10A2-7D62-4266-8901-49F9BA2D1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A9EE68-987F-4F1E-B668-FAF3A0DB4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3E4351-4ECB-49D8-BE22-4FC0735AB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B064B7-EBEA-453B-8052-AD3382169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F656DD-1C0A-40EA-8948-927939F09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6E3F7A-E544-420C-AB0B-C6A42B72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999D-F90F-4187-A15D-AEB46C71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20770E-C348-45DC-BDB9-BB91A437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82310D-75C0-42D3-A9D6-F54C8455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1A07C3-837B-4B98-97E3-72938E17A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3D0986-42B1-4196-9951-7689E9D07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ECEFDE-59A0-4F65-8696-2B232C13B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3D5934-F4A2-4E00-818A-E64DDAD4E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9970A5-D749-4BCB-B6D1-1216B161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17AF91-6508-4D58-AA2D-39BA3DA02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ED28CB-5C45-4F40-BB4A-F8F19BC83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7805F8-3404-41CD-9850-609BC10B7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3611-CC89-43E2-8462-EAA7738A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3750C3-2A99-49E1-9E48-3FA926EEA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6708A2-977B-4219-A84C-94A07491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89BA77-4D78-448B-86D7-394C578A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2AA72E-5D9F-49C1-8083-9879893A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9AFB67-E83D-4707-A6E5-B794D4F66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A7B747-F999-4849-811A-EA5AB22DF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004308-C457-418C-AD8C-83F1BE2B8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hthoe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hthoe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hthoe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22B31-9F99-4D49-94E2-96DDD0735CD6}" type="slidenum">
              <a:rPr b="1" lang="nl-N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hthoek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hthoek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hthoek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1B31E-2FC3-4107-A447-A3F61945CB83}" type="slidenum">
              <a:rPr b="1" lang="nl-NL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hthoek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hthoek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hthoek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8794-AA82-48A8-9345-587B656A684D}" type="slidenum">
              <a:rPr b="1" lang="nl-NL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hthoe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hthoe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hthoe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36B59-2D77-4BBD-8967-E117B5AD4FFD}" type="slidenum">
              <a:rPr b="1" lang="nl-N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hthoe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hthoe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hthoe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7A83C-FF81-4D8A-8CA8-57B4500DC245}" type="slidenum">
              <a:rPr b="1" lang="nl-N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A9505-5B56-474A-B4A7-CDF8F879B99A}" type="slidenum">
              <a:rPr b="1" lang="nl-NL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hthoek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hthoek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hthoek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hthoek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86AB8-2751-44B0-97A4-3134529F535D}" type="slidenum">
              <a:rPr b="1" lang="nl-NL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hthoek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hthoek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hthoek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FDFFC-6CF0-4D80-8097-CA766630E67A}" type="slidenum">
              <a:rPr b="1" lang="nl-N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anonvanamsterdam.nl/venster/wisselbank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anonvanamsterdam.nl/venster/voc-1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57120" y="785520"/>
            <a:ext cx="4214880" cy="2428920"/>
          </a:xfrm>
          <a:prstGeom prst="rect">
            <a:avLst/>
          </a:prstGeom>
          <a:noFill/>
          <a:ln w="28440">
            <a:solidFill>
              <a:srgbClr val="dd8047"/>
            </a:solidFill>
            <a:miter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ebddc3"/>
                </a:solidFill>
                <a:latin typeface="Tw Cen MT"/>
              </a:rPr>
              <a:t>DE ECONOMIE</a:t>
            </a:r>
            <a:br>
              <a:rPr sz="4800"/>
            </a:br>
            <a:r>
              <a:rPr b="0" lang="nl-NL" sz="4800" spc="-1" strike="noStrike">
                <a:solidFill>
                  <a:srgbClr val="ebddc3"/>
                </a:solidFill>
                <a:latin typeface="Tw Cen MT"/>
              </a:rPr>
              <a:t>IN DE </a:t>
            </a:r>
            <a:br>
              <a:rPr sz="4800"/>
            </a:br>
            <a:r>
              <a:rPr b="0" lang="nl-NL" sz="4800" spc="-1" strike="noStrike">
                <a:solidFill>
                  <a:srgbClr val="ebddc3"/>
                </a:solidFill>
                <a:latin typeface="Tw Cen MT"/>
              </a:rPr>
              <a:t>GOUDEN EEUW</a:t>
            </a:r>
            <a:endParaRPr b="0" lang="en-US" sz="48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600" spc="-1" strike="noStrike">
                <a:solidFill>
                  <a:srgbClr val="ffffff"/>
                </a:solidFill>
                <a:latin typeface="Tw Cen MT"/>
              </a:rPr>
              <a:t>Aantekeningen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4929120" y="785880"/>
            <a:ext cx="39290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Opdrachten Bij Nederland in de Gouden Eeuw (GWP H3 en H4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612720" y="1773360"/>
          <a:ext cx="8153280" cy="3973320"/>
        </p:xfrm>
        <a:graphic>
          <a:graphicData uri="http://schemas.openxmlformats.org/drawingml/2006/table">
            <a:tbl>
              <a:tblPr/>
              <a:tblGrid>
                <a:gridCol w="2517840"/>
                <a:gridCol w="3157560"/>
                <a:gridCol w="2477880"/>
              </a:tblGrid>
              <a:tr h="284040"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der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ormatiebo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erkbo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284040"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agraaf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LZ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drachten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284040"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-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 3,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284040"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-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284040"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-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 3, 4,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284040"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-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284040"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284040"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-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 3, 4,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284040"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 2, 4,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284040"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-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284040"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T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-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drach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284040"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284040"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-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284040"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5-1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 2, 3,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Inhou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500" spc="-1" strike="noStrike">
                <a:solidFill>
                  <a:srgbClr val="000000"/>
                </a:solidFill>
                <a:latin typeface="Tw Cen MT"/>
              </a:rPr>
              <a:t>Les 1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w Cen MT"/>
              </a:rPr>
              <a:t>1 Centrum van de wereldhandel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Tw Cen MT"/>
              </a:rPr>
              <a:t>Van de handel in de Oostzee naar de uithoeken van Europa en andere continent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w Cen MT"/>
              </a:rPr>
              <a:t>2 De organisatie van de handel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Tw Cen MT"/>
              </a:rPr>
              <a:t>Over het succes van Amsterdamse wisselbank en beurs, over de VOC en de WIC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500" spc="-1" strike="noStrike">
                <a:solidFill>
                  <a:srgbClr val="000000"/>
                </a:solidFill>
                <a:latin typeface="Tw Cen MT"/>
              </a:rPr>
              <a:t>Les 2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w Cen MT"/>
              </a:rPr>
              <a:t>3 Bloeiende nijverheid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Tw Cen MT"/>
              </a:rPr>
              <a:t>Oorzaken voor het succes van de nijverheid in de Republiek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w Cen MT"/>
              </a:rPr>
              <a:t>4 Het platteland in de Gouden Eeuw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Tw Cen MT"/>
              </a:rPr>
              <a:t>Over de bloei van de landbouw in 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West-Nederland</a:t>
            </a:r>
            <a:r>
              <a:rPr b="0" i="1" lang="nl-NL" sz="2000" spc="-1" strike="noStrike">
                <a:solidFill>
                  <a:srgbClr val="000000"/>
                </a:solidFill>
                <a:latin typeface="Tw Cen MT"/>
              </a:rPr>
              <a:t> en het ontstaan van plattelandsnijverheid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1centrum van de wereldhandel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 u="sng">
                <a:solidFill>
                  <a:srgbClr val="000000"/>
                </a:solidFill>
                <a:uFillTx/>
                <a:latin typeface="Tw Cen MT"/>
              </a:rPr>
              <a:t>A. Handel in Europ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Tw Cen MT"/>
              </a:rPr>
              <a:t>Oostzeehandel = ‘</a:t>
            </a:r>
            <a:r>
              <a:rPr b="1" lang="nl-NL" sz="2900" spc="-1" strike="noStrike">
                <a:solidFill>
                  <a:srgbClr val="000000"/>
                </a:solidFill>
                <a:latin typeface="Tw Cen MT"/>
              </a:rPr>
              <a:t>moedernegotie</a:t>
            </a:r>
            <a:r>
              <a:rPr b="0" lang="nl-NL" sz="2900" spc="-1" strike="noStrike">
                <a:solidFill>
                  <a:srgbClr val="000000"/>
                </a:solidFill>
                <a:latin typeface="Tw Cen MT"/>
              </a:rPr>
              <a:t>’, basis van alle overzeese activiteite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w Cen MT"/>
              </a:rPr>
              <a:t>Hoogtepunt tijdens Twaalfjarig bestand met Spanje (1609-1621).</a:t>
            </a:r>
            <a:r>
              <a:rPr b="0" i="1" lang="nl-NL" sz="26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59364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300" spc="-1" strike="noStrike">
                <a:solidFill>
                  <a:srgbClr val="000000"/>
                </a:solidFill>
                <a:latin typeface="Tw Cen MT"/>
              </a:rPr>
              <a:t>Ondanks Tachtigjarige Oorlog blijft Spanje handel drijven met de Republiek ivm voedseltekorten / Republiek afhankelijk van Spaans zilver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Tw Cen MT"/>
              </a:rPr>
              <a:t>Uitbreiding van de handel naar uithoeken van Europa: Rusland, Zweden (walvisvaart), Middellandse Zee, Levant, etc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2521080" y="404640"/>
            <a:ext cx="5765760" cy="616932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775f55"/>
                </a:solidFill>
                <a:latin typeface="Tw Cen MT"/>
              </a:rPr>
              <a:t>Amsterdam: stapelmarkt van Europ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Tijdelijke aanduiding voor tekst 9"/>
          <p:cNvSpPr/>
          <p:nvPr/>
        </p:nvSpPr>
        <p:spPr>
          <a:xfrm>
            <a:off x="179280" y="1052640"/>
            <a:ext cx="2305080" cy="208908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7160" rIns="137160" tIns="182880" bIns="91440" anchor="t">
            <a:noAutofit/>
          </a:bodyPr>
          <a:p>
            <a:pPr lvl="1">
              <a:lnSpc>
                <a:spcPct val="90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Handelsknooppunt tussen Noord- en Zuid-Euro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90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(Oostzee – Middellandse Ze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 u="sng">
                <a:solidFill>
                  <a:srgbClr val="000000"/>
                </a:solidFill>
                <a:uFillTx/>
                <a:latin typeface="Tw Cen MT"/>
              </a:rPr>
              <a:t>B. Handel buiten Europa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w Cen MT"/>
              </a:rPr>
              <a:t>Portugezen bezaten het monopolie op specerijenhandel met </a:t>
            </a:r>
            <a:r>
              <a:rPr b="1" lang="nl-NL" sz="2500" spc="-1" strike="noStrike">
                <a:solidFill>
                  <a:srgbClr val="000000"/>
                </a:solidFill>
                <a:latin typeface="Tw Cen MT"/>
              </a:rPr>
              <a:t>Oost-Azië</a:t>
            </a:r>
            <a:r>
              <a:rPr b="0" lang="nl-NL" sz="2500" spc="-1" strike="noStrike">
                <a:solidFill>
                  <a:srgbClr val="000000"/>
                </a:solidFill>
                <a:latin typeface="Tw Cen MT"/>
              </a:rPr>
              <a:t>  =&gt; vraag &gt; aanbod =&gt; eigen weg naar Indië (</a:t>
            </a:r>
            <a:r>
              <a:rPr b="0" i="1" lang="nl-NL" sz="2500" spc="-1" strike="noStrike">
                <a:solidFill>
                  <a:srgbClr val="000000"/>
                </a:solidFill>
                <a:latin typeface="Tw Cen MT"/>
              </a:rPr>
              <a:t>Eerste Scheepvaart</a:t>
            </a:r>
            <a:r>
              <a:rPr b="0" lang="nl-NL" sz="2500" spc="-1" strike="noStrike">
                <a:solidFill>
                  <a:srgbClr val="000000"/>
                </a:solidFill>
                <a:latin typeface="Tw Cen MT"/>
              </a:rPr>
              <a:t>, 1595)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w Cen MT"/>
              </a:rPr>
              <a:t>Handel met </a:t>
            </a:r>
            <a:r>
              <a:rPr b="1" lang="nl-NL" sz="2500" spc="-1" strike="noStrike">
                <a:solidFill>
                  <a:srgbClr val="000000"/>
                </a:solidFill>
                <a:latin typeface="Tw Cen MT"/>
              </a:rPr>
              <a:t>Afrikaanse westkust </a:t>
            </a:r>
            <a:r>
              <a:rPr b="0" lang="nl-NL" sz="2500" spc="-1" strike="noStrike">
                <a:solidFill>
                  <a:srgbClr val="000000"/>
                </a:solidFill>
                <a:latin typeface="Tw Cen MT"/>
              </a:rPr>
              <a:t>(va. 1598) in slaven, goud en ivoor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w Cen MT"/>
              </a:rPr>
              <a:t>Oversteek naar </a:t>
            </a:r>
            <a:r>
              <a:rPr b="1" lang="nl-NL" sz="2500" spc="-1" strike="noStrike">
                <a:solidFill>
                  <a:srgbClr val="000000"/>
                </a:solidFill>
                <a:latin typeface="Tw Cen MT"/>
              </a:rPr>
              <a:t>Latijns-Amerika </a:t>
            </a:r>
            <a:r>
              <a:rPr b="0" lang="nl-NL" sz="2500" spc="-1" strike="noStrike">
                <a:solidFill>
                  <a:srgbClr val="000000"/>
                </a:solidFill>
                <a:latin typeface="Tw Cen MT"/>
              </a:rPr>
              <a:t>om slaven op plantages te werk te stellen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w Cen MT"/>
              </a:rPr>
              <a:t>import van tabak uit </a:t>
            </a:r>
            <a:r>
              <a:rPr b="1" lang="nl-NL" sz="2500" spc="-1" strike="noStrike">
                <a:solidFill>
                  <a:srgbClr val="000000"/>
                </a:solidFill>
                <a:latin typeface="Tw Cen MT"/>
              </a:rPr>
              <a:t>Noord-Amerika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5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w Cen MT"/>
              </a:rPr>
              <a:t>Verandering van handel in </a:t>
            </a:r>
            <a:r>
              <a:rPr b="0" i="1" lang="nl-NL" sz="2500" spc="-1" strike="noStrike">
                <a:solidFill>
                  <a:srgbClr val="000000"/>
                </a:solidFill>
                <a:latin typeface="Tw Cen MT"/>
              </a:rPr>
              <a:t>bulkgoederen</a:t>
            </a:r>
            <a:r>
              <a:rPr b="0" lang="nl-NL" sz="2500" spc="-1" strike="noStrike">
                <a:solidFill>
                  <a:srgbClr val="000000"/>
                </a:solidFill>
                <a:latin typeface="Tw Cen MT"/>
              </a:rPr>
              <a:t> naar </a:t>
            </a:r>
            <a:r>
              <a:rPr b="0" i="1" lang="nl-NL" sz="2500" spc="-1" strike="noStrike">
                <a:solidFill>
                  <a:srgbClr val="000000"/>
                </a:solidFill>
                <a:latin typeface="Tw Cen MT"/>
              </a:rPr>
              <a:t>luxegoederen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2 De organisatie van de handel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28400" y="1642680"/>
            <a:ext cx="55306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83680" indent="-283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000000"/>
                </a:solidFill>
                <a:uFillTx/>
                <a:latin typeface="Tw Cen MT"/>
              </a:rPr>
              <a:t>Banken en beurzen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Tw Cen MT"/>
              </a:rPr>
              <a:t>Amsterdamse </a:t>
            </a:r>
            <a:r>
              <a:rPr b="1" lang="nl-NL" sz="2700" spc="-1" strike="noStrike">
                <a:solidFill>
                  <a:srgbClr val="000000"/>
                </a:solidFill>
                <a:latin typeface="Tw Cen MT"/>
              </a:rPr>
              <a:t>wisselbank</a:t>
            </a:r>
            <a:r>
              <a:rPr b="0" lang="nl-NL" sz="2700" spc="-1" strike="noStrike">
                <a:solidFill>
                  <a:srgbClr val="000000"/>
                </a:solidFill>
                <a:latin typeface="Tw Cen MT"/>
              </a:rPr>
              <a:t> (1609): kooplieden konden geld in bewaring geven, wisselen en overboeken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Tw Cen MT"/>
              </a:rPr>
              <a:t>bank van </a:t>
            </a:r>
            <a:r>
              <a:rPr b="1" lang="nl-NL" sz="2700" spc="-1" strike="noStrike">
                <a:solidFill>
                  <a:srgbClr val="000000"/>
                </a:solidFill>
                <a:latin typeface="Tw Cen MT"/>
              </a:rPr>
              <a:t>lening</a:t>
            </a:r>
            <a:r>
              <a:rPr b="0" lang="nl-NL" sz="2700" spc="-1" strike="noStrike">
                <a:solidFill>
                  <a:srgbClr val="000000"/>
                </a:solidFill>
                <a:latin typeface="Tw Cen MT"/>
              </a:rPr>
              <a:t> (1614) t.b.v. investeerder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Tw Cen MT"/>
              </a:rPr>
              <a:t>Amsterdamse </a:t>
            </a:r>
            <a:r>
              <a:rPr b="1" lang="nl-NL" sz="2700" spc="-1" strike="noStrike">
                <a:solidFill>
                  <a:srgbClr val="000000"/>
                </a:solidFill>
                <a:latin typeface="Tw Cen MT"/>
              </a:rPr>
              <a:t>beurs </a:t>
            </a:r>
            <a:r>
              <a:rPr b="0" lang="nl-NL" sz="2700" spc="-1" strike="noStrike">
                <a:solidFill>
                  <a:srgbClr val="000000"/>
                </a:solidFill>
                <a:latin typeface="Tw Cen MT"/>
              </a:rPr>
              <a:t>(1611): handel in producten en VOC-aandelen, afsluiten van verzekeringen en vervoerscontracten.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Clip ‘Wisselbank 1609’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2"/>
          <a:stretch/>
        </p:blipFill>
        <p:spPr>
          <a:xfrm>
            <a:off x="6143760" y="1785960"/>
            <a:ext cx="2857320" cy="22860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3" descr=""/>
          <p:cNvPicPr/>
          <p:nvPr/>
        </p:nvPicPr>
        <p:blipFill>
          <a:blip r:embed="rId3"/>
          <a:stretch/>
        </p:blipFill>
        <p:spPr>
          <a:xfrm>
            <a:off x="6143760" y="4214880"/>
            <a:ext cx="28573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612360" y="1600200"/>
            <a:ext cx="831708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 u="sng">
                <a:solidFill>
                  <a:srgbClr val="000000"/>
                </a:solidFill>
                <a:uFillTx/>
                <a:latin typeface="Tw Cen MT"/>
              </a:rPr>
              <a:t>De Verenigde Oost-Indische Compagnie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w Cen MT"/>
              </a:rPr>
              <a:t>Handel op Indië in handen van </a:t>
            </a:r>
            <a:r>
              <a:rPr b="0" i="1" lang="nl-NL" sz="2500" spc="-1" strike="noStrike">
                <a:solidFill>
                  <a:srgbClr val="000000"/>
                </a:solidFill>
                <a:latin typeface="Tw Cen MT"/>
              </a:rPr>
              <a:t>voorcompagnie</a:t>
            </a:r>
            <a:r>
              <a:rPr b="0" lang="nl-NL" sz="2500" spc="-1" strike="noStrike">
                <a:solidFill>
                  <a:srgbClr val="000000"/>
                </a:solidFill>
                <a:latin typeface="Tw Cen MT"/>
              </a:rPr>
              <a:t>ë</a:t>
            </a:r>
            <a:r>
              <a:rPr b="0" i="1" lang="nl-NL" sz="2500" spc="-1" strike="noStrike">
                <a:solidFill>
                  <a:srgbClr val="000000"/>
                </a:solidFill>
                <a:latin typeface="Tw Cen MT"/>
              </a:rPr>
              <a:t>n</a:t>
            </a:r>
            <a:r>
              <a:rPr b="0" lang="nl-NL" sz="2500" spc="-1" strike="noStrike">
                <a:solidFill>
                  <a:srgbClr val="000000"/>
                </a:solidFill>
                <a:latin typeface="Tw Cen MT"/>
              </a:rPr>
              <a:t>: groepen kooplieden die gezamenlijk expedities organiseren en winst delen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868680" indent="-217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Nadelige gevolgen: onderlinge concurrentie, dalende prijz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w Cen MT"/>
              </a:rPr>
              <a:t>Oprichting VOC (1602) in opdracht van Staten-Generaal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868680" indent="-217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Monopolie op Nederlandse handel in Azië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868680" indent="-217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startkapitaal bijeengebracht door uitgifte van aandel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868680" indent="-217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Verregaande bevoegdheden t.b.v. handel: oorlogvoeren, verdragen sluiten met vorsten, forten bouwen etc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868680" indent="-217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Met geweld worden Portugezen + Engelsen verdreven, Batavia gesticht en Molukkers gedwongen om specerijen exclusief aan de VOC te lever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868680" indent="-217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VOC sticht factorijen (handelsposten) en neemt deel aan inter-Aziatische handel 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nl-NL" sz="20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clip ‘VOC 1602’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7" name="Picture 4" descr=""/>
          <p:cNvPicPr/>
          <p:nvPr/>
        </p:nvPicPr>
        <p:blipFill>
          <a:blip r:embed="rId2"/>
          <a:stretch/>
        </p:blipFill>
        <p:spPr>
          <a:xfrm>
            <a:off x="6416640" y="142920"/>
            <a:ext cx="23097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571320" y="1571760"/>
            <a:ext cx="84294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90160" indent="-290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 u="sng">
                <a:solidFill>
                  <a:srgbClr val="000000"/>
                </a:solidFill>
                <a:uFillTx/>
                <a:latin typeface="Tw Cen MT"/>
              </a:rPr>
              <a:t>West-Indische Compagnie (1621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w Cen MT"/>
              </a:rPr>
              <a:t>Opgericht na beëindiging Twaalfjarig Bestand (1609-21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82120" indent="-2480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600" spc="-1" strike="noStrike">
                <a:solidFill>
                  <a:srgbClr val="000000"/>
                </a:solidFill>
                <a:latin typeface="Tw Cen MT"/>
              </a:rPr>
              <a:t>Oorlog tussen de Republiek en Spanje laait opnieuw op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w Cen MT"/>
              </a:rPr>
              <a:t>Doelen: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831960" indent="-20772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w Cen MT"/>
              </a:rPr>
              <a:t>Spanje economisch treffen d.m.v. </a:t>
            </a:r>
            <a:r>
              <a:rPr b="1" lang="nl-NL" sz="2600" spc="-1" strike="noStrike">
                <a:solidFill>
                  <a:srgbClr val="000000"/>
                </a:solidFill>
                <a:latin typeface="Tw Cen MT"/>
              </a:rPr>
              <a:t>kaapvaart</a:t>
            </a:r>
            <a:r>
              <a:rPr b="0" lang="nl-NL" sz="2600" spc="-1" strike="noStrike">
                <a:solidFill>
                  <a:srgbClr val="000000"/>
                </a:solidFill>
                <a:latin typeface="Tw Cen MT"/>
              </a:rPr>
              <a:t> (veroveren van zilvervloot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831960" indent="-20772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w Cen MT"/>
              </a:rPr>
              <a:t>Veroveren van gebieden / stichten kolonies t.b.v. opzetten suiker- en tabaksplantages (productie in eigen beheer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w Cen MT"/>
              </a:rPr>
              <a:t>Na Vrede van Munster (1648) legt de WIC zich toe op de </a:t>
            </a:r>
            <a:r>
              <a:rPr b="1" lang="nl-NL" sz="2600" spc="-1" strike="noStrike">
                <a:solidFill>
                  <a:srgbClr val="000000"/>
                </a:solidFill>
                <a:latin typeface="Tw Cen MT"/>
              </a:rPr>
              <a:t>driehoekshandel </a:t>
            </a:r>
            <a:r>
              <a:rPr b="0" lang="nl-NL" sz="2600" spc="-1" strike="noStrike">
                <a:solidFill>
                  <a:srgbClr val="000000"/>
                </a:solidFill>
                <a:latin typeface="Tw Cen MT"/>
              </a:rPr>
              <a:t>tussen Europa, West-Afrika en Amerik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82120" indent="-2480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600" spc="-1" strike="noStrike">
                <a:solidFill>
                  <a:srgbClr val="000000"/>
                </a:solidFill>
                <a:latin typeface="Tw Cen MT"/>
              </a:rPr>
              <a:t>hevige concurrentie + hoge militaire kosten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82120" indent="-2480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9" name="Picture 2" descr=""/>
          <p:cNvPicPr/>
          <p:nvPr/>
        </p:nvPicPr>
        <p:blipFill>
          <a:blip r:embed="rId1"/>
          <a:stretch/>
        </p:blipFill>
        <p:spPr>
          <a:xfrm>
            <a:off x="7000920" y="214200"/>
            <a:ext cx="177336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179280" y="-100080"/>
            <a:ext cx="8842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19:18:19Z</dcterms:created>
  <dc:creator>Floor</dc:creator>
  <dc:description/>
  <dc:language>en-US</dc:language>
  <cp:lastModifiedBy>Krista Harte</cp:lastModifiedBy>
  <dcterms:modified xsi:type="dcterms:W3CDTF">2015-01-10T10:59:10Z</dcterms:modified>
  <cp:revision>17</cp:revision>
  <dc:subject/>
  <dc:title>De economie in de gouden eeuw</dc:title>
</cp:coreProperties>
</file>