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B922-F69D-4E20-BD71-D953F39A3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5A26-0951-41C4-8D95-879C9314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44DD-B47C-490F-86A3-C075DFE0A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99EA-E5CE-4470-8C43-893C61EC8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C7F4-B633-4886-9C44-A7FD8F699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566F-DB13-4D04-80DB-0CC32589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A5D6-5A12-49F1-B6F0-53D2E6EE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32D4-DFB2-43C1-BADF-5ECCE28C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0606-B9D5-415D-82FF-31A7D098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96F2-429E-4C74-A122-7862ABB0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B2A40-94B1-4411-AF71-B4A34737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B9C3-2D52-411A-96B7-EF598BC6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2628B-93F6-4674-B0E3-EB78652A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EFDE-7A25-4D3D-96E4-4032B890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513EE-EDF1-460D-AD8D-4A86F67A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F906-B214-4E44-A09B-B66A29858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387D-4169-4F13-803D-9C14E973B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B36BE1-F7D6-464A-B677-FF08678C1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2CF9E8-3699-4FE8-AD25-EED3ACF8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1D89FD-C699-4C08-990A-4B3D9AC6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81D2CD-53EE-4B81-85D5-4A78AA9A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E053AF-84FE-4882-9127-5BC9CCC3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4671-DE7E-4CC3-9338-3AF4DA50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B5A140-6D91-473D-8348-AD067854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00292F-EFC4-4F42-BA5E-1894D680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1B3026-194B-40DD-BF29-87FBB57A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2013C7-8D1D-4985-8C05-E3E0C313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093E71-8C29-482F-A817-53286E87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38DC3F-39D2-4D08-865D-6DAE6983D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F8E3BB-4FAA-4E7A-8F76-063E439F3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7FD251-00D1-4CDF-811A-913A60F68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B7B1CC-BC82-479E-8D3B-A3A7D8B9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9D6333-7EDF-4BFF-B81D-7D007DF0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F17E-AB5A-47A7-8DD0-519811CB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369A5B-5513-40E8-AA4E-7F3C6A7F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57DAA4-4A34-4245-9A07-C326CCD1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9F950A-669B-46E1-A649-42D0F68A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A0352B-DBDD-4313-A8CF-C03524DB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D087EC-91BC-4069-9772-FC9916B3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607C33-97A5-4F57-A463-1E3517D6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B3900B-CD83-467E-B6EF-ADCAAEE6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71DA2A-F9DA-4477-9D98-002AD00A0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AD7E75-3545-4887-8BF3-CF0FF2F63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D6522B-972B-4517-9378-00095B808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AB7A-FD27-454B-AD8F-2C036E7F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A4B4A9-01C2-4394-AA62-C473BA41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A43363-3E2E-48C0-A6E6-632E24B5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24A1D7-FD35-4C97-9C1B-A9029DE3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05B813-3908-4407-A9F0-73651F59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1FCF66-D001-4324-8986-41B9AE8C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992686-6E14-4983-8FD6-2464BE10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EAE1B1-54F6-49D3-B402-76FD12B1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D59E85-3B10-47C8-82BE-BAED738A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8E64A5-AF1B-42BF-B66B-FAA8BCC5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982EBB-C2EE-4F68-8505-B526CB4BF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4B6C-0795-45FF-A4FE-3F786F6B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05AAB2-3ED5-4A16-9083-2A4306439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23DD7-50B4-43C7-87CF-F9369894D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3D050-90C6-41BD-AF19-05C01298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15075-AEE4-48F4-B5C6-68B06F08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4D24E-C0A7-4C17-80C6-3ED6AD39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D877C-85FB-41B8-A574-D217F17C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52C9E-8C0D-42D1-A69D-77CB3502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D4368-5F8B-47A4-8688-41DA377A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EF503-9B89-4FF4-8FF9-BF4903BA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CA808-7AC0-475E-89CC-1A2A0CAD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7403-3A36-49B5-8CF6-7DFBC824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099F8-A848-42F5-AFC2-D499885B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0C23C-AFEA-434B-B0E5-B41620E57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71DC5-B9EC-47AF-90BE-BD1FAEE9D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A43CA5-BBE9-4CF1-B7B1-F085D2426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BDABE3-9A22-420E-A6BE-86A63A82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8DD9CE-3815-4C8F-92AB-6FC6D468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CFCC6C-C65C-4AA6-AFDC-0EAA24A6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05F63C-DA49-4E70-97E5-52B5248D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7C49E4-FBEC-40BD-AA7E-E8299CDE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CD0CFC-5362-4871-90A5-D957A6D1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7899-391A-4B0B-83D1-BEA93433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212802-EF76-48E4-A4F4-0D8BF0A3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831EFB-6167-46CE-B548-CDF1139F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B0885E-BD44-454B-A9C6-8CAF2575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60BFFF-4661-4CBA-833A-E200174E1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8246A2-60CD-460E-B91F-C0994BC1B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205F8-02C6-4A87-ACC5-3336A24D0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1AA50-952E-477D-90A9-19384635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3C225-C559-4A89-B503-C1917FF1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2C5DD-BE56-420D-B988-16875B28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0F4C7-DCD3-48A2-BE40-6D0B7CD9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C712-E5E5-4D4A-B9EB-910E8A3F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263E9-98CA-4048-9A55-5F943933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E7670-647A-49D1-A042-FF862C7D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16E52-E393-443B-9336-E66D7497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F43BE-5996-4312-95A4-8F570A54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404F2-5CAF-4FA4-9133-4AB0EA48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6188D-B124-4FBF-979B-D8C6BCE53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4074A-AA9F-4C89-85AD-FD93EF484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0105-5745-498B-AB85-B3A37BC918E0}" type="slidenum">
              <a:rPr b="1" lang="nl-N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hoek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hthoek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hthoek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4F7E-6029-451D-8831-BADEEBBDDA17}" type="slidenum">
              <a:rPr b="1" lang="nl-NL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hthoek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hthoek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hthoek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AF17-2AE4-437D-915E-79FBEB554522}" type="slidenum">
              <a:rPr b="1" lang="nl-NL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8771-A064-45CA-AB69-E4E8CCDF1883}" type="slidenum">
              <a:rPr b="1" lang="nl-N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F5A5-F80C-45CC-9352-194A2C744B14}" type="slidenum">
              <a:rPr b="1" lang="nl-N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2580-17FF-4667-9346-7D956C200C09}" type="slidenum">
              <a:rPr b="1" lang="nl-NL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hthoek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hthoek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hthoek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hthoek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550C-9406-4F30-90B8-AE801E8A0365}" type="slidenum">
              <a:rPr b="1" lang="nl-NL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hthoek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DE93-B897-4EA4-9FF4-8C7A0967A927}" type="slidenum">
              <a:rPr b="1" lang="nl-N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anonvanamsterdam.nl/venster/wisselbank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anonvanamsterdam.nl/venster/voc-1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57120" y="785520"/>
            <a:ext cx="4214880" cy="2428920"/>
          </a:xfrm>
          <a:prstGeom prst="rect">
            <a:avLst/>
          </a:prstGeom>
          <a:noFill/>
          <a:ln w="28440">
            <a:solidFill>
              <a:srgbClr val="dd8047"/>
            </a:solidFill>
            <a:miter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ebddc3"/>
                </a:solidFill>
                <a:latin typeface="Tw Cen MT"/>
              </a:rPr>
              <a:t>DE ECONOMIE</a:t>
            </a:r>
            <a:br>
              <a:rPr sz="4800"/>
            </a:br>
            <a:r>
              <a:rPr b="0" lang="nl-NL" sz="4800" spc="-1" strike="noStrike">
                <a:solidFill>
                  <a:srgbClr val="ebddc3"/>
                </a:solidFill>
                <a:latin typeface="Tw Cen MT"/>
              </a:rPr>
              <a:t>IN DE </a:t>
            </a:r>
            <a:br>
              <a:rPr sz="4800"/>
            </a:br>
            <a:r>
              <a:rPr b="0" lang="nl-NL" sz="4800" spc="-1" strike="noStrike">
                <a:solidFill>
                  <a:srgbClr val="ebddc3"/>
                </a:solidFill>
                <a:latin typeface="Tw Cen MT"/>
              </a:rPr>
              <a:t>GOUDEN EEUW</a:t>
            </a:r>
            <a:endParaRPr b="0" lang="en-US" sz="48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600" spc="-1" strike="noStrike">
                <a:solidFill>
                  <a:srgbClr val="ffffff"/>
                </a:solidFill>
                <a:latin typeface="Tw Cen MT"/>
              </a:rPr>
              <a:t>Aantekeningen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4929120" y="785880"/>
            <a:ext cx="39290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Opdrachten Bij Nederland in de Gouden Eeuw (GWP H3 en H4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612720" y="1773360"/>
          <a:ext cx="8153280" cy="3973320"/>
        </p:xfrm>
        <a:graphic>
          <a:graphicData uri="http://schemas.openxmlformats.org/drawingml/2006/table">
            <a:tbl>
              <a:tblPr/>
              <a:tblGrid>
                <a:gridCol w="2517840"/>
                <a:gridCol w="3157560"/>
                <a:gridCol w="2477880"/>
              </a:tblGrid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der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ormatiebo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rkbo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agraaf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Z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drachten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-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 3,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-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-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 3, 4,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-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-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 3, 4,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 2, 4,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-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-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drach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-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-1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 2, 3,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Inhou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000000"/>
                </a:solidFill>
                <a:latin typeface="Tw Cen MT"/>
              </a:rPr>
              <a:t>Les 1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1 Centrum van de wereldhandel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w Cen MT"/>
              </a:rPr>
              <a:t>Van de handel in de Oostzee naar de uithoeken van Europa en andere continent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2 De organisatie van de handel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w Cen MT"/>
              </a:rPr>
              <a:t>Over het succes van Amsterdamse wisselbank en beurs, over de VOC en de WIC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000000"/>
                </a:solidFill>
                <a:latin typeface="Tw Cen MT"/>
              </a:rPr>
              <a:t>Les 2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3 Bloeiende nijverheid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w Cen MT"/>
              </a:rPr>
              <a:t>Oorzaken voor het succes van de nijverheid in de Republie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4 Het platteland in de Gouden Eeuw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w Cen MT"/>
              </a:rPr>
              <a:t>Over de bloei van de landbouw in 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est-Nederland</a:t>
            </a:r>
            <a:r>
              <a:rPr b="0" i="1" lang="nl-NL" sz="2000" spc="-1" strike="noStrike">
                <a:solidFill>
                  <a:srgbClr val="000000"/>
                </a:solidFill>
                <a:latin typeface="Tw Cen MT"/>
              </a:rPr>
              <a:t> en het ontstaan van plattelandsnijverhei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1centrum van de wereldhande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 u="sng">
                <a:solidFill>
                  <a:srgbClr val="000000"/>
                </a:solidFill>
                <a:uFillTx/>
                <a:latin typeface="Tw Cen MT"/>
              </a:rPr>
              <a:t>A. Handel in Europ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Tw Cen MT"/>
              </a:rPr>
              <a:t>Oostzeehandel = ‘</a:t>
            </a:r>
            <a:r>
              <a:rPr b="1" lang="nl-NL" sz="2900" spc="-1" strike="noStrike">
                <a:solidFill>
                  <a:srgbClr val="000000"/>
                </a:solidFill>
                <a:latin typeface="Tw Cen MT"/>
              </a:rPr>
              <a:t>moedernegotie</a:t>
            </a:r>
            <a:r>
              <a:rPr b="0" lang="nl-NL" sz="2900" spc="-1" strike="noStrike">
                <a:solidFill>
                  <a:srgbClr val="000000"/>
                </a:solidFill>
                <a:latin typeface="Tw Cen MT"/>
              </a:rPr>
              <a:t>’, basis van alle overzeese activiteite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w Cen MT"/>
              </a:rPr>
              <a:t>Hoogtepunt tijdens Twaalfjarig bestand met Spanje (1609-1621).</a:t>
            </a:r>
            <a:r>
              <a:rPr b="0" i="1" lang="nl-NL" sz="26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59364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300" spc="-1" strike="noStrike">
                <a:solidFill>
                  <a:srgbClr val="000000"/>
                </a:solidFill>
                <a:latin typeface="Tw Cen MT"/>
              </a:rPr>
              <a:t>Ondanks Tachtigjarige Oorlog blijft Spanje handel drijven met de Republiek ivm voedseltekorten / Republiek afhankelijk van Spaans zilve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Tw Cen MT"/>
              </a:rPr>
              <a:t>Uitbreiding van de handel naar uithoeken van Europa: Rusland, Zweden (walvisvaart), Middellandse Zee, Levant, etc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2521080" y="404640"/>
            <a:ext cx="5765760" cy="616932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775f55"/>
                </a:solidFill>
                <a:latin typeface="Tw Cen MT"/>
              </a:rPr>
              <a:t>Amsterdam: stapelmarkt van Europ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Tijdelijke aanduiding voor tekst 9"/>
          <p:cNvSpPr/>
          <p:nvPr/>
        </p:nvSpPr>
        <p:spPr>
          <a:xfrm>
            <a:off x="179280" y="1052640"/>
            <a:ext cx="2305080" cy="208908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137160" tIns="182880" bIns="91440" anchor="t">
            <a:noAutofit/>
          </a:bodyPr>
          <a:p>
            <a:pPr lvl="1">
              <a:lnSpc>
                <a:spcPct val="90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Handelsknooppunt tussen Noord- en Zuid-Euro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(Oostzee – Middellandse Ze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 u="sng">
                <a:solidFill>
                  <a:srgbClr val="000000"/>
                </a:solidFill>
                <a:uFillTx/>
                <a:latin typeface="Tw Cen MT"/>
              </a:rPr>
              <a:t>B. Handel buiten Europa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Portugezen bezaten het monopolie op specerijenhandel met </a:t>
            </a:r>
            <a:r>
              <a:rPr b="1" lang="nl-NL" sz="2500" spc="-1" strike="noStrike">
                <a:solidFill>
                  <a:srgbClr val="000000"/>
                </a:solidFill>
                <a:latin typeface="Tw Cen MT"/>
              </a:rPr>
              <a:t>Oost-Azië</a:t>
            </a: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  =&gt; vraag &gt; aanbod =&gt; eigen weg naar Indië (</a:t>
            </a:r>
            <a:r>
              <a:rPr b="0" i="1" lang="nl-NL" sz="2500" spc="-1" strike="noStrike">
                <a:solidFill>
                  <a:srgbClr val="000000"/>
                </a:solidFill>
                <a:latin typeface="Tw Cen MT"/>
              </a:rPr>
              <a:t>Eerste Scheepvaart</a:t>
            </a: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, 1595)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Handel met </a:t>
            </a:r>
            <a:r>
              <a:rPr b="1" lang="nl-NL" sz="2500" spc="-1" strike="noStrike">
                <a:solidFill>
                  <a:srgbClr val="000000"/>
                </a:solidFill>
                <a:latin typeface="Tw Cen MT"/>
              </a:rPr>
              <a:t>Afrikaanse westkust </a:t>
            </a: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(va. 1598) in slaven, goud en ivoor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Oversteek naar </a:t>
            </a:r>
            <a:r>
              <a:rPr b="1" lang="nl-NL" sz="2500" spc="-1" strike="noStrike">
                <a:solidFill>
                  <a:srgbClr val="000000"/>
                </a:solidFill>
                <a:latin typeface="Tw Cen MT"/>
              </a:rPr>
              <a:t>Latijns-Amerika </a:t>
            </a: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om slaven op plantages te werk te stellen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import van tabak uit </a:t>
            </a:r>
            <a:r>
              <a:rPr b="1" lang="nl-NL" sz="2500" spc="-1" strike="noStrike">
                <a:solidFill>
                  <a:srgbClr val="000000"/>
                </a:solidFill>
                <a:latin typeface="Tw Cen MT"/>
              </a:rPr>
              <a:t>Noord-Amerika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Verandering van handel in </a:t>
            </a:r>
            <a:r>
              <a:rPr b="0" i="1" lang="nl-NL" sz="2500" spc="-1" strike="noStrike">
                <a:solidFill>
                  <a:srgbClr val="000000"/>
                </a:solidFill>
                <a:latin typeface="Tw Cen MT"/>
              </a:rPr>
              <a:t>bulkgoederen</a:t>
            </a: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 naar </a:t>
            </a:r>
            <a:r>
              <a:rPr b="0" i="1" lang="nl-NL" sz="2500" spc="-1" strike="noStrike">
                <a:solidFill>
                  <a:srgbClr val="000000"/>
                </a:solidFill>
                <a:latin typeface="Tw Cen MT"/>
              </a:rPr>
              <a:t>luxegoederen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2 De organisatie van de hande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28400" y="1642680"/>
            <a:ext cx="55306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Tw Cen MT"/>
              </a:rPr>
              <a:t>Banken en beurzen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Tw Cen MT"/>
              </a:rPr>
              <a:t>Amsterdamse </a:t>
            </a:r>
            <a:r>
              <a:rPr b="1" lang="nl-NL" sz="2700" spc="-1" strike="noStrike">
                <a:solidFill>
                  <a:srgbClr val="000000"/>
                </a:solidFill>
                <a:latin typeface="Tw Cen MT"/>
              </a:rPr>
              <a:t>wisselbank</a:t>
            </a:r>
            <a:r>
              <a:rPr b="0" lang="nl-NL" sz="2700" spc="-1" strike="noStrike">
                <a:solidFill>
                  <a:srgbClr val="000000"/>
                </a:solidFill>
                <a:latin typeface="Tw Cen MT"/>
              </a:rPr>
              <a:t> (1609): kooplieden konden geld in bewaring geven, wisselen en overboeken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Tw Cen MT"/>
              </a:rPr>
              <a:t>bank van </a:t>
            </a:r>
            <a:r>
              <a:rPr b="1" lang="nl-NL" sz="2700" spc="-1" strike="noStrike">
                <a:solidFill>
                  <a:srgbClr val="000000"/>
                </a:solidFill>
                <a:latin typeface="Tw Cen MT"/>
              </a:rPr>
              <a:t>lening</a:t>
            </a:r>
            <a:r>
              <a:rPr b="0" lang="nl-NL" sz="2700" spc="-1" strike="noStrike">
                <a:solidFill>
                  <a:srgbClr val="000000"/>
                </a:solidFill>
                <a:latin typeface="Tw Cen MT"/>
              </a:rPr>
              <a:t> (1614) t.b.v. investeerder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Tw Cen MT"/>
              </a:rPr>
              <a:t>Amsterdamse </a:t>
            </a:r>
            <a:r>
              <a:rPr b="1" lang="nl-NL" sz="2700" spc="-1" strike="noStrike">
                <a:solidFill>
                  <a:srgbClr val="000000"/>
                </a:solidFill>
                <a:latin typeface="Tw Cen MT"/>
              </a:rPr>
              <a:t>beurs </a:t>
            </a:r>
            <a:r>
              <a:rPr b="0" lang="nl-NL" sz="2700" spc="-1" strike="noStrike">
                <a:solidFill>
                  <a:srgbClr val="000000"/>
                </a:solidFill>
                <a:latin typeface="Tw Cen MT"/>
              </a:rPr>
              <a:t>(1611): handel in producten en VOC-aandelen, afsluiten van verzekeringen en vervoerscontracten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Clip ‘Wisselbank 1609’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2"/>
          <a:stretch/>
        </p:blipFill>
        <p:spPr>
          <a:xfrm>
            <a:off x="6143760" y="1785960"/>
            <a:ext cx="2857320" cy="22860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"/>
          <p:cNvPicPr/>
          <p:nvPr/>
        </p:nvPicPr>
        <p:blipFill>
          <a:blip r:embed="rId3"/>
          <a:stretch/>
        </p:blipFill>
        <p:spPr>
          <a:xfrm>
            <a:off x="6143760" y="4214880"/>
            <a:ext cx="28573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612360" y="1600200"/>
            <a:ext cx="83170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 u="sng">
                <a:solidFill>
                  <a:srgbClr val="000000"/>
                </a:solidFill>
                <a:uFillTx/>
                <a:latin typeface="Tw Cen MT"/>
              </a:rPr>
              <a:t>De Verenigde Oost-Indische Compagni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Handel op Indië in handen van </a:t>
            </a:r>
            <a:r>
              <a:rPr b="0" i="1" lang="nl-NL" sz="2500" spc="-1" strike="noStrike">
                <a:solidFill>
                  <a:srgbClr val="000000"/>
                </a:solidFill>
                <a:latin typeface="Tw Cen MT"/>
              </a:rPr>
              <a:t>voorcompagnie</a:t>
            </a: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ë</a:t>
            </a:r>
            <a:r>
              <a:rPr b="0" i="1" lang="nl-NL" sz="2500" spc="-1" strike="noStrike">
                <a:solidFill>
                  <a:srgbClr val="000000"/>
                </a:solidFill>
                <a:latin typeface="Tw Cen MT"/>
              </a:rPr>
              <a:t>n</a:t>
            </a: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: groepen kooplieden die gezamenlijk expedities organiseren en winst delen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868680" indent="-217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Nadelige gevolgen: onderlinge concurrentie, dalende prijz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Oprichting VOC (1602) in opdracht van Staten-Generaal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868680" indent="-217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Monopolie op Nederlandse handel in Azië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868680" indent="-217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startkapitaal bijeengebracht door uitgifte van aandel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868680" indent="-217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erregaande bevoegdheden t.b.v. handel: oorlogvoeren, verdragen sluiten met vorsten, forten bouwen etc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868680" indent="-217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Met geweld worden Portugezen + Engelsen verdreven, Batavia gesticht en Molukkers gedwongen om specerijen exclusief aan de VOC te lever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868680" indent="-217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OC sticht factorijen (handelsposten) en neemt deel aan inter-Aziatische handel 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nl-NL" sz="20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clip ‘VOC 1602’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7" name="Picture 4" descr=""/>
          <p:cNvPicPr/>
          <p:nvPr/>
        </p:nvPicPr>
        <p:blipFill>
          <a:blip r:embed="rId2"/>
          <a:stretch/>
        </p:blipFill>
        <p:spPr>
          <a:xfrm>
            <a:off x="6416640" y="142920"/>
            <a:ext cx="23097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571320" y="1571760"/>
            <a:ext cx="84294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Tw Cen MT"/>
              </a:rPr>
              <a:t>West-Indische Compagnie (1621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w Cen MT"/>
              </a:rPr>
              <a:t>Opgericht na beëindiging Twaalfjarig Bestand (1609-21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-2480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600" spc="-1" strike="noStrike">
                <a:solidFill>
                  <a:srgbClr val="000000"/>
                </a:solidFill>
                <a:latin typeface="Tw Cen MT"/>
              </a:rPr>
              <a:t>Oorlog tussen de Republiek en Spanje laait opnieuw op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w Cen MT"/>
              </a:rPr>
              <a:t>Doelen: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831960" indent="-20772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w Cen MT"/>
              </a:rPr>
              <a:t>Spanje economisch treffen d.m.v. </a:t>
            </a:r>
            <a:r>
              <a:rPr b="1" lang="nl-NL" sz="2600" spc="-1" strike="noStrike">
                <a:solidFill>
                  <a:srgbClr val="000000"/>
                </a:solidFill>
                <a:latin typeface="Tw Cen MT"/>
              </a:rPr>
              <a:t>kaapvaart</a:t>
            </a:r>
            <a:r>
              <a:rPr b="0" lang="nl-NL" sz="2600" spc="-1" strike="noStrike">
                <a:solidFill>
                  <a:srgbClr val="000000"/>
                </a:solidFill>
                <a:latin typeface="Tw Cen MT"/>
              </a:rPr>
              <a:t> (veroveren van zilvervloot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831960" indent="-20772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w Cen MT"/>
              </a:rPr>
              <a:t>Veroveren van gebieden / stichten kolonies t.b.v. opzetten suiker- en tabaksplantages (productie in eigen beheer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w Cen MT"/>
              </a:rPr>
              <a:t>Na Vrede van Munster (1648) legt de WIC zich toe op de </a:t>
            </a:r>
            <a:r>
              <a:rPr b="1" lang="nl-NL" sz="2600" spc="-1" strike="noStrike">
                <a:solidFill>
                  <a:srgbClr val="000000"/>
                </a:solidFill>
                <a:latin typeface="Tw Cen MT"/>
              </a:rPr>
              <a:t>driehoekshandel </a:t>
            </a:r>
            <a:r>
              <a:rPr b="0" lang="nl-NL" sz="2600" spc="-1" strike="noStrike">
                <a:solidFill>
                  <a:srgbClr val="000000"/>
                </a:solidFill>
                <a:latin typeface="Tw Cen MT"/>
              </a:rPr>
              <a:t>tussen Europa, West-Afrika en Amerik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-2480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600" spc="-1" strike="noStrike">
                <a:solidFill>
                  <a:srgbClr val="000000"/>
                </a:solidFill>
                <a:latin typeface="Tw Cen MT"/>
              </a:rPr>
              <a:t>hevige concurrentie + hoge militaire kosten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-2480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7000920" y="214200"/>
            <a:ext cx="177336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179280" y="-100080"/>
            <a:ext cx="884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9:18:19Z</dcterms:created>
  <dc:creator>Floor</dc:creator>
  <dc:description/>
  <dc:language>en-US</dc:language>
  <cp:lastModifiedBy>Krista Harte</cp:lastModifiedBy>
  <dcterms:modified xsi:type="dcterms:W3CDTF">2015-01-10T10:59:10Z</dcterms:modified>
  <cp:revision>17</cp:revision>
  <dc:subject/>
  <dc:title>De economie in de gouden eeuw</dc:title>
</cp:coreProperties>
</file>