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3FE-6169-4A7E-8EF9-A0E18130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E5C-DE8B-4FDB-A6B0-1ED1BB88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EDC-C277-4BDB-8CFD-01EC57E3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51F-4C9E-49A8-9624-2AF60735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4856-A48A-474A-8E56-E359A2FF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2EE9-6017-44A6-A909-71C520BD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6825-67EC-4A8A-B4A6-99906CE2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68E6-2711-44A6-8C84-66DC164F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D8E4-4DBB-4F5F-AA10-864D37BF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FCCA-90EC-4DD4-B6F3-B6D91C65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1777-D457-41A8-A249-2298F860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B65-D366-4D80-8F6F-E871284F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2D54-145C-450D-9A9B-61D347EE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16B1-DB41-4B89-9DC9-C60188EC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C34C-FAA4-478C-93E8-2EE717D6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F9BC-78AA-4075-ACBD-6584F662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0AA3-14E0-47B9-B105-B760CAD6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57354-0B12-4FD3-AAF5-24FB17EB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87441-F8CA-4F42-8092-7FEF6ED1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9BF2D-28D0-4C76-9DEB-B6F845EA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EC67C-F7F4-4974-9E2C-6D594A3F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2F7C5-E579-4614-9693-11F1831F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2F4-0282-4769-A75C-CD61B0EB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CEEF9-F833-40F0-B3BA-C60A0135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F61D8-DD5A-454A-AE3D-FD89CAE6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4639B-00D3-40C2-ABFF-2D4B3868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73A0F-0121-4D77-8E85-328582ED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3AB1C-FE35-4F14-9AF8-4EC89030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BF25E-6C01-4DE0-8B7F-D9D44CDB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15D15-0548-4800-AABF-903A3D75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2AF9D-1215-4464-A510-9DBEAEC2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EB373-5F34-4227-9BC7-C8976C87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8F235B-C729-49E0-9CE1-1CB1A549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EE4-0AE0-41CC-8B9C-19D1D18C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9FB963-A539-43AE-B39D-9FF98EBB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84B200-69A9-421F-AE09-2C164B69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D5A258-7B0E-45DB-A8C4-8ED85351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FC197A-C858-40F8-9C1C-24EE617F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EC3F3D-41AA-4B6F-B613-6BD12A59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CD2A2-AA64-460C-9E0D-DC2719F1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FBD63-17F1-448C-A963-8D451D22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800CFD-C48D-41EC-BCFE-25579330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DC64A-EFD8-4A2C-8C81-6092CFA1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11F5A-8EA2-442D-B425-97695609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56B-224D-4842-A228-AEB4F0D3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F10B4-636F-4988-826B-4C0BECD9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5B489C-A6D1-474D-9220-762B3A6C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3F1C2-56D0-4E9C-8A52-06C1612D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F46E5-6DCA-4D28-B049-D9D47CE2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191F6-F989-428B-845C-3E722D8D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95F01-271C-4AFF-A9D6-62AC9F1E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6498E-2200-4FD5-AE53-4E3D1578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20C93-C266-4485-949F-44413F72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9B9FA-BE70-4A3E-8244-D422226B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68224-2351-4658-A7CF-1D933634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EB6-CD82-4CC3-9E36-7F61C8B6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C1D71C-D4B1-43D1-B2BD-98C48C41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EE597-1B7E-4797-8B7C-DA7CEFC7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13D81-B7C3-48BA-BC23-483D7A35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A53A4-F11E-48B9-A0C0-59D7E605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10331-1A42-4432-B0B4-951DFF11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E220C-B108-497E-97FE-9928C82A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F4281-DF0C-40FB-B08A-EBEE1AAD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59EC8-7E2C-4649-9EFA-00932049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3B266-F0AE-4F5F-ADF0-0F1036E5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0C89B-8594-46E8-B785-630EC9E0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230D-D6EE-425A-B372-1F57A89A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D0FE3-1F2F-4C43-BEF6-D6926D15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2475F-4C1B-43F0-8E59-4B746222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6BC4D-0904-42C3-A801-C09E452C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EACFA-7320-4922-804C-1DFFD77B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B16EBF-B773-4344-A334-6264F145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86A16E-830A-45B4-A2B0-FA3577C2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FEEDE-A119-4CC1-A10A-4C26D066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E00360-E965-49E6-A9FC-B28B3EA9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36636C-056A-4C1A-BB5A-3877E3EB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24460-B0E6-4093-8351-B1CC79BC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CE7-E778-4171-A499-6C5EE4D8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AB7EB3-CB39-4B55-9F7A-12285B0F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749C8-C52A-4032-8174-EF50ACAC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FD3251-15CA-4E67-90D8-4B19B2C0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3FF547-BF51-4A02-954A-9F39383B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215C40-374E-4E5C-B9AF-933994F9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D5BF2-0ABA-4CC0-AA62-95CAA943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326BE-3CDC-4FB5-B645-00D767C0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DA1ED-C931-4727-9FD8-DB3EB97B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1EA58-EE82-40BF-9A47-EB19645A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76BB1-9F05-43A6-8578-5074DF94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61F-8568-4BC6-B399-54B91117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45A8C-CC80-415A-9C7F-FBAB3F9A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C733A-76D7-4767-A8DF-D484F70B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44557-D331-4C7B-ABAD-C454ACB4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82011-7AFA-41C1-BA1D-1C5B077A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C1212-F3BC-4B9B-B5F7-418A4AF0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B304A-6F57-47D5-B8C3-8ECFE393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9489D-7829-4C9A-B0E5-C1CCB90C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03DA-A75B-4264-8899-D5C06BD32DAD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B66A-AECD-4E74-AB75-AADADB77F928}" type="slidenum">
              <a:rPr b="1" lang="nl-N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208E-6B63-4393-A97B-3466CF00BDAE}" type="slidenum">
              <a:rPr b="1" lang="nl-N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6CC6-50F3-477C-B020-5ABDFA5C704A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7BE7-1765-4A0B-9BEE-9ACB89C84381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A6E4-3051-4F19-BD58-34A46F03EC7D}" type="slidenum">
              <a:rPr b="1" lang="nl-N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677F-86B5-4E03-9A89-0DCB23929904}" type="slidenum">
              <a:rPr b="1" lang="nl-N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247F-387C-46FA-AAB9-3D099290BF94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anonvanamsterdam.nl/venster/wisselbank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nonvanamsterdam.nl/venster/voc-1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4214880" cy="2428920"/>
          </a:xfrm>
          <a:prstGeom prst="rect">
            <a:avLst/>
          </a:prstGeom>
          <a:noFill/>
          <a:ln w="28440">
            <a:solidFill>
              <a:srgbClr val="dd8047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ebddc3"/>
                </a:solidFill>
                <a:latin typeface="Tw Cen MT"/>
              </a:rPr>
              <a:t>DE ECONOMIE</a:t>
            </a:r>
            <a:br>
              <a:rPr sz="4800"/>
            </a:br>
            <a:r>
              <a:rPr b="0" lang="nl-NL" sz="4800" spc="-1" strike="noStrike">
                <a:solidFill>
                  <a:srgbClr val="ebddc3"/>
                </a:solidFill>
                <a:latin typeface="Tw Cen MT"/>
              </a:rPr>
              <a:t>IN DE </a:t>
            </a:r>
            <a:br>
              <a:rPr sz="4800"/>
            </a:br>
            <a:r>
              <a:rPr b="0" lang="nl-NL" sz="4800" spc="-1" strike="noStrike">
                <a:solidFill>
                  <a:srgbClr val="ebddc3"/>
                </a:solidFill>
                <a:latin typeface="Tw Cen MT"/>
              </a:rPr>
              <a:t>GOUDEN EEUW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ffffff"/>
                </a:solidFill>
                <a:latin typeface="Tw Cen MT"/>
              </a:rPr>
              <a:t>Aantekeninge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4929120" y="785880"/>
            <a:ext cx="39290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pdrachten Bij Nederland in de Gouden Eeuw (GWP H3 en H4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12720" y="1773360"/>
          <a:ext cx="8153280" cy="3973320"/>
        </p:xfrm>
        <a:graphic>
          <a:graphicData uri="http://schemas.openxmlformats.org/drawingml/2006/table">
            <a:tbl>
              <a:tblPr/>
              <a:tblGrid>
                <a:gridCol w="2517840"/>
                <a:gridCol w="3157560"/>
                <a:gridCol w="2477880"/>
              </a:tblGrid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d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ebo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rkbo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graaf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Z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dracht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-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-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-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 3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-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-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 3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2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drach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-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-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2, 3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Les 1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1 Centrum van de wereldhande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Van de handel in de Oostzee naar de uithoeken van Europa en andere contin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2 De organisatie van de hande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Over het succes van Amsterdamse wisselbank en beurs, over de VOC en de WIC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Les 2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3 Bloeiende nijverheid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Oorzaken voor het succes van de nijverheid in de Republi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4 Het platteland in de Gouden Eeuw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Over de bloei van de landbouw in 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st-Nederland</a:t>
            </a: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 en het ontstaan van plattelandsnijverhei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1centrum van de wereldhan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0000"/>
                </a:solidFill>
                <a:uFillTx/>
                <a:latin typeface="Tw Cen MT"/>
              </a:rPr>
              <a:t>A. Handel in Europ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Oostzeehandel = ‘</a:t>
            </a:r>
            <a:r>
              <a:rPr b="1" lang="nl-NL" sz="2900" spc="-1" strike="noStrike">
                <a:solidFill>
                  <a:srgbClr val="000000"/>
                </a:solidFill>
                <a:latin typeface="Tw Cen MT"/>
              </a:rPr>
              <a:t>moedernegotie</a:t>
            </a: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’, basis van alle overzeese activiteit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Hoogtepunt tijdens Twaalfjarig bestand met Spanje (1609-1621).</a:t>
            </a:r>
            <a:r>
              <a:rPr b="0" i="1" lang="nl-NL" sz="2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59364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Tw Cen MT"/>
              </a:rPr>
              <a:t>Ondanks Tachtigjarige Oorlog blijft Spanje handel drijven met de Republiek ivm voedseltekorten / Republiek afhankelijk van Spaans zilv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Uitbreiding van de handel naar uithoeken van Europa: Rusland, Zweden (walvisvaart), Middellandse Zee, Levant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521080" y="404640"/>
            <a:ext cx="5765760" cy="61693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775f55"/>
                </a:solidFill>
                <a:latin typeface="Tw Cen MT"/>
              </a:rPr>
              <a:t>Amsterdam: stapelmarkt van Europ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Tijdelijke aanduiding voor tekst 9"/>
          <p:cNvSpPr/>
          <p:nvPr/>
        </p:nvSpPr>
        <p:spPr>
          <a:xfrm>
            <a:off x="179280" y="1052640"/>
            <a:ext cx="2305080" cy="208908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82880" bIns="91440" anchor="t">
            <a:noAutofit/>
          </a:bodyPr>
          <a:p>
            <a:pPr lvl="1"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Handelsknooppunt tussen Noord- en Zuid-Eur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(Oostzee – Middellandse Z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 u="sng">
                <a:solidFill>
                  <a:srgbClr val="000000"/>
                </a:solidFill>
                <a:uFillTx/>
                <a:latin typeface="Tw Cen MT"/>
              </a:rPr>
              <a:t>B. Handel buiten Europ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Portugezen bezaten het monopolie op specerijenhandel met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Oost-Azië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  =&gt; vraag &gt; aanbod =&gt; eigen weg naar Indië (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Eerste Scheepvaart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, 1595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Handel met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Afrikaanse westkust 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(va. 1598) in slaven, goud en ivoo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Oversteek naar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Latijns-Amerika 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om slaven op plantages te werk te stelle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import van tabak uit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Noord-Amerika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Verandering van handel in 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bulkgoederen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 naar 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luxegoedere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2 De organisatie van de han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28400" y="1642680"/>
            <a:ext cx="5530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Tw Cen MT"/>
              </a:rPr>
              <a:t>Banken en beurze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Amsterdamse </a:t>
            </a:r>
            <a:r>
              <a:rPr b="1" lang="nl-NL" sz="2700" spc="-1" strike="noStrike">
                <a:solidFill>
                  <a:srgbClr val="000000"/>
                </a:solidFill>
                <a:latin typeface="Tw Cen MT"/>
              </a:rPr>
              <a:t>wisselbank</a:t>
            </a: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 (1609): kooplieden konden geld in bewaring geven, wisselen en overboeke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bank van </a:t>
            </a:r>
            <a:r>
              <a:rPr b="1" lang="nl-NL" sz="2700" spc="-1" strike="noStrike">
                <a:solidFill>
                  <a:srgbClr val="000000"/>
                </a:solidFill>
                <a:latin typeface="Tw Cen MT"/>
              </a:rPr>
              <a:t>lening</a:t>
            </a: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 (1614) t.b.v. investeerd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Amsterdamse </a:t>
            </a:r>
            <a:r>
              <a:rPr b="1" lang="nl-NL" sz="2700" spc="-1" strike="noStrike">
                <a:solidFill>
                  <a:srgbClr val="000000"/>
                </a:solidFill>
                <a:latin typeface="Tw Cen MT"/>
              </a:rPr>
              <a:t>beurs </a:t>
            </a: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(1611): handel in producten en VOC-aandelen, afsluiten van verzekeringen en vervoerscontracte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Clip ‘Wisselbank 1609’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2"/>
          <a:stretch/>
        </p:blipFill>
        <p:spPr>
          <a:xfrm>
            <a:off x="6143760" y="178596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3"/>
          <a:stretch/>
        </p:blipFill>
        <p:spPr>
          <a:xfrm>
            <a:off x="6143760" y="4214880"/>
            <a:ext cx="2857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12360" y="1600200"/>
            <a:ext cx="8317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 u="sng">
                <a:solidFill>
                  <a:srgbClr val="000000"/>
                </a:solidFill>
                <a:uFillTx/>
                <a:latin typeface="Tw Cen MT"/>
              </a:rPr>
              <a:t>De Verenigde Oost-Indische Compagni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Handel op Indië in handen van 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voorcompagnie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ë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n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: groepen kooplieden die gezamenlijk expedities organiseren en winst dele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adelige gevolgen: onderlinge concurrentie, dalende prijz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Oprichting VOC (1602) in opdracht van Staten-Genera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onopolie op Nederlandse handel in Azië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startkapitaal bijeengebracht door uitgifte van aandel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gaande bevoegdheden t.b.v. handel: oorlogvoeren, verdragen sluiten met vorsten, forten bouwen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et geweld worden Portugezen + Engelsen verdreven, Batavia gesticht en Molukkers gedwongen om specerijen exclusief aan de VOC te lever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C sticht factorijen (handelsposten) en neemt deel aan inter-Aziatische handel 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clip ‘VOC 1602’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6416640" y="142920"/>
            <a:ext cx="23097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71320" y="1571760"/>
            <a:ext cx="8429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Tw Cen MT"/>
              </a:rPr>
              <a:t>West-Indische Compagnie (1621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Opgericht na beëindiging Twaalfjarig Bestand (1609-21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000000"/>
                </a:solidFill>
                <a:latin typeface="Tw Cen MT"/>
              </a:rPr>
              <a:t>Oorlog tussen de Republiek en Spanje laait opnieuw op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Doelen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Spanje economisch treffen d.m.v. </a:t>
            </a:r>
            <a:r>
              <a:rPr b="1" lang="nl-NL" sz="2600" spc="-1" strike="noStrike">
                <a:solidFill>
                  <a:srgbClr val="000000"/>
                </a:solidFill>
                <a:latin typeface="Tw Cen MT"/>
              </a:rPr>
              <a:t>kaapvaart</a:t>
            </a: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 (veroveren van zilvervloot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Veroveren van gebieden / stichten kolonies t.b.v. opzetten suiker- en tabaksplantages (productie in eigen beheer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Na Vrede van Munster (1648) legt de WIC zich toe op de </a:t>
            </a:r>
            <a:r>
              <a:rPr b="1" lang="nl-NL" sz="2600" spc="-1" strike="noStrike">
                <a:solidFill>
                  <a:srgbClr val="000000"/>
                </a:solidFill>
                <a:latin typeface="Tw Cen MT"/>
              </a:rPr>
              <a:t>driehoekshandel </a:t>
            </a: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tussen Europa, West-Afrika en Amerik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000000"/>
                </a:solidFill>
                <a:latin typeface="Tw Cen MT"/>
              </a:rPr>
              <a:t>hevige concurrentie + hoge militaire kosten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7000920" y="214200"/>
            <a:ext cx="17733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79280" y="-100080"/>
            <a:ext cx="884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9:18:19Z</dcterms:created>
  <dc:creator>Floor</dc:creator>
  <dc:description/>
  <dc:language>en-US</dc:language>
  <cp:lastModifiedBy>Krista Harte</cp:lastModifiedBy>
  <dcterms:modified xsi:type="dcterms:W3CDTF">2015-01-10T10:59:10Z</dcterms:modified>
  <cp:revision>17</cp:revision>
  <dc:subject/>
  <dc:title>De economie in de gouden eeuw</dc:title>
</cp:coreProperties>
</file>