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5B26-F74A-45BF-A3DC-18EE95A0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556-7496-408C-ADE9-2DCC021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EE5-905C-4BD9-8D3F-108108F7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AD2-379F-4DD8-8241-F993970A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37C-3D5F-4420-9733-DDDC5A77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0F21-54D2-44CB-B330-76684F23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BA00-525A-4654-8E44-BC6DD3A8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000-C2A6-4625-BC62-E430D8B6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39AE-CEE7-44D5-BA3F-6B27D2B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3837-7A42-433B-8227-F4AD2D5F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907F-A06F-4566-80B8-C2C1B82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C8C-8CD6-4FD9-ABEB-413F8E2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369-46FC-4F54-AC94-8C0FFBD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18C1-FAC7-4A59-ADA6-CC88DB7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8947-10DC-459B-9534-009B884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B6D7-D167-4061-9E84-0256BB81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A8F1-69A9-4CE4-9DCD-59EA08E2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9CCEF-AD42-4563-AC47-8D7803BB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D503E-6A7C-47F3-A320-1B151EB0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8C9FD-FD8B-4282-894F-C98E084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AC220D-EC85-404E-BA06-2E694057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673F3-BB1C-4B4F-8B75-D7A2B3A5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AED-1A90-4309-A00A-0DDDE625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0ED4F-DC78-4219-8B0D-6F688BFC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2E4F1-1608-4AEE-9655-27DBFC97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15F8F5-9258-4C71-9E6E-8CD9552C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B624C-2B79-45A6-8DBF-CC560F7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7003E-A72B-47AE-BE58-3E819F3C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90030-9360-4E48-BB1E-087870EC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69FC9-F5B6-46EE-AFAB-BA602F9C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CFF5C3-731D-471A-8728-329DCBFD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662B9-4C4C-47B1-A98C-774499A5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247AE-E354-4FB9-AF94-EB220943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B18-7230-409A-81BC-A8028CF8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402AB-8CBE-4EA5-BD4B-5666786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BA8A0-2A4A-4F12-A29B-D3ADFA3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E81AF-6FFB-4568-B1D5-62D2060A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788FF-DFC9-44F4-ACFC-53B8999D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E49ED-902F-4087-8202-554D897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AD1D7-EF70-4A78-A1A7-28FBEE64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481F43-1064-47EE-8A80-6A5A231C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2792E-0833-4B89-8D6F-6D0BD17D3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C312B-8216-466F-9C8A-B78D86A0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19B47-DA22-4FDA-9ECE-EADE0117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36CF-704C-415B-84D4-B581672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A09A7-B880-4F59-AD46-2A9EC490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70005-D058-4BDF-B12B-68219061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53407-5525-4B8D-807E-B9DCC7B7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14A8A-2DE3-47B2-9996-673A5C3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B305F3-3339-48AA-914C-03D51919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C0FE7-2F61-454A-B2CE-D1B86F17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C3B80-D91F-46B9-9708-51FA89F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136E9-8CDA-40AB-8823-D2AC3A7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7012E-A937-4A51-88AB-1D22F828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A1C53-F4B9-47DC-81A7-5A868EC8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DBB-BA0F-4C32-8699-1E72756D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73513-086C-40DD-BC4D-CCF3E9E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1B919-16AB-4B6F-9B99-C959403C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3BA47-A6C2-48C6-8176-2238CE8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7BF94-C565-4A26-BB16-7870BE9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836B1-3C3C-4EA4-B3BD-737D2CCB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4D0D-A6E6-41B9-9CB0-4E98445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37DF1-8DD2-45E2-ABF7-6F06415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A35B-3BDA-43F8-BFAE-AFB78A9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5CFA-EAA0-4ACA-9E58-48DB757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D212-6F5B-4AC9-87D6-49A9DB6D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3EB2-236B-4598-8DEF-4EE98178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D3C07-92D7-4A60-AC49-2C6B4081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9A23-FEB9-4357-95D9-551B2975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EF677-7950-428F-8EB1-6F53916C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892AAA-29B5-4D6E-9F6E-BE1030BB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82C64-AAE8-43A6-9045-F5E03FB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536F6-CE51-44C4-9889-6869444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7B735-7585-448A-8906-4C620D2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49127-A195-44AC-9D5C-65DC9FFC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993CE-FD85-4066-B741-12D092C7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7E6873-2D92-4419-89A6-B8ED68E7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696B-C330-42F7-ACB4-71F5283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81FEC0-0B1B-4C00-982D-771F186D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079AB-DAA2-43DE-B802-420EF806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4DF21-4C4F-4BDB-9435-425F701F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96C265-6D0E-42A9-8BF2-EA2BBB68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480EF-322A-435F-9C44-2C8A32D2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BF07C-4F5A-432B-A006-419E2176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7A3CE-98D0-48C6-B2E9-4758EE98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06B61-2D75-405A-BD88-D92294C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45EB-5633-4FBF-81D6-B5597C89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7556-4499-4F4E-883D-9D7C672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A15D-31FA-4534-ACA2-DD7361FB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F945-0E60-44C7-87AD-71430DF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398D8-3D54-4244-9524-9DA3CC5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F8A2F-AADF-4E58-9F65-D1FAC4F1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3EF4A-9AEA-4650-8432-A0E22A83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F2C1-C3CE-40CE-BFAD-45780629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8A03F-A61E-4A18-A295-5C137F04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0DF94-1AFD-41CD-AD41-1F9BA434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8931-C67F-4439-81C3-84D7E86457C8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5A54-A22A-458A-A48F-8CE534AE9785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F32C-1971-4D98-A861-9663F81F609E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DC37-B49D-495C-BB86-9764A6F40218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8AC9-68B4-40CA-B574-FB0EED98D6C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1B86-8A34-4334-8AF6-5C6293598F16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73A-5CCF-4A5F-AD09-9F79E375FAD2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FF8-759E-4BC8-926C-17B895B9922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wisselbank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anonvanamsterdam.nl/venster/voc-1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4214880" cy="2428920"/>
          </a:xfrm>
          <a:prstGeom prst="rect">
            <a:avLst/>
          </a:prstGeom>
          <a:noFill/>
          <a:ln w="28440">
            <a:solidFill>
              <a:srgbClr val="dd8047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DE ECONOMIE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IN DE </a:t>
            </a:r>
            <a:br>
              <a:rPr sz="4800"/>
            </a:br>
            <a:r>
              <a:rPr b="0" lang="nl-NL" sz="4800" spc="-1" strike="noStrike">
                <a:solidFill>
                  <a:srgbClr val="ebddc3"/>
                </a:solidFill>
                <a:latin typeface="Tw Cen MT"/>
              </a:rPr>
              <a:t>GOUDEN EEUW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Aantekeningen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929120" y="785880"/>
            <a:ext cx="39290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pdrachten Bij Nederland in de Gouden Eeuw (GWP H3 en H4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12720" y="1773360"/>
          <a:ext cx="8153280" cy="3973320"/>
        </p:xfrm>
        <a:graphic>
          <a:graphicData uri="http://schemas.openxmlformats.org/drawingml/2006/table">
            <a:tbl>
              <a:tblPr/>
              <a:tblGrid>
                <a:gridCol w="2517840"/>
                <a:gridCol w="3157560"/>
                <a:gridCol w="2477880"/>
              </a:tblGrid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der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e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rkbo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graaf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Z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-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-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-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-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 3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drac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-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284040"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-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11520" rIns="1152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 2, 3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520" marR="11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1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1 Centrum van de wereld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Van de handel in de Oostzee naar de uithoeken van Europa en andere contin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2 De organisatie van de hande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het succes van Amsterdamse wisselbank en beurs, over de VOC en de WIC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es 2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3 Bloeiende nijverheid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orzaken voor het succes van de nijverheid in de Republi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4 Het platteland in de Gouden Eeuw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Over de bloei van de landbouw in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st-Nederland</a:t>
            </a:r>
            <a:r>
              <a:rPr b="0" i="1" lang="nl-NL" sz="2000" spc="-1" strike="noStrike">
                <a:solidFill>
                  <a:srgbClr val="000000"/>
                </a:solidFill>
                <a:latin typeface="Tw Cen MT"/>
              </a:rPr>
              <a:t> en het ontstaan van plattelandsnijverhei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1centrum van de wereld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 u="sng">
                <a:solidFill>
                  <a:srgbClr val="000000"/>
                </a:solidFill>
                <a:uFillTx/>
                <a:latin typeface="Tw Cen MT"/>
              </a:rPr>
              <a:t>A. Handel in Europ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Oostzeehandel = ‘</a:t>
            </a:r>
            <a:r>
              <a:rPr b="1" lang="nl-NL" sz="2900" spc="-1" strike="noStrike">
                <a:solidFill>
                  <a:srgbClr val="000000"/>
                </a:solidFill>
                <a:latin typeface="Tw Cen MT"/>
              </a:rPr>
              <a:t>moedernegotie</a:t>
            </a: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’, basis van alle overzeese activiteit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Hoogtepunt tijdens Twaalfjarig bestand met Spanje (1609-1621).</a:t>
            </a: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59364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000000"/>
                </a:solidFill>
                <a:latin typeface="Tw Cen MT"/>
              </a:rPr>
              <a:t>Ondanks Tachtigjarige Oorlog blijft Spanje handel drijven met de Republiek ivm voedseltekorten / Republiek afhankelijk van Spaans zilv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Uitbreiding van de handel naar uithoeken van Europa: Rusland, Zweden (walvisvaart), Middellandse Zee, Levant, et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2521080" y="404640"/>
            <a:ext cx="5765760" cy="616932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775f55"/>
                </a:solidFill>
                <a:latin typeface="Tw Cen MT"/>
              </a:rPr>
              <a:t>Amsterdam: stapelmarkt van Europ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ijdelijke aanduiding voor tekst 9"/>
          <p:cNvSpPr/>
          <p:nvPr/>
        </p:nvSpPr>
        <p:spPr>
          <a:xfrm>
            <a:off x="179280" y="1052640"/>
            <a:ext cx="2305080" cy="20890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82880" bIns="91440" anchor="t">
            <a:noAutofit/>
          </a:bodyPr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andelsknooppunt tussen Noord- en Zuid-Eu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(Oostzee – Middellandse Z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B. Handel buiten Europa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Portugezen bezaten het monopolie op specerijen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Oost-Azië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 =&gt; vraag &gt; aanbod =&gt; eigen weg naar Indië (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Eerste Scheepvaart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, 1595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me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Afrikaanse westkust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(va. 1598) in slaven, goud en ivoo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versteek naar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Latijns-Amerika 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m slaven op plantages te werk te stel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import van tabak uit </a:t>
            </a: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Noord-Amerik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Verandering van handel i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bulkgoedere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 naar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luxegoeder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2 De organisatie van de hande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8400" y="1642680"/>
            <a:ext cx="5530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Tw Cen MT"/>
              </a:rPr>
              <a:t>Banken en beurze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wisselbank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09): kooplieden konden geld in bewaring geven, wisselen en overboek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bank van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lening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 (1614) t.b.v. investeerd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Amsterdamse </a:t>
            </a:r>
            <a:r>
              <a:rPr b="1" lang="nl-NL" sz="2700" spc="-1" strike="noStrike">
                <a:solidFill>
                  <a:srgbClr val="000000"/>
                </a:solidFill>
                <a:latin typeface="Tw Cen MT"/>
              </a:rPr>
              <a:t>beurs </a:t>
            </a:r>
            <a:r>
              <a:rPr b="0" lang="nl-NL" sz="2700" spc="-1" strike="noStrike">
                <a:solidFill>
                  <a:srgbClr val="000000"/>
                </a:solidFill>
                <a:latin typeface="Tw Cen MT"/>
              </a:rPr>
              <a:t>(1611): handel in producten en VOC-aandelen, afsluiten van verzekeringen en vervoerscontracte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Wisselbank 1609’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6143760" y="1785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3"/>
          <a:stretch/>
        </p:blipFill>
        <p:spPr>
          <a:xfrm>
            <a:off x="6143760" y="4214880"/>
            <a:ext cx="2857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12360" y="1600200"/>
            <a:ext cx="8317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 u="sng">
                <a:solidFill>
                  <a:srgbClr val="000000"/>
                </a:solidFill>
                <a:uFillTx/>
                <a:latin typeface="Tw Cen MT"/>
              </a:rPr>
              <a:t>De Verenigde Oost-Indische Compagni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Handel op Indië in handen van 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voorcompagnie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ë</a:t>
            </a:r>
            <a:r>
              <a:rPr b="0" i="1" lang="nl-NL" sz="2500" spc="-1" strike="noStrike">
                <a:solidFill>
                  <a:srgbClr val="000000"/>
                </a:solidFill>
                <a:latin typeface="Tw Cen MT"/>
              </a:rPr>
              <a:t>n</a:t>
            </a: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: groepen kooplieden die gezamenlijk expedities organiseren en winst dele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adelige gevolgen: onderlinge concurrentie, dalende prijz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w Cen MT"/>
              </a:rPr>
              <a:t>Oprichting VOC (1602) in opdracht van Staten-Generaal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onopolie op Nederlandse handel in Azië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startkapitaal bijeengebracht door uitgifte van aande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gaande bevoegdheden t.b.v. handel: oorlogvoeren, verdragen sluiten met vorsten, forten bouwen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et geweld worden Portugezen + Engelsen verdreven, Batavia gesticht en Molukkers gedwongen om specerijen exclusief aan de VOC te lever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68680" indent="-217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C sticht factorijen (handelsposten) en neemt deel aan inter-Aziatische handel 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clip ‘VOC 1602’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2"/>
          <a:stretch/>
        </p:blipFill>
        <p:spPr>
          <a:xfrm>
            <a:off x="6416640" y="142920"/>
            <a:ext cx="23097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71320" y="1571760"/>
            <a:ext cx="8429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Tw Cen MT"/>
              </a:rPr>
              <a:t>West-Indische Compagnie (16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Opgericht na beëindiging Twaalfjarig Bestand (1609-21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Oorlog tussen de Republiek en Spanje laait opnieuw op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Doelen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Spanje economisch treffen d.m.v.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kaapvaart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 (veroveren van zilvervloot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Veroveren van gebieden / stichten kolonies t.b.v. opzetten suiker- en tabaksplantages (productie in eigen behee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Na Vrede van Munster (1648) legt de WIC zich toe op de </a:t>
            </a:r>
            <a:r>
              <a:rPr b="1" lang="nl-NL" sz="2600" spc="-1" strike="noStrike">
                <a:solidFill>
                  <a:srgbClr val="000000"/>
                </a:solidFill>
                <a:latin typeface="Tw Cen MT"/>
              </a:rPr>
              <a:t>driehoekshandel </a:t>
            </a:r>
            <a:r>
              <a:rPr b="0" lang="nl-NL" sz="2600" spc="-1" strike="noStrike">
                <a:solidFill>
                  <a:srgbClr val="000000"/>
                </a:solidFill>
                <a:latin typeface="Tw Cen MT"/>
              </a:rPr>
              <a:t>tussen Europa, West-Afrika en Ameri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Tw Cen MT"/>
              </a:rPr>
              <a:t>hevige concurrentie + hoge militaire koste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7000920" y="214200"/>
            <a:ext cx="177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79280" y="-100080"/>
            <a:ext cx="884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9:18:19Z</dcterms:created>
  <dc:creator>Floor</dc:creator>
  <dc:description/>
  <dc:language>en-US</dc:language>
  <cp:lastModifiedBy>Krista Harte</cp:lastModifiedBy>
  <dcterms:modified xsi:type="dcterms:W3CDTF">2015-01-10T10:59:10Z</dcterms:modified>
  <cp:revision>17</cp:revision>
  <dc:subject/>
  <dc:title>De economie in de gouden eeuw</dc:title>
</cp:coreProperties>
</file>