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42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D6E3-41E5-4C75-A213-CB418FC4455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2F3E-5FF2-444F-B381-E9C504BB2CC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ADA-66BE-417D-8B46-8DDF1B14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85B-98AF-451F-B9AF-E5156D17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643-2860-4485-B4C4-59EBD526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B89-7D4E-4542-8763-97A03E40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36FD-206F-4771-8677-10BA507A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FE24-3230-4133-9582-7991E5FF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13E1-96E6-48CD-AC0F-8C4B4E0D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51C2-C165-4655-8DF5-DAA809EF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B54B-A6DC-4161-BB38-BFC1FC23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DB88-EE54-4381-B07D-6767DACC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EEBF-EDC5-4DAA-9100-E9437536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AA3A-A169-4F62-85F1-5F8D0563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429D-C67F-4A87-9816-5A3A7678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0BF0-735B-4958-9049-C2C85B97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F2DF-5DF3-4DA4-9B93-3ACF51F0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1B7B-E965-4286-9F7B-F266236E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69F3-493A-415E-ADE5-3966571E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00B-CDA3-425B-83D4-BCC8910A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9BA-62DF-4D5C-99F4-F9A4807B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D2A4-FF66-46B6-B2ED-03B59D6B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498-82D4-4CD1-8754-284CBB31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60B1-3FD2-4EC8-A856-72B2CB90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686-A64E-4221-8824-34DB2F0E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BDD-C68C-4316-8732-2ACF48B2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8B7F-E2B9-4D9A-B9A7-E28B3304BB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D6EC-3463-4065-878F-A53419ABAEE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5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outube.com/watch?v=ob3fUlIOEi0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youtube.com/watch?v=ob3fUlIOEi0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age002"/>
          <p:cNvPicPr/>
          <p:nvPr/>
        </p:nvPicPr>
        <p:blipFill>
          <a:blip r:embed="rId1"/>
          <a:stretch/>
        </p:blipFill>
        <p:spPr>
          <a:xfrm>
            <a:off x="2771640" y="1227240"/>
            <a:ext cx="3240360" cy="3765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87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3 De Tweede Wereldoorlo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58920" y="5157720"/>
            <a:ext cx="64008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ofdvraag: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oe kreeg Hitler grote delen van Europa in zijn greep en welke oorzaken en gevolgen had da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919 oprichting Duitse Arbeiderspartij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75564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HitlerMemberCard555-1920"/>
          <p:cNvPicPr/>
          <p:nvPr/>
        </p:nvPicPr>
        <p:blipFill>
          <a:blip r:embed="rId1"/>
          <a:stretch/>
        </p:blipFill>
        <p:spPr>
          <a:xfrm>
            <a:off x="468360" y="1341360"/>
            <a:ext cx="6119640" cy="401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itler30"/>
          <p:cNvPicPr/>
          <p:nvPr/>
        </p:nvPicPr>
        <p:blipFill>
          <a:blip r:embed="rId2"/>
          <a:stretch/>
        </p:blipFill>
        <p:spPr>
          <a:xfrm>
            <a:off x="4716360" y="2852640"/>
            <a:ext cx="4114800" cy="3362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395280" y="558972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tler werd al snel partijleider van de NDSAP, zoals de partij zich ging noemen, met een eigen partijleger, Sturmabteilung (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6" descr="arends%2013"/>
          <p:cNvPicPr/>
          <p:nvPr/>
        </p:nvPicPr>
        <p:blipFill>
          <a:blip r:embed="rId3"/>
          <a:stretch/>
        </p:blipFill>
        <p:spPr>
          <a:xfrm>
            <a:off x="4524480" y="765000"/>
            <a:ext cx="41940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article_ruhr%201923(1)"/>
          <p:cNvPicPr/>
          <p:nvPr/>
        </p:nvPicPr>
        <p:blipFill>
          <a:blip r:embed="rId1"/>
          <a:stretch/>
        </p:blipFill>
        <p:spPr>
          <a:xfrm>
            <a:off x="3905280" y="620640"/>
            <a:ext cx="5238720" cy="3009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uy001belg01ill17"/>
          <p:cNvPicPr/>
          <p:nvPr/>
        </p:nvPicPr>
        <p:blipFill>
          <a:blip r:embed="rId2"/>
          <a:stretch/>
        </p:blipFill>
        <p:spPr>
          <a:xfrm>
            <a:off x="250920" y="2349360"/>
            <a:ext cx="4476600" cy="3019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50920" y="549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3; Duitsland blijft achter met herstelbetalingen aan Frankrijk en Belg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824360" y="400536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nse en Belgische troepen bezetten Ruhrgeb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2" descr="ruhr"/>
          <p:cNvPicPr/>
          <p:nvPr/>
        </p:nvPicPr>
        <p:blipFill>
          <a:blip r:embed="rId3"/>
          <a:stretch/>
        </p:blipFill>
        <p:spPr>
          <a:xfrm>
            <a:off x="468360" y="1743120"/>
            <a:ext cx="3448080" cy="5114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3"/>
          <p:cNvSpPr/>
          <p:nvPr/>
        </p:nvSpPr>
        <p:spPr>
          <a:xfrm>
            <a:off x="3995640" y="566100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itse regering roept op tot algemene staking en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Hyperinflation-1923"/>
          <p:cNvPicPr/>
          <p:nvPr/>
        </p:nvPicPr>
        <p:blipFill>
          <a:blip r:embed="rId1"/>
          <a:stretch/>
        </p:blipFill>
        <p:spPr>
          <a:xfrm>
            <a:off x="179280" y="1159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3564000" y="836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kt geld b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WiemarRepublic_September_01_1923_50MillionMark"/>
          <p:cNvPicPr/>
          <p:nvPr/>
        </p:nvPicPr>
        <p:blipFill>
          <a:blip r:embed="rId2"/>
          <a:stretch/>
        </p:blipFill>
        <p:spPr>
          <a:xfrm>
            <a:off x="4211640" y="2133720"/>
            <a:ext cx="4510080" cy="3004920"/>
          </a:xfrm>
          <a:prstGeom prst="rect">
            <a:avLst/>
          </a:prstGeom>
          <a:ln w="0">
            <a:noFill/>
          </a:ln>
        </p:spPr>
      </p:pic>
      <p:sp>
        <p:nvSpPr>
          <p:cNvPr id="151" name="Line 11"/>
          <p:cNvSpPr/>
          <p:nvPr/>
        </p:nvSpPr>
        <p:spPr>
          <a:xfrm>
            <a:off x="4788000" y="1413000"/>
            <a:ext cx="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284720" y="227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Hyperinf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3" descr="hyperinflatie"/>
          <p:cNvPicPr/>
          <p:nvPr/>
        </p:nvPicPr>
        <p:blipFill>
          <a:blip r:embed="rId3"/>
          <a:stretch/>
        </p:blipFill>
        <p:spPr>
          <a:xfrm>
            <a:off x="1042920" y="3716280"/>
            <a:ext cx="62280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undesarchiv_Bild_119-1486%2C_Hitler-Putsch%2C_M%C3%BCnchen%2C_Marienplatz"/>
          <p:cNvPicPr/>
          <p:nvPr/>
        </p:nvPicPr>
        <p:blipFill>
          <a:blip r:embed="rId1"/>
          <a:stretch/>
        </p:blipFill>
        <p:spPr>
          <a:xfrm>
            <a:off x="179280" y="333360"/>
            <a:ext cx="5040360" cy="3056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5219640" y="620640"/>
            <a:ext cx="37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Chaos en onrust in heel Duitsland is het gevol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Hitler doet in Munchen een poging tot een staatsgr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9" descr="hitler_landsberg3"/>
          <p:cNvPicPr/>
          <p:nvPr/>
        </p:nvPicPr>
        <p:blipFill>
          <a:blip r:embed="rId2"/>
          <a:stretch/>
        </p:blipFill>
        <p:spPr>
          <a:xfrm>
            <a:off x="6372360" y="2276640"/>
            <a:ext cx="2396880" cy="36604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284328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tler wordt veroordeeld en krijgt een gevangenis straf van een j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2" descr="meinkampf"/>
          <p:cNvPicPr/>
          <p:nvPr/>
        </p:nvPicPr>
        <p:blipFill>
          <a:blip r:embed="rId3"/>
          <a:stretch/>
        </p:blipFill>
        <p:spPr>
          <a:xfrm>
            <a:off x="324000" y="2997360"/>
            <a:ext cx="2333520" cy="3627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3"/>
          <p:cNvSpPr/>
          <p:nvPr/>
        </p:nvSpPr>
        <p:spPr>
          <a:xfrm>
            <a:off x="2771640" y="6165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n dat jaar schrijft hij Mein Kamp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250920" y="260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uitse regering en westerse grootmachten beseffen dat verzoening nodig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276720" y="1628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1924 Dawes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1" descr="Bekijk de afbeelding op ware grootte"/>
          <p:cNvPicPr/>
          <p:nvPr/>
        </p:nvPicPr>
        <p:blipFill>
          <a:blip r:embed="rId1"/>
          <a:stretch/>
        </p:blipFill>
        <p:spPr>
          <a:xfrm>
            <a:off x="3492360" y="2349360"/>
            <a:ext cx="1584360" cy="100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ekijk de afbeelding op ware grootte"/>
          <p:cNvPicPr/>
          <p:nvPr/>
        </p:nvPicPr>
        <p:blipFill>
          <a:blip r:embed="rId2"/>
          <a:stretch/>
        </p:blipFill>
        <p:spPr>
          <a:xfrm>
            <a:off x="5651640" y="3716280"/>
            <a:ext cx="1608120" cy="97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Bekijk de afbeelding op ware grootte"/>
          <p:cNvPicPr/>
          <p:nvPr/>
        </p:nvPicPr>
        <p:blipFill>
          <a:blip r:embed="rId3"/>
          <a:stretch/>
        </p:blipFill>
        <p:spPr>
          <a:xfrm>
            <a:off x="3419640" y="4941720"/>
            <a:ext cx="1511280" cy="984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Bekijk de afbeelding op ware grootte"/>
          <p:cNvPicPr/>
          <p:nvPr/>
        </p:nvPicPr>
        <p:blipFill>
          <a:blip r:embed="rId4"/>
          <a:stretch/>
        </p:blipFill>
        <p:spPr>
          <a:xfrm>
            <a:off x="1116000" y="3645000"/>
            <a:ext cx="1655640" cy="9619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8"/>
          <p:cNvSpPr/>
          <p:nvPr/>
        </p:nvSpPr>
        <p:spPr>
          <a:xfrm>
            <a:off x="3059280" y="3860640"/>
            <a:ext cx="2520720" cy="43200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99"/>
                </a:solidFill>
                <a:latin typeface="Tahoma"/>
              </a:rPr>
              <a:t>$$$$ L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 flipH="1" flipV="1">
            <a:off x="5292360" y="2781360"/>
            <a:ext cx="1150920" cy="7207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 flipH="1">
            <a:off x="5364000" y="4869000"/>
            <a:ext cx="936720" cy="57600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 flipH="1">
            <a:off x="2195640" y="2708280"/>
            <a:ext cx="1008000" cy="7207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 flipH="1" flipV="1">
            <a:off x="2410920" y="4797000"/>
            <a:ext cx="792360" cy="79236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 flipH="1">
            <a:off x="3492000" y="4581360"/>
            <a:ext cx="1800360" cy="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5867280" y="292428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635280" y="4653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67280" y="51577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1258920" y="26370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Rente en aflossing oorlogslen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2"/>
          <p:cNvSpPr/>
          <p:nvPr/>
        </p:nvSpPr>
        <p:spPr>
          <a:xfrm>
            <a:off x="1403280" y="522936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Rente en aflossing oorlogslen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826920" y="630864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Dawesplan succe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Duitsland klimt uit d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Black_Tuesday_2"/>
          <p:cNvPicPr/>
          <p:nvPr/>
        </p:nvPicPr>
        <p:blipFill>
          <a:blip r:embed="rId1"/>
          <a:stretch/>
        </p:blipFill>
        <p:spPr>
          <a:xfrm>
            <a:off x="179280" y="1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4211640" y="692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ar dan stort in 1929 de beurs op Wallstreet i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wereldcr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8" descr="stockmarketcrash%203"/>
          <p:cNvPicPr/>
          <p:nvPr/>
        </p:nvPicPr>
        <p:blipFill>
          <a:blip r:embed="rId2"/>
          <a:stretch/>
        </p:blipFill>
        <p:spPr>
          <a:xfrm>
            <a:off x="2484360" y="1484280"/>
            <a:ext cx="3745080" cy="3090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image11"/>
          <p:cNvPicPr/>
          <p:nvPr/>
        </p:nvPicPr>
        <p:blipFill>
          <a:blip r:embed="rId3"/>
          <a:stretch/>
        </p:blipFill>
        <p:spPr>
          <a:xfrm>
            <a:off x="179280" y="3213000"/>
            <a:ext cx="4969080" cy="3397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grafiek"/>
          <p:cNvPicPr/>
          <p:nvPr/>
        </p:nvPicPr>
        <p:blipFill>
          <a:blip r:embed="rId4"/>
          <a:stretch/>
        </p:blipFill>
        <p:spPr>
          <a:xfrm>
            <a:off x="4716360" y="1989000"/>
            <a:ext cx="44276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928-great-depression"/>
          <p:cNvPicPr/>
          <p:nvPr/>
        </p:nvPicPr>
        <p:blipFill>
          <a:blip r:embed="rId1"/>
          <a:stretch/>
        </p:blipFill>
        <p:spPr>
          <a:xfrm>
            <a:off x="324000" y="692280"/>
            <a:ext cx="3384360" cy="274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risis"/>
          <p:cNvPicPr/>
          <p:nvPr/>
        </p:nvPicPr>
        <p:blipFill>
          <a:blip r:embed="rId2"/>
          <a:stretch/>
        </p:blipFill>
        <p:spPr>
          <a:xfrm>
            <a:off x="3708360" y="692280"/>
            <a:ext cx="3384720" cy="293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68466-a"/>
          <p:cNvPicPr/>
          <p:nvPr/>
        </p:nvPicPr>
        <p:blipFill>
          <a:blip r:embed="rId3"/>
          <a:stretch/>
        </p:blipFill>
        <p:spPr>
          <a:xfrm>
            <a:off x="3348000" y="3429000"/>
            <a:ext cx="4600440" cy="3102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62989-med"/>
          <p:cNvPicPr/>
          <p:nvPr/>
        </p:nvPicPr>
        <p:blipFill>
          <a:blip r:embed="rId4"/>
          <a:stretch/>
        </p:blipFill>
        <p:spPr>
          <a:xfrm>
            <a:off x="1042920" y="2781360"/>
            <a:ext cx="2352600" cy="38098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2987640" y="260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volgen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1928 kopie"/>
          <p:cNvPicPr/>
          <p:nvPr/>
        </p:nvPicPr>
        <p:blipFill>
          <a:blip r:embed="rId1"/>
          <a:stretch/>
        </p:blipFill>
        <p:spPr>
          <a:xfrm>
            <a:off x="179280" y="1700280"/>
            <a:ext cx="4870440" cy="23526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Politieke gevolgen crisis in Duitsla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6" descr="1930 kopie"/>
          <p:cNvPicPr/>
          <p:nvPr/>
        </p:nvPicPr>
        <p:blipFill>
          <a:blip r:embed="rId2"/>
          <a:stretch/>
        </p:blipFill>
        <p:spPr>
          <a:xfrm>
            <a:off x="3851280" y="4221000"/>
            <a:ext cx="4713120" cy="230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legenda kopie"/>
          <p:cNvPicPr/>
          <p:nvPr/>
        </p:nvPicPr>
        <p:blipFill>
          <a:blip r:embed="rId3"/>
          <a:stretch/>
        </p:blipFill>
        <p:spPr>
          <a:xfrm>
            <a:off x="5076720" y="2924280"/>
            <a:ext cx="3638520" cy="11113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108000" y="45813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uitse kiezer verliest vertrouwen in democratische partijen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→ niet alleen nazi’s winnen, ook communis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219640" y="198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Verkiezingen Rijksdag 19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Op weg naar een totalitaire sta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5" name="Picture 5" descr="1932 kopie"/>
          <p:cNvPicPr/>
          <p:nvPr/>
        </p:nvPicPr>
        <p:blipFill>
          <a:blip r:embed="rId1"/>
          <a:stretch/>
        </p:blipFill>
        <p:spPr>
          <a:xfrm>
            <a:off x="250920" y="1484280"/>
            <a:ext cx="428472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legenda kopie"/>
          <p:cNvPicPr/>
          <p:nvPr/>
        </p:nvPicPr>
        <p:blipFill>
          <a:blip r:embed="rId2"/>
          <a:stretch/>
        </p:blipFill>
        <p:spPr>
          <a:xfrm>
            <a:off x="4500720" y="1628640"/>
            <a:ext cx="3638520" cy="1111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250px-Bundesarchiv_Bild_183-H28422,_Reichskabinett_Adolf_Hitler"/>
          <p:cNvPicPr/>
          <p:nvPr/>
        </p:nvPicPr>
        <p:blipFill>
          <a:blip r:embed="rId3"/>
          <a:stretch/>
        </p:blipFill>
        <p:spPr>
          <a:xfrm>
            <a:off x="250920" y="3487680"/>
            <a:ext cx="4681440" cy="33703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4932360" y="479736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30 januari 1933 Hitler benoemd tot Rijkskanse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3.1 Hitler grijpt de macht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4" descr="Hitler99"/>
          <p:cNvPicPr/>
          <p:nvPr/>
        </p:nvPicPr>
        <p:blipFill>
          <a:blip r:embed="rId1"/>
          <a:stretch/>
        </p:blipFill>
        <p:spPr>
          <a:xfrm>
            <a:off x="4284720" y="2852640"/>
            <a:ext cx="307656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700360" y="1773360"/>
            <a:ext cx="540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889: geboren in Braunau, Oostenrij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n eenvoudige kom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8" descr="adolph_hitler_baby"/>
          <p:cNvPicPr/>
          <p:nvPr/>
        </p:nvPicPr>
        <p:blipFill>
          <a:blip r:embed="rId2"/>
          <a:stretch/>
        </p:blipFill>
        <p:spPr>
          <a:xfrm>
            <a:off x="539640" y="1773360"/>
            <a:ext cx="2030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munich_hitler_l"/>
          <p:cNvPicPr/>
          <p:nvPr/>
        </p:nvPicPr>
        <p:blipFill>
          <a:blip r:embed="rId1"/>
          <a:stretch/>
        </p:blipFill>
        <p:spPr>
          <a:xfrm>
            <a:off x="179280" y="333360"/>
            <a:ext cx="5043600" cy="344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itler36"/>
          <p:cNvPicPr/>
          <p:nvPr/>
        </p:nvPicPr>
        <p:blipFill>
          <a:blip r:embed="rId2"/>
          <a:stretch/>
        </p:blipFill>
        <p:spPr>
          <a:xfrm>
            <a:off x="3429000" y="2838600"/>
            <a:ext cx="5715000" cy="4019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5327640" y="54936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thousiast over het uitbreken van W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2320" y="558972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rijwilliger in het Duitse leger Dient vier jaar aan het westelijk fro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917; Duitse kansen op overwinning groei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Picture 5" descr="russische-revolutie"/>
          <p:cNvPicPr/>
          <p:nvPr/>
        </p:nvPicPr>
        <p:blipFill>
          <a:blip r:embed="rId1"/>
          <a:stretch/>
        </p:blipFill>
        <p:spPr>
          <a:xfrm>
            <a:off x="324000" y="170028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50920" y="4797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ssische Revolut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Russen trekken zich terug uit oor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56000" y="1916280"/>
            <a:ext cx="45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rs kunnen nu aandacht richten op westelijk fro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breken op een aantal plaatsen door geallieerde lin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9" descr="090-unditching-bea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76640"/>
            <a:ext cx="4286160" cy="2409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572000" y="3284640"/>
            <a:ext cx="3960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ar de geallieerden komen met een nieuw wapen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Mark IV t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en de Amerikanen gaan meedoe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Picture 6" descr="wo13.jpg (23641 bytes)"/>
          <p:cNvPicPr/>
          <p:nvPr/>
        </p:nvPicPr>
        <p:blipFill>
          <a:blip r:embed="rId1"/>
          <a:stretch/>
        </p:blipFill>
        <p:spPr>
          <a:xfrm>
            <a:off x="324000" y="907920"/>
            <a:ext cx="295272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armistice1918"/>
          <p:cNvPicPr/>
          <p:nvPr/>
        </p:nvPicPr>
        <p:blipFill>
          <a:blip r:embed="rId2"/>
          <a:stretch/>
        </p:blipFill>
        <p:spPr>
          <a:xfrm>
            <a:off x="4788000" y="2133720"/>
            <a:ext cx="2931840" cy="4537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3564000" y="1197000"/>
            <a:ext cx="52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rs kunnen oorlog niet meer winnen en stemmen in met wapenstilst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             11 november 19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7" descr="revolutie-potsdam"/>
          <p:cNvPicPr/>
          <p:nvPr/>
        </p:nvPicPr>
        <p:blipFill>
          <a:blip r:embed="rId1"/>
          <a:stretch/>
        </p:blipFill>
        <p:spPr>
          <a:xfrm>
            <a:off x="250920" y="2997360"/>
            <a:ext cx="5025960" cy="3369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[Abbildung]"/>
          <p:cNvPicPr/>
          <p:nvPr/>
        </p:nvPicPr>
        <p:blipFill>
          <a:blip r:embed="rId2"/>
          <a:stretch/>
        </p:blipFill>
        <p:spPr>
          <a:xfrm>
            <a:off x="3564000" y="404640"/>
            <a:ext cx="5229000" cy="3143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thumbnail"/>
          <p:cNvPicPr/>
          <p:nvPr/>
        </p:nvPicPr>
        <p:blipFill>
          <a:blip r:embed="rId3"/>
          <a:stretch/>
        </p:blipFill>
        <p:spPr>
          <a:xfrm>
            <a:off x="250920" y="333360"/>
            <a:ext cx="3246480" cy="3246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uitsland 1918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12" descr="wilhelm-eysden"/>
          <p:cNvPicPr/>
          <p:nvPr/>
        </p:nvPicPr>
        <p:blipFill>
          <a:blip r:embed="rId4"/>
          <a:stretch/>
        </p:blipFill>
        <p:spPr>
          <a:xfrm>
            <a:off x="4788000" y="2565360"/>
            <a:ext cx="3525840" cy="395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179280" y="630864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Opstanden en revoluties in Duits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076720" y="59500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Keizer Wilhelm II vlucht naar Neder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 Weimar wordt een republiek uitgeroep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6" descr="Bestand:Bundesarchiv Bild 146-1977-074-08, Volksbeauftragte Landsberg, Scheidemann, Noske, Ebert, Wissell.jpg"/>
          <p:cNvPicPr/>
          <p:nvPr/>
        </p:nvPicPr>
        <p:blipFill>
          <a:blip r:embed="rId1"/>
          <a:stretch/>
        </p:blipFill>
        <p:spPr>
          <a:xfrm>
            <a:off x="1619280" y="1484280"/>
            <a:ext cx="5183280" cy="3589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042920" y="544500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nieuwe, socialistische regering, sluit een wapenstilstand en ondertekent later de Vrede van Versail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dolchstoss"/>
          <p:cNvPicPr/>
          <p:nvPr/>
        </p:nvPicPr>
        <p:blipFill>
          <a:blip r:embed="rId1"/>
          <a:stretch/>
        </p:blipFill>
        <p:spPr>
          <a:xfrm>
            <a:off x="3995640" y="476280"/>
            <a:ext cx="4762440" cy="3610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50920" y="765000"/>
            <a:ext cx="37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 propaganda had vol- gehouden dat oorlog te winnen w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Duitsers verbaasd over wapenstilst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263700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ven nieuwe socialistische regering schuld van nederla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835280" y="213372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0" descr="180px-Treaty_of_Versailles,_English_version"/>
          <p:cNvPicPr/>
          <p:nvPr/>
        </p:nvPicPr>
        <p:blipFill>
          <a:blip r:embed="rId2"/>
          <a:stretch/>
        </p:blipFill>
        <p:spPr>
          <a:xfrm>
            <a:off x="755640" y="3860640"/>
            <a:ext cx="1968480" cy="2997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3635280" y="4581360"/>
            <a:ext cx="550872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rede van Versailles; gevolgen voor Duit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erliest 10% van zijn grondgebied + moet  kolonies   afst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ger ingeperkt: 100.000 solda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erstelbetalingen: miljarden goudma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uitsland schuldig aan uitbreken WO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5148360" y="3500280"/>
            <a:ext cx="290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olkstootlegen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germaniageketend"/>
          <p:cNvPicPr/>
          <p:nvPr/>
        </p:nvPicPr>
        <p:blipFill>
          <a:blip r:embed="rId1"/>
          <a:stretch/>
        </p:blipFill>
        <p:spPr>
          <a:xfrm>
            <a:off x="5508720" y="260280"/>
            <a:ext cx="3297240" cy="460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250920" y="260280"/>
            <a:ext cx="60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itse regering moest Verdrag wel accepte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nig begrip bij Duitse bevolk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→ ‘Dictaat van Versaill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2" descr="Versailles_63"/>
          <p:cNvPicPr/>
          <p:nvPr/>
        </p:nvPicPr>
        <p:blipFill>
          <a:blip r:embed="rId2"/>
          <a:stretch/>
        </p:blipFill>
        <p:spPr>
          <a:xfrm>
            <a:off x="468360" y="2276640"/>
            <a:ext cx="439272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0:47:21Z</dcterms:created>
  <dc:creator>ScheepersDT</dc:creator>
  <dc:description/>
  <dc:language>en-US</dc:language>
  <cp:lastModifiedBy>WINDOWSXP</cp:lastModifiedBy>
  <dcterms:modified xsi:type="dcterms:W3CDTF">2011-11-21T13:51:07Z</dcterms:modified>
  <cp:revision>20</cp:revision>
  <dc:subject/>
  <dc:title>H3 Hitler en Europa</dc:title>
</cp:coreProperties>
</file>