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42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D777-558F-43FC-A796-8D562DC3AF8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6358-BA67-44FC-9FF0-D5D80B7D287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C19-D04E-4819-8E90-FECB6022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2B9-86D4-4BDD-AF15-0A0A030B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9F3-C396-4381-89E0-DCD1FE67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5A1-9ADA-4463-AFB5-0CE33FBA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68D0-C947-4B69-B4EF-DB9D6268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2305-1E1B-4E1C-935F-130AE8AF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510E-42AD-4D0C-858A-E515840A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4B84-418D-4FB6-939E-44F25B31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14BA-1EA0-44C0-BC28-54F0AEE1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DF54-53C2-47DF-8E7B-F2985B44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C0BD-305B-45DF-A576-0F69837F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12B-B50A-41F6-A492-9F3DBEBA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8BC1-D969-484D-9900-037DAB13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23BC-B165-4EB8-AF2B-69851D7C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206B-9F60-4640-A37D-BFA11163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4FE6-8F90-493B-A3D3-920B39BF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0401-73D4-4DD2-935A-D71DCC2A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085-6308-413F-A7FC-7464698D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2A1-8885-4B64-AE3E-ED1B8E6B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374-498A-47B5-9DDC-0E0EDDA2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18F-7C2A-40B5-AAB8-94660C7B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2BA-B328-4C3D-B6E8-72334AC1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BD5-7858-4771-91A5-70147F1C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5D5-0B2C-4E0A-98E1-B76B0A71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FA4F-2F8D-4228-84A1-2B5AF4EA7D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B06E-FCF8-4EAA-ACFC-F7264AC6B8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outube.com/watch?v=ob3fUlIOEi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youtube.com/watch?v=ob3fUlIOEi0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age002"/>
          <p:cNvPicPr/>
          <p:nvPr/>
        </p:nvPicPr>
        <p:blipFill>
          <a:blip r:embed="rId1"/>
          <a:stretch/>
        </p:blipFill>
        <p:spPr>
          <a:xfrm>
            <a:off x="2771640" y="1227240"/>
            <a:ext cx="3240360" cy="3765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3 De Tweede Wereldoorlo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58920" y="5157720"/>
            <a:ext cx="64008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ofdvraag: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oe kreeg Hitler grote delen van Europa in zijn greep en welke oorzaken en gevolgen had da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919 oprichting Duitse Arbeiderspartij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5564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HitlerMemberCard555-1920"/>
          <p:cNvPicPr/>
          <p:nvPr/>
        </p:nvPicPr>
        <p:blipFill>
          <a:blip r:embed="rId1"/>
          <a:stretch/>
        </p:blipFill>
        <p:spPr>
          <a:xfrm>
            <a:off x="468360" y="1341360"/>
            <a:ext cx="6119640" cy="401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itler30"/>
          <p:cNvPicPr/>
          <p:nvPr/>
        </p:nvPicPr>
        <p:blipFill>
          <a:blip r:embed="rId2"/>
          <a:stretch/>
        </p:blipFill>
        <p:spPr>
          <a:xfrm>
            <a:off x="4716360" y="2852640"/>
            <a:ext cx="4114800" cy="3362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395280" y="558972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tler werd al snel partijleider van de NDSAP, zoals de partij zich ging noemen, met een eigen partijleger, Sturmabteilung (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arends%2013"/>
          <p:cNvPicPr/>
          <p:nvPr/>
        </p:nvPicPr>
        <p:blipFill>
          <a:blip r:embed="rId3"/>
          <a:stretch/>
        </p:blipFill>
        <p:spPr>
          <a:xfrm>
            <a:off x="4524480" y="765000"/>
            <a:ext cx="4194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article_ruhr%201923(1)"/>
          <p:cNvPicPr/>
          <p:nvPr/>
        </p:nvPicPr>
        <p:blipFill>
          <a:blip r:embed="rId1"/>
          <a:stretch/>
        </p:blipFill>
        <p:spPr>
          <a:xfrm>
            <a:off x="3905280" y="620640"/>
            <a:ext cx="5238720" cy="300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uy001belg01ill17"/>
          <p:cNvPicPr/>
          <p:nvPr/>
        </p:nvPicPr>
        <p:blipFill>
          <a:blip r:embed="rId2"/>
          <a:stretch/>
        </p:blipFill>
        <p:spPr>
          <a:xfrm>
            <a:off x="250920" y="2349360"/>
            <a:ext cx="4476600" cy="301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50920" y="54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3; Duitsland blijft achter met herstelbetalingen aan Frankrijk en Bel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824360" y="400536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se en Belgische troepen bezetten Ruhrgeb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ruhr"/>
          <p:cNvPicPr/>
          <p:nvPr/>
        </p:nvPicPr>
        <p:blipFill>
          <a:blip r:embed="rId3"/>
          <a:stretch/>
        </p:blipFill>
        <p:spPr>
          <a:xfrm>
            <a:off x="468360" y="1743120"/>
            <a:ext cx="3448080" cy="5114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3"/>
          <p:cNvSpPr/>
          <p:nvPr/>
        </p:nvSpPr>
        <p:spPr>
          <a:xfrm>
            <a:off x="3995640" y="566100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roept op tot algemene staking en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yperinflation-1923"/>
          <p:cNvPicPr/>
          <p:nvPr/>
        </p:nvPicPr>
        <p:blipFill>
          <a:blip r:embed="rId1"/>
          <a:stretch/>
        </p:blipFill>
        <p:spPr>
          <a:xfrm>
            <a:off x="179280" y="1159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564000" y="836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kt geld b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WiemarRepublic_September_01_1923_50MillionMark"/>
          <p:cNvPicPr/>
          <p:nvPr/>
        </p:nvPicPr>
        <p:blipFill>
          <a:blip r:embed="rId2"/>
          <a:stretch/>
        </p:blipFill>
        <p:spPr>
          <a:xfrm>
            <a:off x="4211640" y="2133720"/>
            <a:ext cx="4510080" cy="300492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>
            <a:off x="4788000" y="141300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28472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Hyperinf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3" descr="hyperinflatie"/>
          <p:cNvPicPr/>
          <p:nvPr/>
        </p:nvPicPr>
        <p:blipFill>
          <a:blip r:embed="rId3"/>
          <a:stretch/>
        </p:blipFill>
        <p:spPr>
          <a:xfrm>
            <a:off x="1042920" y="3716280"/>
            <a:ext cx="6228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undesarchiv_Bild_119-1486%2C_Hitler-Putsch%2C_M%C3%BCnchen%2C_Marienplatz"/>
          <p:cNvPicPr/>
          <p:nvPr/>
        </p:nvPicPr>
        <p:blipFill>
          <a:blip r:embed="rId1"/>
          <a:stretch/>
        </p:blipFill>
        <p:spPr>
          <a:xfrm>
            <a:off x="179280" y="333360"/>
            <a:ext cx="5040360" cy="3056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5219640" y="62064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Chaos en onrust in heel Duitsland is het gevol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Hitler doet in Munchen een poging tot een staatsgr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9" descr="hitler_landsberg3"/>
          <p:cNvPicPr/>
          <p:nvPr/>
        </p:nvPicPr>
        <p:blipFill>
          <a:blip r:embed="rId2"/>
          <a:stretch/>
        </p:blipFill>
        <p:spPr>
          <a:xfrm>
            <a:off x="6372360" y="2276640"/>
            <a:ext cx="2396880" cy="36604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284328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tler wordt veroordeeld en krijgt een gevangenis straf van een 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2" descr="meinkampf"/>
          <p:cNvPicPr/>
          <p:nvPr/>
        </p:nvPicPr>
        <p:blipFill>
          <a:blip r:embed="rId3"/>
          <a:stretch/>
        </p:blipFill>
        <p:spPr>
          <a:xfrm>
            <a:off x="324000" y="2997360"/>
            <a:ext cx="2333520" cy="3627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2771640" y="6165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n dat jaar schrijft hij Mein Kam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5092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uitse regering en westerse grootmachten beseffen dat verzoening nodig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76720" y="1628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1924 Dawes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1" descr="Bekijk de afbeelding op ware grootte"/>
          <p:cNvPicPr/>
          <p:nvPr/>
        </p:nvPicPr>
        <p:blipFill>
          <a:blip r:embed="rId1"/>
          <a:stretch/>
        </p:blipFill>
        <p:spPr>
          <a:xfrm>
            <a:off x="3492360" y="2349360"/>
            <a:ext cx="1584360" cy="100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ekijk de afbeelding op ware grootte"/>
          <p:cNvPicPr/>
          <p:nvPr/>
        </p:nvPicPr>
        <p:blipFill>
          <a:blip r:embed="rId2"/>
          <a:stretch/>
        </p:blipFill>
        <p:spPr>
          <a:xfrm>
            <a:off x="5651640" y="3716280"/>
            <a:ext cx="1608120" cy="97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Bekijk de afbeelding op ware grootte"/>
          <p:cNvPicPr/>
          <p:nvPr/>
        </p:nvPicPr>
        <p:blipFill>
          <a:blip r:embed="rId3"/>
          <a:stretch/>
        </p:blipFill>
        <p:spPr>
          <a:xfrm>
            <a:off x="3419640" y="494172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Bekijk de afbeelding op ware grootte"/>
          <p:cNvPicPr/>
          <p:nvPr/>
        </p:nvPicPr>
        <p:blipFill>
          <a:blip r:embed="rId4"/>
          <a:stretch/>
        </p:blipFill>
        <p:spPr>
          <a:xfrm>
            <a:off x="1116000" y="3645000"/>
            <a:ext cx="1655640" cy="961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8"/>
          <p:cNvSpPr/>
          <p:nvPr/>
        </p:nvSpPr>
        <p:spPr>
          <a:xfrm>
            <a:off x="3059280" y="3860640"/>
            <a:ext cx="2520720" cy="43200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99"/>
                </a:solidFill>
                <a:latin typeface="Tahoma"/>
              </a:rPr>
              <a:t>$$$$ L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 flipV="1">
            <a:off x="5292360" y="2781360"/>
            <a:ext cx="115092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H="1">
            <a:off x="5364000" y="4869000"/>
            <a:ext cx="936720" cy="57600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>
            <a:off x="2195640" y="2708280"/>
            <a:ext cx="100800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H="1" flipV="1">
            <a:off x="2410920" y="4797000"/>
            <a:ext cx="792360" cy="79236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H="1">
            <a:off x="3492000" y="4581360"/>
            <a:ext cx="180036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5867280" y="29242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635280" y="4653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67280" y="5157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258920" y="2637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1403280" y="5229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826920" y="63086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awesplan succe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land klimt uit d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Black_Tuesday_2"/>
          <p:cNvPicPr/>
          <p:nvPr/>
        </p:nvPicPr>
        <p:blipFill>
          <a:blip r:embed="rId1"/>
          <a:stretch/>
        </p:blipFill>
        <p:spPr>
          <a:xfrm>
            <a:off x="179280" y="1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4211640" y="692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ar dan stort in 1929 de beurs op Wallstreet i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wereldcr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stockmarketcrash%203"/>
          <p:cNvPicPr/>
          <p:nvPr/>
        </p:nvPicPr>
        <p:blipFill>
          <a:blip r:embed="rId2"/>
          <a:stretch/>
        </p:blipFill>
        <p:spPr>
          <a:xfrm>
            <a:off x="2484360" y="1484280"/>
            <a:ext cx="3745080" cy="3090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image11"/>
          <p:cNvPicPr/>
          <p:nvPr/>
        </p:nvPicPr>
        <p:blipFill>
          <a:blip r:embed="rId3"/>
          <a:stretch/>
        </p:blipFill>
        <p:spPr>
          <a:xfrm>
            <a:off x="179280" y="3213000"/>
            <a:ext cx="4969080" cy="3397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grafiek"/>
          <p:cNvPicPr/>
          <p:nvPr/>
        </p:nvPicPr>
        <p:blipFill>
          <a:blip r:embed="rId4"/>
          <a:stretch/>
        </p:blipFill>
        <p:spPr>
          <a:xfrm>
            <a:off x="4716360" y="1989000"/>
            <a:ext cx="44276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928-great-depression"/>
          <p:cNvPicPr/>
          <p:nvPr/>
        </p:nvPicPr>
        <p:blipFill>
          <a:blip r:embed="rId1"/>
          <a:stretch/>
        </p:blipFill>
        <p:spPr>
          <a:xfrm>
            <a:off x="324000" y="692280"/>
            <a:ext cx="3384360" cy="27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risis"/>
          <p:cNvPicPr/>
          <p:nvPr/>
        </p:nvPicPr>
        <p:blipFill>
          <a:blip r:embed="rId2"/>
          <a:stretch/>
        </p:blipFill>
        <p:spPr>
          <a:xfrm>
            <a:off x="3708360" y="692280"/>
            <a:ext cx="3384720" cy="29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68466-a"/>
          <p:cNvPicPr/>
          <p:nvPr/>
        </p:nvPicPr>
        <p:blipFill>
          <a:blip r:embed="rId3"/>
          <a:stretch/>
        </p:blipFill>
        <p:spPr>
          <a:xfrm>
            <a:off x="3348000" y="3429000"/>
            <a:ext cx="4600440" cy="310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62989-med"/>
          <p:cNvPicPr/>
          <p:nvPr/>
        </p:nvPicPr>
        <p:blipFill>
          <a:blip r:embed="rId4"/>
          <a:stretch/>
        </p:blipFill>
        <p:spPr>
          <a:xfrm>
            <a:off x="1042920" y="2781360"/>
            <a:ext cx="2352600" cy="3809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2987640" y="26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volgen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928 kopie"/>
          <p:cNvPicPr/>
          <p:nvPr/>
        </p:nvPicPr>
        <p:blipFill>
          <a:blip r:embed="rId1"/>
          <a:stretch/>
        </p:blipFill>
        <p:spPr>
          <a:xfrm>
            <a:off x="179280" y="1700280"/>
            <a:ext cx="4870440" cy="23526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Politieke gevolgen crisis in Duitsl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6" descr="1930 kopie"/>
          <p:cNvPicPr/>
          <p:nvPr/>
        </p:nvPicPr>
        <p:blipFill>
          <a:blip r:embed="rId2"/>
          <a:stretch/>
        </p:blipFill>
        <p:spPr>
          <a:xfrm>
            <a:off x="3851280" y="4221000"/>
            <a:ext cx="4713120" cy="230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legenda kopie"/>
          <p:cNvPicPr/>
          <p:nvPr/>
        </p:nvPicPr>
        <p:blipFill>
          <a:blip r:embed="rId3"/>
          <a:stretch/>
        </p:blipFill>
        <p:spPr>
          <a:xfrm>
            <a:off x="5076720" y="2924280"/>
            <a:ext cx="3638520" cy="1111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108000" y="45813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uitse kiezer verliest vertrouwen in democratische partijen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→ niet alleen nazi’s winnen, ook communi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21964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Verkiezingen Rijksdag 19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Op weg naar een totalitaire sta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Picture 5" descr="1932 kopie"/>
          <p:cNvPicPr/>
          <p:nvPr/>
        </p:nvPicPr>
        <p:blipFill>
          <a:blip r:embed="rId1"/>
          <a:stretch/>
        </p:blipFill>
        <p:spPr>
          <a:xfrm>
            <a:off x="250920" y="1484280"/>
            <a:ext cx="42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legenda kopie"/>
          <p:cNvPicPr/>
          <p:nvPr/>
        </p:nvPicPr>
        <p:blipFill>
          <a:blip r:embed="rId2"/>
          <a:stretch/>
        </p:blipFill>
        <p:spPr>
          <a:xfrm>
            <a:off x="4500720" y="1628640"/>
            <a:ext cx="3638520" cy="111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250px-Bundesarchiv_Bild_183-H28422,_Reichskabinett_Adolf_Hitler"/>
          <p:cNvPicPr/>
          <p:nvPr/>
        </p:nvPicPr>
        <p:blipFill>
          <a:blip r:embed="rId3"/>
          <a:stretch/>
        </p:blipFill>
        <p:spPr>
          <a:xfrm>
            <a:off x="250920" y="3487680"/>
            <a:ext cx="4681440" cy="33703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932360" y="479736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30 januari 1933 Hitler benoemd tot Rijkskanse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3.1 Hitler grijpt de macht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Hitler99"/>
          <p:cNvPicPr/>
          <p:nvPr/>
        </p:nvPicPr>
        <p:blipFill>
          <a:blip r:embed="rId1"/>
          <a:stretch/>
        </p:blipFill>
        <p:spPr>
          <a:xfrm>
            <a:off x="4284720" y="2852640"/>
            <a:ext cx="307656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700360" y="177336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89: geboren in Braunau, Oostenrij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n eenvoudige kom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adolph_hitler_baby"/>
          <p:cNvPicPr/>
          <p:nvPr/>
        </p:nvPicPr>
        <p:blipFill>
          <a:blip r:embed="rId2"/>
          <a:stretch/>
        </p:blipFill>
        <p:spPr>
          <a:xfrm>
            <a:off x="539640" y="1773360"/>
            <a:ext cx="2030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munich_hitler_l"/>
          <p:cNvPicPr/>
          <p:nvPr/>
        </p:nvPicPr>
        <p:blipFill>
          <a:blip r:embed="rId1"/>
          <a:stretch/>
        </p:blipFill>
        <p:spPr>
          <a:xfrm>
            <a:off x="179280" y="333360"/>
            <a:ext cx="5043600" cy="344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itler36"/>
          <p:cNvPicPr/>
          <p:nvPr/>
        </p:nvPicPr>
        <p:blipFill>
          <a:blip r:embed="rId2"/>
          <a:stretch/>
        </p:blipFill>
        <p:spPr>
          <a:xfrm>
            <a:off x="3429000" y="2838600"/>
            <a:ext cx="5715000" cy="4019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327640" y="549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housiast over het uitbreken van W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2320" y="558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rijwilliger in het Duitse leger Dient vier jaar aan het westelijk fr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917; Duitse kansen op overwinning groei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russische-revolutie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50920" y="4797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ssische Revolut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Russen trekken zich terug uit oor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56000" y="1916280"/>
            <a:ext cx="45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nu aandacht richten op westelijk fro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breken op een aantal plaatsen door geallieerde lin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090-unditching-bea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76640"/>
            <a:ext cx="4286160" cy="2409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572000" y="3284640"/>
            <a:ext cx="396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ar de geallieerden komen met een nieuw wapen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Mark IV t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en de Amerikanen gaan meedoe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6" descr="wo13.jpg (23641 bytes)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rmistice1918"/>
          <p:cNvPicPr/>
          <p:nvPr/>
        </p:nvPicPr>
        <p:blipFill>
          <a:blip r:embed="rId2"/>
          <a:stretch/>
        </p:blipFill>
        <p:spPr>
          <a:xfrm>
            <a:off x="4788000" y="2133720"/>
            <a:ext cx="2931840" cy="4537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3564000" y="1197000"/>
            <a:ext cx="52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oorlog niet meer winnen en stemmen in met wapenstilst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             11 november 19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revolutie-potsdam"/>
          <p:cNvPicPr/>
          <p:nvPr/>
        </p:nvPicPr>
        <p:blipFill>
          <a:blip r:embed="rId1"/>
          <a:stretch/>
        </p:blipFill>
        <p:spPr>
          <a:xfrm>
            <a:off x="250920" y="2997360"/>
            <a:ext cx="5025960" cy="336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[Abbildung]"/>
          <p:cNvPicPr/>
          <p:nvPr/>
        </p:nvPicPr>
        <p:blipFill>
          <a:blip r:embed="rId2"/>
          <a:stretch/>
        </p:blipFill>
        <p:spPr>
          <a:xfrm>
            <a:off x="3564000" y="404640"/>
            <a:ext cx="5229000" cy="314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thumbnail"/>
          <p:cNvPicPr/>
          <p:nvPr/>
        </p:nvPicPr>
        <p:blipFill>
          <a:blip r:embed="rId3"/>
          <a:stretch/>
        </p:blipFill>
        <p:spPr>
          <a:xfrm>
            <a:off x="250920" y="333360"/>
            <a:ext cx="324648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uitsland 191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2" descr="wilhelm-eysden"/>
          <p:cNvPicPr/>
          <p:nvPr/>
        </p:nvPicPr>
        <p:blipFill>
          <a:blip r:embed="rId4"/>
          <a:stretch/>
        </p:blipFill>
        <p:spPr>
          <a:xfrm>
            <a:off x="4788000" y="2565360"/>
            <a:ext cx="352584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179280" y="630864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Opstanden en revoluties in Duits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076720" y="59500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Keizer Wilhelm II vlucht naar Neder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Weimar wordt een republiek uitgeroep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6" descr="Bestand:Bundesarchiv Bild 146-1977-074-08, Volksbeauftragte Landsberg, Scheidemann, Noske, Ebert, Wissell.jpg"/>
          <p:cNvPicPr/>
          <p:nvPr/>
        </p:nvPicPr>
        <p:blipFill>
          <a:blip r:embed="rId1"/>
          <a:stretch/>
        </p:blipFill>
        <p:spPr>
          <a:xfrm>
            <a:off x="1619280" y="1484280"/>
            <a:ext cx="5183280" cy="35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042920" y="544500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nieuwe, socialistische regering, sluit een wapenstilstand en ondertekent later de Vrede van Versai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dolchstoss"/>
          <p:cNvPicPr/>
          <p:nvPr/>
        </p:nvPicPr>
        <p:blipFill>
          <a:blip r:embed="rId1"/>
          <a:stretch/>
        </p:blipFill>
        <p:spPr>
          <a:xfrm>
            <a:off x="3995640" y="476280"/>
            <a:ext cx="4762440" cy="3610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765000"/>
            <a:ext cx="37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 propaganda had vol- gehouden dat oorlog te winnen w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ers verbaasd over wapenstilst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263700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ven nieuwe socialistische regering schuld van nederla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835280" y="2133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180px-Treaty_of_Versailles,_English_version"/>
          <p:cNvPicPr/>
          <p:nvPr/>
        </p:nvPicPr>
        <p:blipFill>
          <a:blip r:embed="rId2"/>
          <a:stretch/>
        </p:blipFill>
        <p:spPr>
          <a:xfrm>
            <a:off x="755640" y="3860640"/>
            <a:ext cx="1968480" cy="2997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635280" y="4581360"/>
            <a:ext cx="550872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rede van Versailles; gevolgen voor Duit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erliest 10% van zijn grondgebied + moet  kolonies   afst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ger ingeperkt: 100.000 solda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rstelbetalingen: miljarden goudma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itsland schuldig aan uitbreken WO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5148360" y="3500280"/>
            <a:ext cx="290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olkstootlegen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germaniageketend"/>
          <p:cNvPicPr/>
          <p:nvPr/>
        </p:nvPicPr>
        <p:blipFill>
          <a:blip r:embed="rId1"/>
          <a:stretch/>
        </p:blipFill>
        <p:spPr>
          <a:xfrm>
            <a:off x="5508720" y="260280"/>
            <a:ext cx="3297240" cy="460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250920" y="260280"/>
            <a:ext cx="60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moest Verdrag wel accept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nig begrip bij Duitse bevolk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‘Dictaat van Versaill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2" descr="Versailles_63"/>
          <p:cNvPicPr/>
          <p:nvPr/>
        </p:nvPicPr>
        <p:blipFill>
          <a:blip r:embed="rId2"/>
          <a:stretch/>
        </p:blipFill>
        <p:spPr>
          <a:xfrm>
            <a:off x="468360" y="2276640"/>
            <a:ext cx="439272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47:21Z</dcterms:created>
  <dc:creator>ScheepersDT</dc:creator>
  <dc:description/>
  <dc:language>en-US</dc:language>
  <cp:lastModifiedBy>WINDOWSXP</cp:lastModifiedBy>
  <dcterms:modified xsi:type="dcterms:W3CDTF">2011-11-21T13:51:07Z</dcterms:modified>
  <cp:revision>20</cp:revision>
  <dc:subject/>
  <dc:title>H3 Hitler en Europa</dc:title>
</cp:coreProperties>
</file>