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36E7D-295D-4093-9971-67BE1607F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3060F-420D-4324-BFBF-50D994197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DE1AF-71B1-47D4-A1A7-D8A9CAFEF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DE5D1-F2BC-421E-8461-5414FEA49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F6327-4ADD-43D9-A02B-EEDF734E8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D4448-7FDD-476D-AE38-9814B0979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59966-06E9-40E0-A1BB-D1EF85413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CBD41-04AC-4BF3-A952-FC849333A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C2BE4-43D3-492F-90B7-8447A9921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EE25F-CE08-4BFB-8781-57DDD502B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E558F-8E33-4F46-8D1E-6249536F5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7EEE0-1028-4B28-9EA4-94787F7F2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FDAFC-BDD2-4D92-852B-BA5AEA7B22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4"/>
          <p:cNvSpPr/>
          <p:nvPr/>
        </p:nvSpPr>
        <p:spPr>
          <a:xfrm>
            <a:off x="2743200" y="380880"/>
            <a:ext cx="3733920" cy="6019920"/>
          </a:xfrm>
          <a:custGeom>
            <a:avLst/>
            <a:gdLst>
              <a:gd name="textAreaLeft" fmla="*/ 182160 w 3733920"/>
              <a:gd name="textAreaRight" fmla="*/ 3551760 w 3733920"/>
              <a:gd name="textAreaTop" fmla="*/ 182160 h 6019920"/>
              <a:gd name="textAreaBottom" fmla="*/ 5837760 h 6019920"/>
            </a:gdLst>
            <a:ahLst/>
            <a:rect l="textAreaLeft" t="textAreaTop" r="textAreaRight" b="textAreaBottom"/>
            <a:pathLst>
              <a:path w="21600" h="34823">
                <a:moveTo>
                  <a:pt x="3600" y="0"/>
                </a:moveTo>
                <a:arcTo wR="3600" hR="3600" stAng="16200000" swAng="-5400000"/>
                <a:lnTo>
                  <a:pt x="0" y="31223"/>
                </a:lnTo>
                <a:arcTo wR="3600" hR="3600" stAng="10800000" swAng="-5400000"/>
                <a:lnTo>
                  <a:pt x="18000" y="3482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blipFill rotWithShape="0">
            <a:blip r:embed="rId1">
              <a:alphaModFix amt="47000"/>
            </a:blip>
            <a:srcRect/>
            <a:stretch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6"/>
          <p:cNvSpPr/>
          <p:nvPr/>
        </p:nvSpPr>
        <p:spPr>
          <a:xfrm>
            <a:off x="3124080" y="1219320"/>
            <a:ext cx="2971800" cy="41148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Group 19"/>
          <p:cNvGrpSpPr/>
          <p:nvPr/>
        </p:nvGrpSpPr>
        <p:grpSpPr>
          <a:xfrm>
            <a:off x="4114800" y="5486400"/>
            <a:ext cx="990720" cy="838080"/>
            <a:chOff x="4114800" y="5486400"/>
            <a:chExt cx="990720" cy="838080"/>
          </a:xfrm>
        </p:grpSpPr>
        <p:sp>
          <p:nvSpPr>
            <p:cNvPr id="44" name="AutoShape 7"/>
            <p:cNvSpPr/>
            <p:nvPr/>
          </p:nvSpPr>
          <p:spPr>
            <a:xfrm>
              <a:off x="4114800" y="5486400"/>
              <a:ext cx="990720" cy="838080"/>
            </a:xfrm>
            <a:prstGeom prst="plus">
              <a:avLst>
                <a:gd name="adj" fmla="val 25000"/>
              </a:avLst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AutoShape 13">
              <a:hlinkClick r:id="" action="ppaction://hlinkshowjump?jump=previousslide"/>
            </p:cNvPr>
            <p:cNvSpPr/>
            <p:nvPr/>
          </p:nvSpPr>
          <p:spPr>
            <a:xfrm rot="5400000">
              <a:off x="4419000" y="5638680"/>
              <a:ext cx="380880" cy="228600"/>
            </a:xfrm>
            <a:custGeom>
              <a:avLst/>
              <a:gdLst>
                <a:gd name="textAreaLeft" fmla="*/ 14760 w 380880"/>
                <a:gd name="textAreaRight" fmla="*/ 366120 w 380880"/>
                <a:gd name="textAreaTop" fmla="*/ 14760 h 228600"/>
                <a:gd name="textAreaBottom" fmla="*/ 213840 h 228600"/>
              </a:gdLst>
              <a:ahLst/>
              <a:rect l="textAreaLeft" t="textAreaTop" r="textAreaRight" b="textAreaBottom"/>
              <a:pathLst>
                <a:path w="35966" h="21600">
                  <a:moveTo>
                    <a:pt x="0" y="0"/>
                  </a:moveTo>
                  <a:lnTo>
                    <a:pt x="35966" y="0"/>
                  </a:lnTo>
                  <a:lnTo>
                    <a:pt x="35966" y="21600"/>
                  </a:lnTo>
                  <a:lnTo>
                    <a:pt x="0" y="21600"/>
                  </a:lnTo>
                  <a:close/>
                </a:path>
                <a:path fill="lightenLess" w="35966" h="21600">
                  <a:moveTo>
                    <a:pt x="0" y="0"/>
                  </a:moveTo>
                  <a:lnTo>
                    <a:pt x="35966" y="0"/>
                  </a:lnTo>
                  <a:lnTo>
                    <a:pt x="34566" y="1400"/>
                  </a:lnTo>
                  <a:lnTo>
                    <a:pt x="1400" y="1400"/>
                  </a:lnTo>
                  <a:close/>
                </a:path>
                <a:path fill="darken" w="35966" h="21600">
                  <a:moveTo>
                    <a:pt x="35966" y="0"/>
                  </a:moveTo>
                  <a:lnTo>
                    <a:pt x="35966" y="21600"/>
                  </a:lnTo>
                  <a:lnTo>
                    <a:pt x="34566" y="20200"/>
                  </a:lnTo>
                  <a:lnTo>
                    <a:pt x="34566" y="1400"/>
                  </a:lnTo>
                  <a:close/>
                </a:path>
                <a:path fill="darkenLess" w="35966" h="21600">
                  <a:moveTo>
                    <a:pt x="3596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4566" y="20200"/>
                  </a:lnTo>
                  <a:close/>
                </a:path>
                <a:path fill="lighten" w="3596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5966" h="21600">
                  <a:moveTo>
                    <a:pt x="10977" y="10800"/>
                  </a:moveTo>
                  <a:lnTo>
                    <a:pt x="24990" y="3794"/>
                  </a:lnTo>
                  <a:lnTo>
                    <a:pt x="24990" y="17806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AutoShape 14">
              <a:hlinkClick r:id="" action="ppaction://hlinkshowjump?jump=previousslide"/>
            </p:cNvPr>
            <p:cNvSpPr/>
            <p:nvPr/>
          </p:nvSpPr>
          <p:spPr>
            <a:xfrm rot="10800000">
              <a:off x="4723920" y="5790960"/>
              <a:ext cx="304920" cy="228600"/>
            </a:xfrm>
            <a:custGeom>
              <a:avLst/>
              <a:gdLst>
                <a:gd name="textAreaLeft" fmla="*/ 14760 w 304920"/>
                <a:gd name="textAreaRight" fmla="*/ 290160 w 304920"/>
                <a:gd name="textAreaTop" fmla="*/ 14760 h 228600"/>
                <a:gd name="textAreaBottom" fmla="*/ 213840 h 228600"/>
              </a:gdLst>
              <a:ahLst/>
              <a:rect l="textAreaLeft" t="textAreaTop" r="textAreaRight" b="textAreaBottom"/>
              <a:pathLst>
                <a:path w="28800" h="21600">
                  <a:moveTo>
                    <a:pt x="0" y="0"/>
                  </a:moveTo>
                  <a:lnTo>
                    <a:pt x="28800" y="0"/>
                  </a:lnTo>
                  <a:lnTo>
                    <a:pt x="28800" y="21600"/>
                  </a:lnTo>
                  <a:lnTo>
                    <a:pt x="0" y="21600"/>
                  </a:lnTo>
                  <a:close/>
                </a:path>
                <a:path fill="lightenLess" w="28800" h="21600">
                  <a:moveTo>
                    <a:pt x="0" y="0"/>
                  </a:moveTo>
                  <a:lnTo>
                    <a:pt x="28800" y="0"/>
                  </a:lnTo>
                  <a:lnTo>
                    <a:pt x="27400" y="1400"/>
                  </a:lnTo>
                  <a:lnTo>
                    <a:pt x="1400" y="1400"/>
                  </a:lnTo>
                  <a:close/>
                </a:path>
                <a:path fill="darken" w="28800" h="21600">
                  <a:moveTo>
                    <a:pt x="28800" y="0"/>
                  </a:moveTo>
                  <a:lnTo>
                    <a:pt x="28800" y="21600"/>
                  </a:lnTo>
                  <a:lnTo>
                    <a:pt x="27400" y="20200"/>
                  </a:lnTo>
                  <a:lnTo>
                    <a:pt x="27400" y="1400"/>
                  </a:lnTo>
                  <a:close/>
                </a:path>
                <a:path fill="darkenLess" w="28800" h="21600">
                  <a:moveTo>
                    <a:pt x="288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7400" y="20200"/>
                  </a:lnTo>
                  <a:close/>
                </a:path>
                <a:path fill="lighten" w="288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800" h="21600">
                  <a:moveTo>
                    <a:pt x="7394" y="10800"/>
                  </a:moveTo>
                  <a:lnTo>
                    <a:pt x="21406" y="3794"/>
                  </a:lnTo>
                  <a:lnTo>
                    <a:pt x="21406" y="17806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AutoShape 15">
              <a:hlinkClick r:id="" action="ppaction://hlinkshowjump?jump=previousslide"/>
            </p:cNvPr>
            <p:cNvSpPr/>
            <p:nvPr/>
          </p:nvSpPr>
          <p:spPr>
            <a:xfrm rot="16200000">
              <a:off x="4457520" y="5905080"/>
              <a:ext cx="304920" cy="228600"/>
            </a:xfrm>
            <a:custGeom>
              <a:avLst/>
              <a:gdLst>
                <a:gd name="textAreaLeft" fmla="*/ 14760 w 304920"/>
                <a:gd name="textAreaRight" fmla="*/ 290160 w 304920"/>
                <a:gd name="textAreaTop" fmla="*/ 14760 h 228600"/>
                <a:gd name="textAreaBottom" fmla="*/ 213840 h 228600"/>
              </a:gdLst>
              <a:ahLst/>
              <a:rect l="textAreaLeft" t="textAreaTop" r="textAreaRight" b="textAreaBottom"/>
              <a:pathLst>
                <a:path w="28800" h="21600">
                  <a:moveTo>
                    <a:pt x="0" y="0"/>
                  </a:moveTo>
                  <a:lnTo>
                    <a:pt x="28800" y="0"/>
                  </a:lnTo>
                  <a:lnTo>
                    <a:pt x="28800" y="21600"/>
                  </a:lnTo>
                  <a:lnTo>
                    <a:pt x="0" y="21600"/>
                  </a:lnTo>
                  <a:close/>
                </a:path>
                <a:path fill="lightenLess" w="28800" h="21600">
                  <a:moveTo>
                    <a:pt x="0" y="0"/>
                  </a:moveTo>
                  <a:lnTo>
                    <a:pt x="28800" y="0"/>
                  </a:lnTo>
                  <a:lnTo>
                    <a:pt x="27400" y="1400"/>
                  </a:lnTo>
                  <a:lnTo>
                    <a:pt x="1400" y="1400"/>
                  </a:lnTo>
                  <a:close/>
                </a:path>
                <a:path fill="darken" w="28800" h="21600">
                  <a:moveTo>
                    <a:pt x="28800" y="0"/>
                  </a:moveTo>
                  <a:lnTo>
                    <a:pt x="28800" y="21600"/>
                  </a:lnTo>
                  <a:lnTo>
                    <a:pt x="27400" y="20200"/>
                  </a:lnTo>
                  <a:lnTo>
                    <a:pt x="27400" y="1400"/>
                  </a:lnTo>
                  <a:close/>
                </a:path>
                <a:path fill="darkenLess" w="28800" h="21600">
                  <a:moveTo>
                    <a:pt x="288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7400" y="20200"/>
                  </a:lnTo>
                  <a:close/>
                </a:path>
                <a:path fill="lighten" w="288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800" h="21600">
                  <a:moveTo>
                    <a:pt x="7394" y="10800"/>
                  </a:moveTo>
                  <a:lnTo>
                    <a:pt x="21406" y="3794"/>
                  </a:lnTo>
                  <a:lnTo>
                    <a:pt x="21406" y="17806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16">
              <a:hlinkClick r:id="" action="ppaction://hlinkshowjump?jump=previousslide"/>
            </p:cNvPr>
            <p:cNvSpPr/>
            <p:nvPr/>
          </p:nvSpPr>
          <p:spPr>
            <a:xfrm>
              <a:off x="4191120" y="5791320"/>
              <a:ext cx="304560" cy="228600"/>
            </a:xfrm>
            <a:custGeom>
              <a:avLst/>
              <a:gdLst>
                <a:gd name="textAreaLeft" fmla="*/ 14760 w 304560"/>
                <a:gd name="textAreaRight" fmla="*/ 289800 w 304560"/>
                <a:gd name="textAreaTop" fmla="*/ 14760 h 228600"/>
                <a:gd name="textAreaBottom" fmla="*/ 213840 h 228600"/>
              </a:gdLst>
              <a:ahLst/>
              <a:rect l="textAreaLeft" t="textAreaTop" r="textAreaRight" b="textAreaBottom"/>
              <a:pathLst>
                <a:path w="28766" h="21600">
                  <a:moveTo>
                    <a:pt x="0" y="0"/>
                  </a:moveTo>
                  <a:lnTo>
                    <a:pt x="28766" y="0"/>
                  </a:lnTo>
                  <a:lnTo>
                    <a:pt x="28766" y="21600"/>
                  </a:lnTo>
                  <a:lnTo>
                    <a:pt x="0" y="21600"/>
                  </a:lnTo>
                  <a:close/>
                </a:path>
                <a:path fill="lightenLess" w="28766" h="21600">
                  <a:moveTo>
                    <a:pt x="0" y="0"/>
                  </a:moveTo>
                  <a:lnTo>
                    <a:pt x="28766" y="0"/>
                  </a:lnTo>
                  <a:lnTo>
                    <a:pt x="27366" y="1400"/>
                  </a:lnTo>
                  <a:lnTo>
                    <a:pt x="1400" y="1400"/>
                  </a:lnTo>
                  <a:close/>
                </a:path>
                <a:path fill="darken" w="28766" h="21600">
                  <a:moveTo>
                    <a:pt x="28766" y="0"/>
                  </a:moveTo>
                  <a:lnTo>
                    <a:pt x="28766" y="21600"/>
                  </a:lnTo>
                  <a:lnTo>
                    <a:pt x="27366" y="20200"/>
                  </a:lnTo>
                  <a:lnTo>
                    <a:pt x="27366" y="1400"/>
                  </a:lnTo>
                  <a:close/>
                </a:path>
                <a:path fill="darkenLess" w="28766" h="21600">
                  <a:moveTo>
                    <a:pt x="2876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7366" y="20200"/>
                  </a:lnTo>
                  <a:close/>
                </a:path>
                <a:path fill="lighten" w="2876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766" h="21600">
                  <a:moveTo>
                    <a:pt x="7377" y="10800"/>
                  </a:moveTo>
                  <a:lnTo>
                    <a:pt x="21390" y="3794"/>
                  </a:lnTo>
                  <a:lnTo>
                    <a:pt x="21390" y="17806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10:24:02Z</dcterms:created>
  <dc:creator>leijtens</dc:creator>
  <dc:description/>
  <dc:language>en-US</dc:language>
  <cp:lastModifiedBy>Rianne</cp:lastModifiedBy>
  <dcterms:modified xsi:type="dcterms:W3CDTF">2013-08-18T14:45:18Z</dcterms:modified>
  <cp:revision>5</cp:revision>
  <dc:subject/>
  <dc:title>Slide 1</dc:title>
</cp:coreProperties>
</file>