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12A0-6EC8-4819-9FF2-F3064A98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F892-41F5-4A38-B3DA-1BDBB216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7557-4540-460C-8355-CFE3EEE5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DF1F-A145-40E6-8235-1E3608B4E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1A3C-9EF8-4865-8536-5DD8938F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B7DC-BABE-47A6-84C9-56F9C1C4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EACA-6DEF-49E3-91D9-EF0E24B1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44C9-E34B-40FC-A1A8-5FD91C9E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D443-54B8-431D-B5F0-7EBFBE92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F9AB-39B2-4CB3-BC41-A3C75D85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BF15-3F0A-4192-ACC0-7A26F74E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CBD2-3673-4AA1-B2FA-A46F66C8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884B-D52E-4B0D-90BF-45CEE83FB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2743200" y="380880"/>
            <a:ext cx="3733920" cy="601992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6019920"/>
              <a:gd name="textAreaBottom" fmla="*/ 5837760 h 6019920"/>
            </a:gdLst>
            <a:ahLst/>
            <a:rect l="textAreaLeft" t="textAreaTop" r="textAreaRight" b="textAreaBottom"/>
            <a:pathLst>
              <a:path w="21600" h="34823">
                <a:moveTo>
                  <a:pt x="3600" y="0"/>
                </a:moveTo>
                <a:arcTo wR="3600" hR="3600" stAng="16200000" swAng="-5400000"/>
                <a:lnTo>
                  <a:pt x="0" y="31223"/>
                </a:lnTo>
                <a:arcTo wR="3600" hR="3600" stAng="10800000" swAng="-5400000"/>
                <a:lnTo>
                  <a:pt x="18000" y="34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>
              <a:alphaModFix amt="47000"/>
            </a:blip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124080" y="1219320"/>
            <a:ext cx="297180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9"/>
          <p:cNvGrpSpPr/>
          <p:nvPr/>
        </p:nvGrpSpPr>
        <p:grpSpPr>
          <a:xfrm>
            <a:off x="4114800" y="5486400"/>
            <a:ext cx="990720" cy="838080"/>
            <a:chOff x="4114800" y="5486400"/>
            <a:chExt cx="990720" cy="838080"/>
          </a:xfrm>
        </p:grpSpPr>
        <p:sp>
          <p:nvSpPr>
            <p:cNvPr id="44" name="AutoShape 7"/>
            <p:cNvSpPr/>
            <p:nvPr/>
          </p:nvSpPr>
          <p:spPr>
            <a:xfrm>
              <a:off x="4114800" y="5486400"/>
              <a:ext cx="990720" cy="838080"/>
            </a:xfrm>
            <a:prstGeom prst="plus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3">
              <a:hlinkClick r:id="" action="ppaction://hlinkshowjump?jump=previousslide"/>
            </p:cNvPr>
            <p:cNvSpPr/>
            <p:nvPr/>
          </p:nvSpPr>
          <p:spPr>
            <a:xfrm rot="5400000">
              <a:off x="4419000" y="5638680"/>
              <a:ext cx="380880" cy="228600"/>
            </a:xfrm>
            <a:custGeom>
              <a:avLst/>
              <a:gdLst>
                <a:gd name="textAreaLeft" fmla="*/ 14760 w 380880"/>
                <a:gd name="textAreaRight" fmla="*/ 366120 w 38088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35966" h="21600">
                  <a:moveTo>
                    <a:pt x="0" y="0"/>
                  </a:moveTo>
                  <a:lnTo>
                    <a:pt x="35966" y="0"/>
                  </a:lnTo>
                  <a:lnTo>
                    <a:pt x="35966" y="21600"/>
                  </a:lnTo>
                  <a:lnTo>
                    <a:pt x="0" y="21600"/>
                  </a:lnTo>
                  <a:close/>
                </a:path>
                <a:path fill="lightenLess" w="35966" h="21600">
                  <a:moveTo>
                    <a:pt x="0" y="0"/>
                  </a:moveTo>
                  <a:lnTo>
                    <a:pt x="35966" y="0"/>
                  </a:lnTo>
                  <a:lnTo>
                    <a:pt x="34566" y="1400"/>
                  </a:lnTo>
                  <a:lnTo>
                    <a:pt x="1400" y="1400"/>
                  </a:lnTo>
                  <a:close/>
                </a:path>
                <a:path fill="darken" w="35966" h="21600">
                  <a:moveTo>
                    <a:pt x="35966" y="0"/>
                  </a:moveTo>
                  <a:lnTo>
                    <a:pt x="35966" y="21600"/>
                  </a:lnTo>
                  <a:lnTo>
                    <a:pt x="34566" y="20200"/>
                  </a:lnTo>
                  <a:lnTo>
                    <a:pt x="34566" y="1400"/>
                  </a:lnTo>
                  <a:close/>
                </a:path>
                <a:path fill="darkenLess" w="35966" h="21600">
                  <a:moveTo>
                    <a:pt x="359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566" y="20200"/>
                  </a:lnTo>
                  <a:close/>
                </a:path>
                <a:path fill="lighten" w="359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5966" h="21600">
                  <a:moveTo>
                    <a:pt x="10977" y="10800"/>
                  </a:moveTo>
                  <a:lnTo>
                    <a:pt x="24990" y="3794"/>
                  </a:lnTo>
                  <a:lnTo>
                    <a:pt x="249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4">
              <a:hlinkClick r:id="" action="ppaction://hlinkshowjump?jump=previousslide"/>
            </p:cNvPr>
            <p:cNvSpPr/>
            <p:nvPr/>
          </p:nvSpPr>
          <p:spPr>
            <a:xfrm rot="10800000">
              <a:off x="4723920" y="579096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>
              <a:hlinkClick r:id="" action="ppaction://hlinkshowjump?jump=previousslide"/>
            </p:cNvPr>
            <p:cNvSpPr/>
            <p:nvPr/>
          </p:nvSpPr>
          <p:spPr>
            <a:xfrm rot="16200000">
              <a:off x="4457520" y="590508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6">
              <a:hlinkClick r:id="" action="ppaction://hlinkshowjump?jump=previousslide"/>
            </p:cNvPr>
            <p:cNvSpPr/>
            <p:nvPr/>
          </p:nvSpPr>
          <p:spPr>
            <a:xfrm>
              <a:off x="4191120" y="5791320"/>
              <a:ext cx="304560" cy="22860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766" h="21600">
                  <a:moveTo>
                    <a:pt x="0" y="0"/>
                  </a:moveTo>
                  <a:lnTo>
                    <a:pt x="28766" y="0"/>
                  </a:lnTo>
                  <a:lnTo>
                    <a:pt x="28766" y="21600"/>
                  </a:lnTo>
                  <a:lnTo>
                    <a:pt x="0" y="21600"/>
                  </a:lnTo>
                  <a:close/>
                </a:path>
                <a:path fill="lightenLess" w="28766" h="21600">
                  <a:moveTo>
                    <a:pt x="0" y="0"/>
                  </a:moveTo>
                  <a:lnTo>
                    <a:pt x="28766" y="0"/>
                  </a:lnTo>
                  <a:lnTo>
                    <a:pt x="27366" y="1400"/>
                  </a:lnTo>
                  <a:lnTo>
                    <a:pt x="1400" y="1400"/>
                  </a:lnTo>
                  <a:close/>
                </a:path>
                <a:path fill="darken" w="28766" h="21600">
                  <a:moveTo>
                    <a:pt x="28766" y="0"/>
                  </a:moveTo>
                  <a:lnTo>
                    <a:pt x="28766" y="21600"/>
                  </a:lnTo>
                  <a:lnTo>
                    <a:pt x="27366" y="20200"/>
                  </a:lnTo>
                  <a:lnTo>
                    <a:pt x="27366" y="1400"/>
                  </a:lnTo>
                  <a:close/>
                </a:path>
                <a:path fill="darkenLess" w="28766" h="21600">
                  <a:moveTo>
                    <a:pt x="287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66" y="20200"/>
                  </a:lnTo>
                  <a:close/>
                </a:path>
                <a:path fill="lighten" w="287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66" h="21600">
                  <a:moveTo>
                    <a:pt x="7377" y="10800"/>
                  </a:moveTo>
                  <a:lnTo>
                    <a:pt x="21390" y="3794"/>
                  </a:lnTo>
                  <a:lnTo>
                    <a:pt x="213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0:24:02Z</dcterms:created>
  <dc:creator>leijtens</dc:creator>
  <dc:description/>
  <dc:language>en-US</dc:language>
  <cp:lastModifiedBy>Rianne</cp:lastModifiedBy>
  <dcterms:modified xsi:type="dcterms:W3CDTF">2013-08-18T14:45:18Z</dcterms:modified>
  <cp:revision>5</cp:revision>
  <dc:subject/>
  <dc:title>Slide 1</dc:title>
</cp:coreProperties>
</file>