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1186-079B-4C9F-99D6-4AE1BC9FE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F3F9-FF91-4D3C-8694-D16BCB07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D445-A94E-4A22-93E0-10A2055E3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0669-A833-41C8-9530-4E7ACB74B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07E8-109D-4E39-9111-B638402E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5BF2-8FC8-42F3-81F0-CEBA1A3D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2A22-9946-4C3D-9472-FB0B0F38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DA13-6F74-42AF-91DC-1EBA5746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6630-71A5-4B7A-81A9-C629D596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06D2-98BE-495F-899D-2E31EB7B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7DBA-A35A-4E0D-8C15-E900A9DD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66D9-1FC3-4339-BC29-EE95A687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C6F2-0600-475A-9B80-C24D02C18DE9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De Groene Welle, Huub Hess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FA84-6A05-43D8-9AA3-C72C0A7036CB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iligheid bij tandheelkundige behandel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48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898989"/>
                </a:solidFill>
                <a:latin typeface="Calibri"/>
              </a:rPr>
              <a:t>Voor patiënt en praktijkpersone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898989"/>
                </a:solidFill>
                <a:latin typeface="Calibri"/>
              </a:rPr>
              <a:t>Naar artikel van Frans Knaake TvD 1mei 20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7100-503E-462E-8D46-37CF13239BA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De Groene Welle, Huub Hess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iligheid voor de (para)veterinair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iligheid voor de patiën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349000"/>
            <a:ext cx="6562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 hypother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ltrasone tip met waterko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iniging en desinfectie instrumen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89D1-441C-4418-B552-36908A816D00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ijdelijke aanduiding voor voettekst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De Groene Welle, Huub Hess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iligheid voor de (para)veterinair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iligheid voor de patiënt: sl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349360"/>
            <a:ext cx="72835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rtelresten laten zit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= mal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orgen voor veiligheid van behandelaar en patië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n deugdelijke instrumenten en methoden gebrui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= good veterinary practic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DD85-ACF3-4DEB-B4BD-558A8C303D33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ijdelijke aanduiding voor voettekst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De Groene Welle, Huub Hess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iligheid voor de (para)veterinai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bitsbehandeling behoort tot de “vuile chirurgi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rilapparaten veroorzaken aerosol met veel bacterië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ppervlakten raken besm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grenzende ruimten ook! (o.k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Afbeelding 3" descr="images[1].jpg"/>
          <p:cNvPicPr/>
          <p:nvPr/>
        </p:nvPicPr>
        <p:blipFill>
          <a:blip r:embed="rId1"/>
          <a:stretch/>
        </p:blipFill>
        <p:spPr>
          <a:xfrm>
            <a:off x="5724360" y="328464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48" name="Tijdelijke aanduiding voor dia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5B00-18DA-4DAB-A7D2-2FBBFD8CEA7A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jdelijke aanduiding voor voettekst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De Groene Welle, Huub Hess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iligheid voor de (para)veterinair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e nemen maatregele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ondkap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ermende br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andschoe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ofddeks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werkhou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Afbeelding 3" descr="tn_102099.jpg"/>
          <p:cNvPicPr/>
          <p:nvPr/>
        </p:nvPicPr>
        <p:blipFill>
          <a:blip r:embed="rId1"/>
          <a:stretch/>
        </p:blipFill>
        <p:spPr>
          <a:xfrm>
            <a:off x="4643280" y="3141720"/>
            <a:ext cx="1389240" cy="1050840"/>
          </a:xfrm>
          <a:prstGeom prst="rect">
            <a:avLst/>
          </a:prstGeom>
          <a:ln w="0">
            <a:noFill/>
          </a:ln>
        </p:spPr>
      </p:pic>
      <p:sp>
        <p:nvSpPr>
          <p:cNvPr id="53" name="Tijdelijke aanduiding voor dia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2259-D5B7-4D95-9C5D-AF44A117CE9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ijdelijke aanduiding voor voettekst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De Groene Welle, Huub Hess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Afbeelding 1" descr="Veiligheid bij tandheelkundige behandelingen foto1van3.jpg"/>
          <p:cNvPicPr/>
          <p:nvPr/>
        </p:nvPicPr>
        <p:blipFill>
          <a:blip r:embed="rId1"/>
          <a:stretch/>
        </p:blipFill>
        <p:spPr>
          <a:xfrm>
            <a:off x="1569960" y="0"/>
            <a:ext cx="60040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ijdelijke aanduiding voor dianumm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2955-FA65-44F6-A80C-A1374BA6965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De Groene Welle, Huub Hess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Afbeelding 3" descr="imagesCAHOANCG.jpg"/>
          <p:cNvPicPr/>
          <p:nvPr/>
        </p:nvPicPr>
        <p:blipFill>
          <a:blip r:embed="rId1"/>
          <a:stretch/>
        </p:blipFill>
        <p:spPr>
          <a:xfrm>
            <a:off x="5724360" y="3141720"/>
            <a:ext cx="2959200" cy="2957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iligheid voor de (para)veterinair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e nemen maatregele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Tijdelijke aanduiding voor inhoud 2" descr=""/>
          <p:cNvPicPr/>
          <p:nvPr/>
        </p:nvPicPr>
        <p:blipFill>
          <a:blip r:embed="rId2"/>
          <a:stretch/>
        </p:blipFill>
        <p:spPr>
          <a:xfrm>
            <a:off x="328680" y="2225520"/>
            <a:ext cx="6894360" cy="3907080"/>
          </a:xfrm>
          <a:prstGeom prst="rect">
            <a:avLst/>
          </a:prstGeom>
          <a:ln w="0">
            <a:noFill/>
          </a:ln>
        </p:spPr>
      </p:pic>
      <p:sp>
        <p:nvSpPr>
          <p:cNvPr id="61" name="Tijdelijke aanduiding voor dia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3AD5-EAD0-4BAC-8BF5-F1BE3E81956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jdelijke aanduiding voor voettekst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De Groene Welle, Huub Hess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iligheid voor de (para)veterinair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strumenten en veilighei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349000"/>
            <a:ext cx="6562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emel met hoes om slijpschij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slepen elevatoren en luxato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uiste handzet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Afbeelding 4" descr="tn_131116.jpg"/>
          <p:cNvPicPr/>
          <p:nvPr/>
        </p:nvPicPr>
        <p:blipFill>
          <a:blip r:embed="rId1"/>
          <a:stretch/>
        </p:blipFill>
        <p:spPr>
          <a:xfrm>
            <a:off x="5003640" y="3933720"/>
            <a:ext cx="1584360" cy="1069920"/>
          </a:xfrm>
          <a:prstGeom prst="rect">
            <a:avLst/>
          </a:prstGeom>
          <a:ln w="0">
            <a:noFill/>
          </a:ln>
        </p:spPr>
      </p:pic>
      <p:pic>
        <p:nvPicPr>
          <p:cNvPr id="66" name="Afbeelding 6" descr="imagesCAZQ59Q3.jpg"/>
          <p:cNvPicPr/>
          <p:nvPr/>
        </p:nvPicPr>
        <p:blipFill>
          <a:blip r:embed="rId2"/>
          <a:stretch/>
        </p:blipFill>
        <p:spPr>
          <a:xfrm>
            <a:off x="1332000" y="3645000"/>
            <a:ext cx="2619360" cy="1752480"/>
          </a:xfrm>
          <a:prstGeom prst="rect">
            <a:avLst/>
          </a:prstGeom>
          <a:ln w="0">
            <a:noFill/>
          </a:ln>
        </p:spPr>
      </p:pic>
      <p:sp>
        <p:nvSpPr>
          <p:cNvPr id="67" name="Tijdelijke aanduiding voor dianumm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3FC0-6BF9-48E1-9CB3-890442C65C0B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jdelijke aanduiding voor voettekst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De Groene Welle, Huub Hess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fbeelding 1" descr="Veiligheid bij tandheelkundige behandelingen foto2van3.jpg"/>
          <p:cNvPicPr/>
          <p:nvPr/>
        </p:nvPicPr>
        <p:blipFill>
          <a:blip r:embed="rId1"/>
          <a:stretch/>
        </p:blipFill>
        <p:spPr>
          <a:xfrm>
            <a:off x="957240" y="0"/>
            <a:ext cx="72280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ijdelijke aanduiding voor dianumm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6F73-CCFB-4AF0-885D-D97C3D1E03A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De Groene Welle, Huub Hess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iligheid voor de (para)veterinair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iligheid voor de patiën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349000"/>
            <a:ext cx="6562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gemeen lichamelijk onderzo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gehele narc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ub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aas tampon in de “keel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ondspe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Afbeelding 5" descr="tn_128072.jpg"/>
          <p:cNvPicPr/>
          <p:nvPr/>
        </p:nvPicPr>
        <p:blipFill>
          <a:blip r:embed="rId1"/>
          <a:stretch/>
        </p:blipFill>
        <p:spPr>
          <a:xfrm>
            <a:off x="4500720" y="3284640"/>
            <a:ext cx="2787480" cy="1341360"/>
          </a:xfrm>
          <a:prstGeom prst="rect">
            <a:avLst/>
          </a:prstGeom>
          <a:ln w="0">
            <a:noFill/>
          </a:ln>
        </p:spPr>
      </p:pic>
      <p:pic>
        <p:nvPicPr>
          <p:cNvPr id="75" name="Afbeelding 7" descr="tn_125050.jpg"/>
          <p:cNvPicPr/>
          <p:nvPr/>
        </p:nvPicPr>
        <p:blipFill>
          <a:blip r:embed="rId2"/>
          <a:stretch/>
        </p:blipFill>
        <p:spPr>
          <a:xfrm>
            <a:off x="5219640" y="5327640"/>
            <a:ext cx="1944720" cy="1314360"/>
          </a:xfrm>
          <a:prstGeom prst="rect">
            <a:avLst/>
          </a:prstGeom>
          <a:ln w="0">
            <a:noFill/>
          </a:ln>
        </p:spPr>
      </p:pic>
      <p:sp>
        <p:nvSpPr>
          <p:cNvPr id="76" name="Tijdelijke aanduiding voor dianumm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93BD-107E-4E29-8D44-0D0DF235B06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jdelijke aanduiding voor voettekst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De Groene Welle, Huub Hess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Afbeelding 1" descr="Veiligheid bij tandheelkundige behandelingen foto3van3.jpg"/>
          <p:cNvPicPr/>
          <p:nvPr/>
        </p:nvPicPr>
        <p:blipFill>
          <a:blip r:embed="rId1"/>
          <a:stretch/>
        </p:blipFill>
        <p:spPr>
          <a:xfrm>
            <a:off x="773280" y="0"/>
            <a:ext cx="759744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ijdelijke aanduiding voor dianumm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AD5D-B4AA-42DC-B25E-11363E9397B3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De Groene Welle, Huub Hess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7:51:11Z</dcterms:created>
  <dc:creator>Hessel</dc:creator>
  <dc:description/>
  <dc:language>en-US</dc:language>
  <cp:lastModifiedBy>Hessel</cp:lastModifiedBy>
  <dcterms:modified xsi:type="dcterms:W3CDTF">2010-10-04T19:31:47Z</dcterms:modified>
  <cp:revision>11</cp:revision>
  <dc:subject/>
  <dc:title>Veiligheid bij tandheelkundige behandelingen</dc:title>
</cp:coreProperties>
</file>