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5CC-35F4-4F67-B907-97AF14234D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ment in onderkaak van mediaal beke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oorbeeld: trek halve boog voorlangs element: ligging tong aandui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n bijvoorbeeld  linksonder; 1</a:t>
            </a:r>
            <a:r>
              <a:rPr b="0" lang="nl-NL" sz="1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premolaar = 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F41-FD40-4760-B581-CD7626C110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venkaak 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6F5-0867-48B7-99B0-1158691543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kaak 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907F-6407-4884-BE47-08F8E79A10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chtsboven dus:  101,..104=C1,…108=P4,109=M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7F14-0DB9-4C8A-AC98-D72F60C5F7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2AA-BDA9-4F64-B279-0090FB89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772-4540-40E7-A257-7937B22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ADA-3820-4CC3-96CC-2610FC6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DEE-BF11-4DE7-BA95-B89756A6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5B5-ADFA-474D-A8AC-45456B8F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B54-0EA3-44E1-9EA6-DC10D32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B79-7FE1-4AA1-B5FF-F389C2A3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D64-7AA1-4EAA-94FF-26D31406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855-3D0F-4CC0-AC24-9EF5BB6F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816-5E73-4730-ACC9-F4DFF74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D29-F4A7-4D1E-83B3-A6D81F0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BD7-502D-4B57-8CB3-2861190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BA3-EC1D-485B-9FE2-5FFB698416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Nomenclatuu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cans o.a. uit Tandheelkunde bij gezelschapsdier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Andries van Fore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1CC-E84C-4392-A566-DF2A4D087D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nomenclatuur4a"/>
          <p:cNvPicPr/>
          <p:nvPr/>
        </p:nvPicPr>
        <p:blipFill>
          <a:blip r:embed="rId1"/>
          <a:stretch/>
        </p:blipFill>
        <p:spPr>
          <a:xfrm>
            <a:off x="1752480" y="533520"/>
            <a:ext cx="5943600" cy="5629320"/>
          </a:xfrm>
          <a:prstGeom prst="rect">
            <a:avLst/>
          </a:prstGeom>
          <a:ln w="0">
            <a:noFill/>
          </a:ln>
        </p:spPr>
      </p:pic>
      <p:sp>
        <p:nvSpPr>
          <p:cNvPr id="74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C35C-4197-4AE8-AFBE-2F1C855612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22240" y="536400"/>
            <a:ext cx="5121360" cy="394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nomenclatuur5"/>
          <p:cNvPicPr/>
          <p:nvPr/>
        </p:nvPicPr>
        <p:blipFill>
          <a:blip r:embed="rId2"/>
          <a:stretch/>
        </p:blipFill>
        <p:spPr>
          <a:xfrm>
            <a:off x="3886200" y="4724280"/>
            <a:ext cx="4883040" cy="1765440"/>
          </a:xfrm>
          <a:prstGeom prst="rect">
            <a:avLst/>
          </a:prstGeom>
          <a:ln w="0">
            <a:noFill/>
          </a:ln>
        </p:spPr>
      </p:pic>
      <p:sp>
        <p:nvSpPr>
          <p:cNvPr id="77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9EA-DEE4-41FE-BC0A-8CB48FB00A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691320" cy="473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nomenclatuur5"/>
          <p:cNvPicPr/>
          <p:nvPr/>
        </p:nvPicPr>
        <p:blipFill>
          <a:blip r:embed="rId2"/>
          <a:stretch/>
        </p:blipFill>
        <p:spPr>
          <a:xfrm>
            <a:off x="4067280" y="4941720"/>
            <a:ext cx="4883040" cy="1765440"/>
          </a:xfrm>
          <a:prstGeom prst="rect">
            <a:avLst/>
          </a:prstGeom>
          <a:ln w="0">
            <a:noFill/>
          </a:ln>
        </p:spPr>
      </p:pic>
      <p:sp>
        <p:nvSpPr>
          <p:cNvPr id="80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390-E39E-4D62-9F4E-390B1C2017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486400" cy="468468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D7B2-202D-4702-96C3-14B1205D01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19920" cy="5069160"/>
          </a:xfrm>
          <a:prstGeom prst="rect">
            <a:avLst/>
          </a:prstGeom>
          <a:ln w="0">
            <a:noFill/>
          </a:ln>
        </p:spPr>
      </p:pic>
      <p:sp>
        <p:nvSpPr>
          <p:cNvPr id="84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CC7-1856-42E3-8840-0CAA21CC14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02920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4C4-ADD9-4196-A6BC-3E45BD0E09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965240" y="1203480"/>
            <a:ext cx="5211720" cy="4449600"/>
          </a:xfrm>
          <a:prstGeom prst="rect">
            <a:avLst/>
          </a:prstGeom>
          <a:ln w="0">
            <a:noFill/>
          </a:ln>
        </p:spPr>
      </p:pic>
      <p:sp>
        <p:nvSpPr>
          <p:cNvPr id="88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E8D2-D45B-426F-9814-8791F37298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90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B27-5FC3-4301-849F-9064535DFB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92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72B-D317-4E3B-A3A5-2289614B74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94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BFF-3110-4A19-A064-807BACADB0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jdelijke aanduiding voor inhoud 3" descr="klassificatie 1.jpeg"/>
          <p:cNvPicPr/>
          <p:nvPr/>
        </p:nvPicPr>
        <p:blipFill>
          <a:blip r:embed="rId1"/>
          <a:stretch/>
        </p:blipFill>
        <p:spPr>
          <a:xfrm>
            <a:off x="826920" y="0"/>
            <a:ext cx="7155000" cy="6662880"/>
          </a:xfrm>
          <a:prstGeom prst="rect">
            <a:avLst/>
          </a:prstGeom>
          <a:ln w="0">
            <a:noFill/>
          </a:ln>
        </p:spPr>
      </p:pic>
      <p:sp>
        <p:nvSpPr>
          <p:cNvPr id="52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5D18-CC41-4D9D-9BCC-CB6CEED53C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hthoek 2"/>
          <p:cNvSpPr/>
          <p:nvPr/>
        </p:nvSpPr>
        <p:spPr>
          <a:xfrm>
            <a:off x="7020000" y="765000"/>
            <a:ext cx="57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96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A24-895E-4749-8CC1-3694D25D9D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98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6EC-1B9A-4216-BCD5-DE6D2F7E44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65240" y="1173240"/>
            <a:ext cx="5211720" cy="4511520"/>
          </a:xfrm>
          <a:prstGeom prst="rect">
            <a:avLst/>
          </a:prstGeom>
          <a:ln w="0">
            <a:noFill/>
          </a:ln>
        </p:spPr>
      </p:pic>
      <p:sp>
        <p:nvSpPr>
          <p:cNvPr id="100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20E-98AF-4350-9FBC-E8800F0494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Tandformule h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ijdelijke aanduiding voor inhoud 3" descr="Schermafbeelding 2014-01-26 om 12.02.21.png"/>
          <p:cNvPicPr/>
          <p:nvPr/>
        </p:nvPicPr>
        <p:blipFill>
          <a:blip r:embed="rId1"/>
          <a:srcRect l="-17752" t="0" r="-17752" b="0"/>
          <a:stretch/>
        </p:blipFill>
        <p:spPr>
          <a:xfrm>
            <a:off x="0" y="1628640"/>
            <a:ext cx="897732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4FFE-2B72-43C8-9A6D-C75198BB9C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Tandformule k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ijdelijke aanduiding voor inhoud 3" descr="Schermafbeelding 2014-01-26 om 12.03.06.png"/>
          <p:cNvPicPr/>
          <p:nvPr/>
        </p:nvPicPr>
        <p:blipFill>
          <a:blip r:embed="rId1"/>
          <a:srcRect l="-14447" t="0" r="-14447" b="0"/>
          <a:stretch/>
        </p:blipFill>
        <p:spPr>
          <a:xfrm>
            <a:off x="52560" y="1557360"/>
            <a:ext cx="9117000" cy="4825800"/>
          </a:xfrm>
          <a:prstGeom prst="rect">
            <a:avLst/>
          </a:prstGeom>
          <a:ln w="0">
            <a:noFill/>
          </a:ln>
        </p:spPr>
      </p:pic>
      <p:sp>
        <p:nvSpPr>
          <p:cNvPr id="59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CFC5-3342-48DA-8A3B-7733B33F24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Systeem van Tri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0" t="-49987" r="0" b="-49987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2C8-296B-448F-BC61-D5C10941AF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Systeem van Triadan H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Tijdelijke aanduiding voor inhoud 3" descr="triadan hond.jpeg"/>
          <p:cNvPicPr/>
          <p:nvPr/>
        </p:nvPicPr>
        <p:blipFill>
          <a:blip r:embed="rId1"/>
          <a:srcRect l="0" t="10287" r="0" b="10287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111-6B04-420B-A5EC-CB55F4DBBF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Een stukje latij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5BD-979A-4D3F-9A98-84C098F75F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47680" y="552600"/>
            <a:ext cx="8648640" cy="5752800"/>
          </a:xfrm>
          <a:prstGeom prst="rect">
            <a:avLst/>
          </a:prstGeom>
          <a:ln w="0">
            <a:noFill/>
          </a:ln>
        </p:spPr>
      </p:pic>
      <p:sp>
        <p:nvSpPr>
          <p:cNvPr id="70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B4A-85BA-4F1C-82E8-401260C1B4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9480" y="46080"/>
            <a:ext cx="7848720" cy="678024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dianumm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D3E6-F881-46D0-B46E-C4BA9BEE91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20:30:54Z</dcterms:created>
  <dc:creator>H W Hessel</dc:creator>
  <dc:description/>
  <dc:language>en-US</dc:language>
  <cp:lastModifiedBy>Mariska Baan -  van den Berg</cp:lastModifiedBy>
  <dcterms:modified xsi:type="dcterms:W3CDTF">2016-09-06T13:39:45Z</dcterms:modified>
  <cp:revision>10</cp:revision>
  <dc:subject/>
  <dc:title>PowerPoint-presentatie</dc:title>
</cp:coreProperties>
</file>