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48EF-552A-4EB3-A38F-E20E3FB4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5D8B-DCA3-45EA-AAAC-658480FD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25A5-19A8-4BF5-A55D-89E50C8C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D746-6710-40BE-BA02-4C9BF3BE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9140-7101-4B1A-8EED-839303C1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D508-DE40-4C7E-886A-410C2007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AA95-B0B0-48EE-B4DE-50802A54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54D1-97BD-4A0E-8308-8AAF92F1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290E-8503-4869-A573-460C7D64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F8A5-32E3-44F3-A477-E03F1695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5ABB-ECC0-4D06-A423-DA5FF037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F096-8D01-4D2D-A3C7-151CD24D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7D8C-5BD2-464A-A891-B6E370AF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2FC0-FF7D-48EE-B4DA-8640F3AF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11EF-1A80-48CC-9DED-C053755B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6EC2-56A1-4DC3-A38E-8BF3A918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8416-A2C6-425E-AE6D-268A5B18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71CDB-90F1-4316-846F-C69AE07E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1E70D-B9D2-4388-9CFD-857C18AE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7FCF8-36D7-4AE2-86F1-F03C9F1D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66B0C-806D-4B65-8D3A-C9581A7C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5DC5F-AF03-4877-986A-5DABAB47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31BB-457B-4CF4-8583-BA9CECBA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AE452-30DE-48F7-B27C-8D625819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C0D1F-FABA-460F-8C96-0728B18D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2D964-D66A-4E9F-86B7-CA4D4702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09333-205E-4B35-841F-0D666EB3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4070E-B4B5-464F-842C-FB6B6C5C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FC285-D246-44F2-9C2F-1B72455A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E96D4-B9C4-4C0C-95C6-02B81193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3C7C-459F-46F8-ADF5-64B64612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CE5-B417-4EDB-B663-B837A224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3000-3DEB-4A21-9776-CF15653A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8394-77BB-4198-979A-25BAE385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D964-E07E-4D6E-A362-AA93261F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1CAB-DCF8-449C-90CD-A3A88DFF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5C5E-A482-4B14-B543-19D98FA349E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5B07-030B-495F-A658-F4ABAEACB2C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4C94-A2CB-4D31-A1E4-7F342969F61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330033"/>
                </a:solidFill>
                <a:latin typeface="Times New Roman"/>
              </a:rPr>
              <a:t>Uitvoeren gewasbescherm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-25560" y="0"/>
            <a:ext cx="3668760" cy="1628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6227640" y="2970360"/>
            <a:ext cx="2916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ha e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e = 1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ha = 10.000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liters en ml (=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= 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per ha = 1000 ml per 10.0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liter per ha = 1000 ml per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 1 are is dat: (1/100 van 1000 ml =) 1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iters en kil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is 10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kilo is 1000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ml weegt ongeveer 1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weegt ongeveer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,5 ha moet een vloeibaar onkruidgewasbeschermingsmiddel worden toegediend. Op het etiket wordt een dose­ring van 3 liter per ha vermeld. De hoeveelheid water bij deze behandeling is 200 liter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middel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water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voetbalveld als de lengte 10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perceel als de lengte 15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1500 m² moet een vloeibaar ziektebestrijdingsmiddel worden toegediend in een opgaand gewas. De `dosering' (beter: meng­verhouding of concentratie) is volgens het etiket 50 ml middel per 100 liter water. De benodigde hoeveelheid spuitvloeistof is 20 liter per 100 m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water 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middel in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5 ha wordt een spuitpoeder toegepast tegen bladluizen. De dosering bedraagt 0,5 kg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kg middel moet in totaal afgewogen wo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t middel moet ook worden toegepast op een klein perc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is er voor dit perceel nodig, uitge­drukt in gram per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meter bij 25 meter moet een onkruidbestrijding worden uitgevoerd. Voor het uitrekenen van de beno­digde hoeveelheid middel en water moet je de oppervlakte w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oppervlakte van dit perce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m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. Bereken de hoeveelheid middel die voor deze bespuiting nodi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illi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hangt het van af of je de hoeveelheid uitdrukt in liters of in millili­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 en een hoeveelheid water van 200 liter per ha. Bereken de hoeveelheid water die voor de bespuiting nodig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Officiëel certifica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250920" y="1138320"/>
            <a:ext cx="8642160" cy="5753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914040" y="1600200"/>
            <a:ext cx="502596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perceel van 40 bij 25 meter moet een onkruidbe­strijding worden uitge­voerd. De dosering van het middel is 3 liter per ha en de hoeveelheid water 200 liter per ha. De bestrijding wordt uitgevoerd met een rugspuit die een tankinhoud heeft van 15 l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die nodig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n met 1 tankvulling worden volst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voor de eerste tank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voor de tweede tank­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eldspuit heeft een inhoud van 1000 liter. Hiermee wordt op een perceel een bespuiting uitgevoerd. Op het etiket wordt voor het middel een dosering van 5 liter per ha aangegeven. De hoeveelheid water per ha is 400 liter. Hoeveel middel moet worden gereed gemaakt voor 1 tankvu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wordt een bespuiting uitgevoerd. De dosering van het middel is 5 liter per ha. De hoeveel­heid water per ha is 400 liter. De tank moet voor de laatste omgang bijgevuld worden. Er is nog 100 liter spuitvloeistof in de tank. Er moet nog 2 ha gespoten worden. De noodzakelijke hoeveelheid rest­vloeistof is 25 l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 hoeveel water moet worden bijgevu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bietenperceel van 5 ha wordt een rijenbepuiting uitge­voerd. De rijenaf­stand is 50 cm. De te bespuiten strook is 20 cm. Gerekend naar een volveldsbe­spuiting zou 300 liter per ha worden verspoten worden en de dosering van het middel zou 5 liter per ha zijn. De noodzakelijke hoeveelheid restvloei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aagt 25 liter (De veldspuit heeft een tank van 1000 li­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spuitvloeistof moet er worden gereedgemaak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reken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De wet, welke we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gebruiker van gewasbeschermingsmiddelen is het goed om te weten dat er per oktober 2007 het een en ander is veranderd in de regelgeving. Op die datum is de nieuwe 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in werking getreden. Deze wet vervangt de Bestrijdingsmiddelenwet uit 19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800" spc="-1" strike="noStrike">
                <a:solidFill>
                  <a:srgbClr val="330033"/>
                </a:solidFill>
                <a:latin typeface="Times New Roman"/>
              </a:rPr>
              <a:t>Professionele en niet professionele gebruik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uwe wet maakt onderscheid tussen professionele en niet-professionele gebruikers van gewasbeschermings- middelen. Ook kent de wet een categorie middelen geschikt voor niet professioneel gebruik. Andere middelen mag u slechts ontvangen, voorhanden hebben of gebruiken als u een (professionele) gebruiker bent die een bewijs van vakbekwaamheid he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200" spc="-1" strike="noStrike" u="sng">
                <a:solidFill>
                  <a:srgbClr val="330033"/>
                </a:solidFill>
                <a:uFillTx/>
                <a:latin typeface="Times New Roman"/>
              </a:rPr>
              <a:t>Professionele gebruikers</a:t>
            </a: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Leveranciers en gebruikers van gewasbeschermingsmiddelen hebben een bewijs nodig van vakbekwaamheid (spuitlicenti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Het bewijs blijft 5 jaar geld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Verlenging is mogelijk door het volgen van verlengingscursuss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Niet-professionele gebruiker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professionele gebruikers hebben geen bewijs van vakbekwaamheid nod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 mogen ook maar een beperkt aantal middelen gebrui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melijk die middelen waarvan expliciet is aangegeven (op het etiket) dat ze geschikt zijn voor niet-professioneel ge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0033"/>
                </a:solidFill>
                <a:latin typeface="Times New Roman"/>
              </a:rPr>
              <a:t>Geïntegreerde bestrij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pli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wasbeschermingspla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zie bijlage 1) te maken. Dit is niet nieuw. Wel nieuw is dat elke gebruiker van gewasbeschermingsmiddelen zo’n plan moet maken, dus ook wanneer u alleen maar bijv.verharde oppervlakten bewe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plaats van de verplichting tot het bijhouden van een logboek moet u het gebruik van gewasbeschermingsmiddelen verantwoorden in uw administratie. U neemt daarin op welk middel u in welke hoeveelheid op welk perceel hebt gebruikt, wanneer u het middel heeft gekocht, van wie en in welke hoeveel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479520"/>
            <a:ext cx="914400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349200"/>
            <a:ext cx="916956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52280" y="1700280"/>
            <a:ext cx="8839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-30240" y="2454120"/>
            <a:ext cx="917424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Hoe kom je aan een licent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drijfsvoerder en de distribuant van gewasbeschermingsmiddelen over de nodige kennis beschik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men bepaalde cursussen met goed gevolg heeft doorlopen of bepaalde certificaten heeft behaald, kan men in het bezit komen van de wettelijk vereiste lice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Welke licenties zijn 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uit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heeft iedereen nodig die gewasbeschermings ­ 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bedrijfs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is bestemd voor de bedrijfsvoerder van een loonwerkbedrijf of bedrijf in de groenvoorziening die in opdracht van anderen gewas- beschermings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stribueren gewas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edere beheerder van een verkooppunt van gewasbeschermingsmiddelen moet deze licentie in zijn bezit heb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22:13Z</dcterms:created>
  <dc:creator>Administrator</dc:creator>
  <dc:description/>
  <dc:language>en-US</dc:language>
  <cp:lastModifiedBy>Dick van der Neut</cp:lastModifiedBy>
  <dcterms:modified xsi:type="dcterms:W3CDTF">2013-09-15T19:09:23Z</dcterms:modified>
  <cp:revision>6</cp:revision>
  <dc:subject/>
  <dc:title>Uitvoeren gewasbescherming</dc:title>
</cp:coreProperties>
</file>