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579F-6CBF-4A78-80C0-289CF606FE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NL" sz="1200" spc="-1" strike="noStrike">
                <a:solidFill>
                  <a:srgbClr val="000000"/>
                </a:solidFill>
                <a:latin typeface="Calibri"/>
              </a:rPr>
              <a:t>Stickygrammar.blogspot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715A-7387-4EDC-8F9D-FDCD8823F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251-DF21-45A1-AE33-44D978BF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920-5C36-4F17-9808-456909F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941-8EE3-4BAA-B563-6A6215F0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536-4D74-4735-88DC-9ABA06A8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1DD-D8E2-404B-9576-DEBEEADC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ABD-441D-453A-A59A-94D049F2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C45-1E9B-49BA-B5BC-4C1B73E5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97F-F043-45E2-BC85-8B8B4CF4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B5E-CEF4-4F0C-A126-E25BA169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3D1-3618-4F65-9015-49F1D83D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DD2-2876-4BD7-9E2F-FF5BC0FC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A44-C222-4FC0-AC28-1A8FCFF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3B5F-04C0-449E-B315-37EEE065EDB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/to-infinitive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136520"/>
          <a:ext cx="7488000" cy="523260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e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ongez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els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Smok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bad for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learn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speak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hou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loten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 taxi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ne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enjo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dan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decided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get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d u het erg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 te wacht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mind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waiting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 enjoy to 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uld you mind to w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decided getting 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’m learning speaking Du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2" descr="http://cdn.deepjapan.org/content/images/.user/_image1_1_Oj0YJg1411868031180.jpg"/>
          <p:cNvPicPr/>
          <p:nvPr/>
        </p:nvPicPr>
        <p:blipFill>
          <a:blip r:embed="rId1"/>
          <a:stretch/>
        </p:blipFill>
        <p:spPr>
          <a:xfrm>
            <a:off x="395280" y="530064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51" name="Vermenigvuldigen 6"/>
          <p:cNvSpPr/>
          <p:nvPr/>
        </p:nvSpPr>
        <p:spPr>
          <a:xfrm>
            <a:off x="2050920" y="5877000"/>
            <a:ext cx="217440" cy="21600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34348" y="69873"/>
                </a:moveTo>
                <a:lnTo>
                  <a:pt x="70123" y="33835"/>
                </a:lnTo>
                <a:lnTo>
                  <a:pt x="108744" y="72174"/>
                </a:lnTo>
                <a:lnTo>
                  <a:pt x="147365" y="33835"/>
                </a:lnTo>
                <a:lnTo>
                  <a:pt x="183140" y="69873"/>
                </a:lnTo>
                <a:lnTo>
                  <a:pt x="144783" y="107950"/>
                </a:lnTo>
                <a:lnTo>
                  <a:pt x="183140" y="146027"/>
                </a:lnTo>
                <a:lnTo>
                  <a:pt x="147365" y="182065"/>
                </a:lnTo>
                <a:lnTo>
                  <a:pt x="108744" y="143726"/>
                </a:lnTo>
                <a:lnTo>
                  <a:pt x="70123" y="182065"/>
                </a:lnTo>
                <a:lnTo>
                  <a:pt x="34348" y="146027"/>
                </a:lnTo>
                <a:lnTo>
                  <a:pt x="72705" y="107950"/>
                </a:lnTo>
                <a:lnTo>
                  <a:pt x="34348" y="69873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menigvuldigen 7"/>
          <p:cNvSpPr/>
          <p:nvPr/>
        </p:nvSpPr>
        <p:spPr>
          <a:xfrm>
            <a:off x="6732720" y="587700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menigvuldigen 8"/>
          <p:cNvSpPr/>
          <p:nvPr/>
        </p:nvSpPr>
        <p:spPr>
          <a:xfrm>
            <a:off x="291636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menigvuldigen 9"/>
          <p:cNvSpPr/>
          <p:nvPr/>
        </p:nvSpPr>
        <p:spPr>
          <a:xfrm>
            <a:off x="673272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"/>
          <p:cNvSpPr/>
          <p:nvPr/>
        </p:nvSpPr>
        <p:spPr>
          <a:xfrm>
            <a:off x="4572000" y="1319040"/>
            <a:ext cx="0" cy="49644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 or infinitives? So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09656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 (break)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en I’m home everyth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ems ________ (be)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‘Cause all of the stars, are fading away, jus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y ________ (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ry) you’ll see them some day. Take what you need and be on your wa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p ________ (cry) your heart o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Listen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_ (know) a secret. Do you promi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 (not/tell). Closer let me whisper in your ear say the words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 _________ (hear) I’m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’t help _________ (fall)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eep _________ (rol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Take my strong advice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member _________ always_________ (think) twi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Make my way back home when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 _________ (fly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But how can you complain, if it’s the way it’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ant _________ (b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ed my best _________ (feed) her appetite, Keep her coming every night, so hard to keep her satisfied. Kept playing love like it was just a game, pretending _________ (feel) the same. Then turn around and leave ag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/to-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love,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t _________ (share) it, it leaves you baby if you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n’t care for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ed _________ (live) in an old house, my mom gave bir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we were checking it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. The tiger’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iting _________ (be) tamed, sing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't mind _________ (spend) every day out on your corne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uring rain. Look for the girl with the broken smile, ask her if s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nts _________ (stay) awh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. Losing my relig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ying _________ (keep) up with you and 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know if I can do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 Today I don'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l like _________ (do) anything, I just want _________ (lay) in my bed. Don't feel like _________ (pick) up my phone, so leave a message at the tone 'cause today I swear I'm not doing anything. Nothing at 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’t stand _________ (lose)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 Sou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s _________ (spin) again, I can't stop _________ (feel). No, I won't stop _________ (feel) and the fun's not fun anymore I can't stop _________ (feel) No, I won't stop _________ (fee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ember _________ (let) her into your heart then you can start _________ (make) it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. I nev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t _________ (hurt) you, I never meant _________ (lie) so this is goodbye this is goodb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48:46Z</dcterms:created>
  <dc:creator>lbd</dc:creator>
  <dc:description/>
  <dc:language>en-US</dc:language>
  <cp:lastModifiedBy>Carola Lubberding</cp:lastModifiedBy>
  <dcterms:modified xsi:type="dcterms:W3CDTF">2015-03-17T07:19:25Z</dcterms:modified>
  <cp:revision>7</cp:revision>
  <dc:subject/>
  <dc:title>Dia 1</dc:title>
</cp:coreProperties>
</file>