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5EB-816C-4097-9697-F7BEE339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D4C-9FC0-4593-ADEB-D7E293EA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D2D-AE1F-4613-ADAB-27B5A006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B3A-3E7C-46B9-AFBD-4C1B3E35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16D-5941-46B2-B7F3-E81C29E5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190-7E9B-4F82-ABAF-2360D582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088-C18B-4489-BBF9-5B2C4340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8B3-8378-4673-9F4C-F514FE8E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A50-509D-42D7-B081-DFEECFA7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EAF-F15E-4920-AB57-20024ABE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A15-167C-47D3-870F-59592284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4C7-17F8-42B5-8D95-D8D8E75B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8513-005F-4913-A59D-45149A22CBC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rcRect l="0" t="0" r="2058" b="4973"/>
          <a:stretch/>
        </p:blipFill>
        <p:spPr>
          <a:xfrm>
            <a:off x="4535640" y="189000"/>
            <a:ext cx="4608360" cy="324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0" y="189000"/>
            <a:ext cx="447660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http://www.digitanis.com/wp-content/uploads/2011/11/psvspc.gif"/>
          <p:cNvPicPr/>
          <p:nvPr/>
        </p:nvPicPr>
        <p:blipFill>
          <a:blip r:embed="rId3"/>
          <a:stretch/>
        </p:blipFill>
        <p:spPr>
          <a:xfrm>
            <a:off x="2268360" y="3514680"/>
            <a:ext cx="42865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171880"/>
                <a:gridCol w="3485880"/>
                <a:gridCol w="348624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verb + 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irregular verb</a:t>
                      </a:r>
                      <a:r>
                        <a:rPr b="0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 –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g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/were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int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ouse yellow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year ago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Karen’s so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y brother came i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1800" spc="-1" strike="noStrike">
                          <a:solidFill>
                            <a:srgbClr val="fdeada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d fall in rugby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terd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m called her brother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y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ere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tch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which is FINISH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that happened BEFORE something else happened in the pa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’s usually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n indicator of the 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re’s </a:t>
                      </a:r>
                      <a:r>
                        <a:rPr b="0" i="1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usually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an indicator of the past tense AND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rd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‘while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you see these words, it’s automatically this tens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week, a year ago, in June, yesterday,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hthoek 1"/>
          <p:cNvSpPr/>
          <p:nvPr/>
        </p:nvSpPr>
        <p:spPr>
          <a:xfrm>
            <a:off x="250920" y="1341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______ a film when the telephone ______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______ television when someone ______ on the door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______ while I ______ to put on its leash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______ the car when he ______ the garage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______ home when the accident ______ 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______ a game, but when Mark ______ we ______ 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ACTICE: Now let’s show what 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 1"/>
          <p:cNvSpPr/>
          <p:nvPr/>
        </p:nvSpPr>
        <p:spPr>
          <a:xfrm>
            <a:off x="250920" y="1341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film when the teleph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ra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evision when some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knock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 the door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bark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le I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tri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 put on its leash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repair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 car when h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enter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he garage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driv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me when the accident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happen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ere play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game, but when Mark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cheat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stopp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5:09:38Z</dcterms:created>
  <dc:creator>Gebruiker</dc:creator>
  <dc:description/>
  <dc:language>en-US</dc:language>
  <cp:lastModifiedBy>Gebruiker</cp:lastModifiedBy>
  <dcterms:modified xsi:type="dcterms:W3CDTF">2013-10-20T19:07:31Z</dcterms:modified>
  <cp:revision>15</cp:revision>
  <dc:subject/>
  <dc:title>Dia 1</dc:title>
</cp:coreProperties>
</file>