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0000-731C-4CFF-AC96-85B2AF726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5FE5-2604-4A3B-BF3D-50564E8E4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4A73-9B2A-4763-8FB1-F4FF2D541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8550-3B33-4439-BD8D-473D16CFC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5524-65AC-40B1-9D69-ABB874C25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357D-11D7-40C2-A47C-37AE2970A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3474-781D-4CAD-9EA9-88E6604C4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0C06-FA39-4F5B-9622-6DD7A0732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0374-C735-49C0-8C5E-3734782D6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AB53-709D-44D5-83C8-00E93246B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FDB8-18CC-48F7-A066-F47E432B9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C799-B8C4-4576-AB8E-A07C93C46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21942-C4CE-4E85-AA91-B5D85C8E0C27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24000" y="333360"/>
          <a:ext cx="8496000" cy="6264360"/>
        </p:xfrm>
        <a:graphic>
          <a:graphicData uri="http://schemas.openxmlformats.org/drawingml/2006/table">
            <a:tbl>
              <a:tblPr/>
              <a:tblGrid>
                <a:gridCol w="1698480"/>
                <a:gridCol w="1700280"/>
                <a:gridCol w="1698480"/>
                <a:gridCol w="1700280"/>
                <a:gridCol w="1698480"/>
              </a:tblGrid>
              <a:tr h="598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perlatives (overtreffende trap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8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SYLL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Één lettergree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U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  <a:tr h="71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AT</a:t>
                      </a:r>
                      <a:r>
                        <a:rPr b="1" lang="nl-NL" sz="18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AT</a:t>
                      </a:r>
                      <a:r>
                        <a:rPr b="1" lang="nl-NL" sz="18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  <a:tr h="4860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9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TWO SYLLABLES</a:t>
                      </a:r>
                      <a:br>
                        <a:rPr sz="1800"/>
                      </a:b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lettergrepen of mee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U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</a:tr>
              <a:tr h="838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I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ORE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I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OST </a:t>
                      </a:r>
                      <a:br>
                        <a:rPr sz="1800"/>
                      </a:b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I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</a:tr>
              <a:tr h="485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440"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E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T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S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</a:tr>
              <a:tr h="4856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</a:tr>
              <a:tr h="486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N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NI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179280" y="476280"/>
          <a:ext cx="8713800" cy="4876920"/>
        </p:xfrm>
        <a:graphic>
          <a:graphicData uri="http://schemas.openxmlformats.org/drawingml/2006/table">
            <a:tbl>
              <a:tblPr/>
              <a:tblGrid>
                <a:gridCol w="1743120"/>
                <a:gridCol w="1741680"/>
                <a:gridCol w="1743120"/>
                <a:gridCol w="1742760"/>
                <a:gridCol w="1743120"/>
              </a:tblGrid>
              <a:tr h="5144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mparativ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U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 …. 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re… th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st…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1812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me isn’t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 big as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Madr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me is </a:t>
                      </a:r>
                      <a:r>
                        <a:rPr b="1" i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autif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me is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re beautiful than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o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me is the most beautiful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city in Ita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81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am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old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Li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sa is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llig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am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r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ntelligent than Li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st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ntelligent girl in class is Susan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1T18:35:21Z</dcterms:created>
  <dc:creator>Gebruiker</dc:creator>
  <dc:description/>
  <dc:language>en-US</dc:language>
  <cp:lastModifiedBy>Gebruiker</cp:lastModifiedBy>
  <dcterms:modified xsi:type="dcterms:W3CDTF">2013-09-01T19:10:43Z</dcterms:modified>
  <cp:revision>4</cp:revision>
  <dc:subject/>
  <dc:title>Dia 1</dc:title>
</cp:coreProperties>
</file>