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4CF4-E99D-4857-9CAB-5C401015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6E5-1089-489F-A79C-05A7A4BD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617-61E0-41D1-B684-4EA2E5B2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754F-576D-48A5-8E69-9B6DE94F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0CB-9B70-46E6-9666-445684EA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DB1-9569-4D92-BC9B-8988C615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C43-EA8F-42DB-90C3-7C512F7F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323-A832-4B93-8659-45ED6692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A84-208C-4B80-9E60-D42B9645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2ED-4A08-405B-8CFA-7333D144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11A-1060-4A00-89D9-0D11B2FA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4A5-95FD-46C7-981E-A7670C9F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5AD8-6EDC-4832-8B92-3B09D7D591C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052640"/>
          <a:ext cx="8569080" cy="5626080"/>
        </p:xfrm>
        <a:graphic>
          <a:graphicData uri="http://schemas.openxmlformats.org/drawingml/2006/table">
            <a:tbl>
              <a:tblPr/>
              <a:tblGrid>
                <a:gridCol w="1638000"/>
                <a:gridCol w="3875400"/>
                <a:gridCol w="305568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period of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--|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lowed by a specific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 --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have lived in Den Bosch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years and then we moved to O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loved football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was four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don’t live in Den Bosch any more (for 2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still love foot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5 ye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uration=5 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09 (starting point =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39528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r and since with the present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23:25Z</dcterms:created>
  <dc:creator>Gebruiker</dc:creator>
  <dc:description/>
  <dc:language>en-US</dc:language>
  <cp:lastModifiedBy>Gebruiker</cp:lastModifiedBy>
  <dcterms:modified xsi:type="dcterms:W3CDTF">2013-09-01T19:11:12Z</dcterms:modified>
  <cp:revision>2</cp:revision>
  <dc:subject/>
  <dc:title>Dia 1</dc:title>
</cp:coreProperties>
</file>