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973-983B-422C-B9DF-BAA041EF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F1B-53A1-4C83-BBC8-BEBD179B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B43-0E20-445A-BB24-B214C8E1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7D0-A97C-49A9-AA03-FCA863CA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D83-90BC-4EC7-BDF3-DCCD2858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E9A-7720-4A27-B955-576BD1FD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275-D3AC-41EC-8909-36325BF3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AB1-E1F5-4613-8FDE-A6955C7B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B5F-769A-447A-9F4D-E20D3F6E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CF4-43FE-44A3-BEC3-C4C035BB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51F-03B6-4320-95AF-AD93D673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EC0-60A6-45AE-BFF4-D553377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E460-FF0A-4F2F-8F0E-1ABB335ED12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7 TB p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1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2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6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9: </a:t>
            </a:r>
            <a:r>
              <a:rPr b="1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Think of a question to test how loyal people are. Use the vocabulary of exercise 7 in the textbook. Work with your neighbour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E.g.  (exempli gratia – for exam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You get on well with your new classmate sitting next to you. The popular boy/girl in the class asks if you’d like to sit next to her/him. Do you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y ‘yes’ immediately and ignore the other classmate from now 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eel happy with the request, but keep sitting next to your classmate anywa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k your other classmate if he/she’s ok with you changing sea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4 WB p. 14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159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2484360" y="155736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kstvak 4"/>
          <p:cNvSpPr/>
          <p:nvPr/>
        </p:nvSpPr>
        <p:spPr>
          <a:xfrm>
            <a:off x="5364000" y="162864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al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hit i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cl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acquain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friends ar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veryday English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xercise 5 Wb p. 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2. ….th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3. As a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att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f f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4. that’s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. How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uld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6. Th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n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the bet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3"/>
          <p:cNvSpPr/>
          <p:nvPr/>
        </p:nvSpPr>
        <p:spPr>
          <a:xfrm>
            <a:off x="4572000" y="1557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That’s n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ow could yo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… th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As a matter of 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The sooner the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5:27:08Z</dcterms:created>
  <dc:creator>Gebruiker</dc:creator>
  <dc:description/>
  <dc:language>en-US</dc:language>
  <cp:lastModifiedBy>Gebruiker</cp:lastModifiedBy>
  <dcterms:modified xsi:type="dcterms:W3CDTF">2013-11-10T19:39:14Z</dcterms:modified>
  <cp:revision>32</cp:revision>
  <dc:subject/>
  <dc:title>Exercise 7 TB p. 21</dc:title>
</cp:coreProperties>
</file>