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61B-E2C1-4899-B7C1-FC41AE14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9D0-343D-42A4-B1F9-1CEDCB24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E09-195D-44F7-A523-FB0B500E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D69-55A5-4888-9A7A-9426CBB1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91B-E0C8-484A-BD05-8126E45D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54F-F1FD-4CAC-95B3-FE4D8F0D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FF4-3BF6-497C-8DE0-FB9F08D9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097-654A-46F8-AFAB-CDD921D2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EE8-8E91-4D79-BEB4-0C194480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E35-3542-4C41-B764-0BC46351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AF0-0FF9-41F7-8607-B4048FAD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35A-044E-4208-AD38-B703F086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0327-3BB6-40E4-A021-F19B1F49031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629920" cy="6264360"/>
        </p:xfrm>
        <a:graphic>
          <a:graphicData uri="http://schemas.openxmlformats.org/drawingml/2006/table">
            <a:tbl>
              <a:tblPr/>
              <a:tblGrid>
                <a:gridCol w="862992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exercise 2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walki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ear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strange noi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ooke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p, some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on the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, every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la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en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oke up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ly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hospital b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a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bell, a nurse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talk to 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nurse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talk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ell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love with he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4000" y="152280"/>
          <a:ext cx="8820000" cy="651672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65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 exercise 2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We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me problem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ppen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Well,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sing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ourth song, all the lights suddenly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ut!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o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ights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ack on, I realised my microphone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n’t working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So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guys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ere fix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icrophone, the band played on and I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tart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inging aga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A p. 12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look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for my tennis balls,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n old sandwich under my b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y parents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m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back, we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hav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par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open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or, they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danc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 the da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is girl’s phone number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clean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your ro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were wait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, w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start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o write inv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teach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gym class </a:t>
            </a: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hear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bout the plane cra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omeon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ll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on your mobile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tak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g for a wal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WHEN: past simp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hile: past continu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B p. 13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travell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- 2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ca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ring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– 4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notic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5. Sh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ick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up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6. The next time the phon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rang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– 7.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same th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next time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n’t move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9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answer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0. Every time David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hon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 – 11. 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wen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o sit next to the phon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nl-NL" sz="27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it wasn’t David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stay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where she w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20:15:08Z</dcterms:created>
  <dc:creator>Gebruiker</dc:creator>
  <dc:description/>
  <dc:language>en-US</dc:language>
  <cp:lastModifiedBy>Gebruiker</cp:lastModifiedBy>
  <dcterms:modified xsi:type="dcterms:W3CDTF">2013-11-10T15:47:07Z</dcterms:modified>
  <cp:revision>14</cp:revision>
  <dc:subject/>
  <dc:title>Dia 1</dc:title>
</cp:coreProperties>
</file>