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7FB-6E29-4F46-A909-4C6DD8C5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899-3025-484E-B5AD-BC8A0C7D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2C82-3DFD-44BD-9A62-CFC47996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842-7984-4B1D-A9CF-4AADE291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1FE-D335-454F-B38F-FCF6FCDA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CAE-63EE-471D-82C6-771F4580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889-93D8-46B7-9AD9-1B5A09E7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927-436F-489C-BD6A-123233AC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40F-71FA-4F1F-9A68-7E155881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8B5-4C96-40C7-8421-F14FEB29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CF3-25E3-4D72-B807-6B68CB2A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2EC-FC76-4B93-B0AE-A9A7E3C3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D6D2-274D-4247-8523-AB9FD2AB402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oun suffixes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95280" y="1123920"/>
          <a:ext cx="8280360" cy="475308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E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8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es a j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 and 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44" name="Tekstvak 4"/>
          <p:cNvSpPr/>
          <p:nvPr/>
        </p:nvSpPr>
        <p:spPr>
          <a:xfrm>
            <a:off x="3952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oun Suffixes (achtervoegsels bij zelfstandige naamwoor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58:36Z</dcterms:created>
  <dc:creator>Gebruiker</dc:creator>
  <dc:description/>
  <dc:language>en-US</dc:language>
  <cp:lastModifiedBy>Gebruiker</cp:lastModifiedBy>
  <dcterms:modified xsi:type="dcterms:W3CDTF">2013-09-01T19:09:48Z</dcterms:modified>
  <cp:revision>2</cp:revision>
  <dc:subject/>
  <dc:title>Noun suffixes </dc:title>
</cp:coreProperties>
</file>