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CED-4AA2-4636-BD85-2E2509A6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528-7D2C-4669-AAB0-25C02BAD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E04-CAB4-46DF-A425-7ADC98F7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3C7-3452-4142-AA36-7D6F506E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285-8E60-4BCA-B48A-0814A9DD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441-FA94-42AB-86AD-39B30270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80E-78A5-4732-B0DA-59D614F6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5C9-3A5D-4BAD-8003-B20D0300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C6C-23C0-4F79-9AFC-9F2F3A11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56E-4781-4B1C-B534-34C1E22F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FD28-CFDE-4A3E-8EF1-1B2B439D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6A3-5ACC-4290-9D63-EA5C4216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1C10-7415-4684-B41C-A152AA45F9B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33360"/>
          <a:ext cx="8496000" cy="6264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598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erlatives (overtreffende tra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Één lettergr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86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TWO SYLLABLE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ettergrepen of m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 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485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79280" y="476280"/>
          <a:ext cx="8713800" cy="487692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14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….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…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n’t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big 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 than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the most beautifu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ity in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ld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a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li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than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girl in class is Sus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5:21Z</dcterms:created>
  <dc:creator>Gebruiker</dc:creator>
  <dc:description/>
  <dc:language>en-US</dc:language>
  <cp:lastModifiedBy>Gebruiker</cp:lastModifiedBy>
  <dcterms:modified xsi:type="dcterms:W3CDTF">2013-09-01T19:10:43Z</dcterms:modified>
  <cp:revision>4</cp:revision>
  <dc:subject/>
  <dc:title>Dia 1</dc:title>
</cp:coreProperties>
</file>