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4E2-4542-4C4B-BDAE-E3AC33CB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4A8-1185-45F7-8733-2DA3B55A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8EA-7FF7-4752-A615-B4A4DDBB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44C-4EE1-4CD9-BAA5-6436263F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791-8DED-4C2B-A096-02BE3FB9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523-F672-4DE7-A0D3-3D2BE922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B4D-AFF5-4C3C-AEFF-0C659CBF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F71-7006-4F8B-AC1D-56ED7B78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871-FD4E-41D0-9E6D-3F8F3C5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121-6E1A-4D37-AF10-45E8374B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099-45DC-45A1-BB64-0B429FD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2FD-789B-40DF-A6F1-EE11FDDA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446-4861-4AEB-8D98-19B81E2B35B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7 TB p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1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2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9: </a:t>
            </a:r>
            <a:r>
              <a:rPr b="1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Think of a question to test how loyal people are. Use the vocabulary of exercise 7 in the textbook. Work with your neighbou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E.g.  (exempli gratia – for exam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You get on well with your new classmate sitting next to you. The popular boy/girl in the class asks if you’d like to sit next to her/him. Do you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y ‘yes’ immediately and ignore the other classmate from now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el happy with the request, but keep sitting next to your classmate any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k your other classmate if he/she’s ok with you changing sea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4 WB p. 14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59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2484360" y="155736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4"/>
          <p:cNvSpPr/>
          <p:nvPr/>
        </p:nvSpPr>
        <p:spPr>
          <a:xfrm>
            <a:off x="5364000" y="162864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hit i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acquain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friends ar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veryday English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xercise 5 Wb p. 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2. ….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3. As a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f f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4. that’s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. How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uld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6. Th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n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the bet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4572000" y="1557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That’s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ow could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… th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As a matter of 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The sooner the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5:27:08Z</dcterms:created>
  <dc:creator>Gebruiker</dc:creator>
  <dc:description/>
  <dc:language>en-US</dc:language>
  <cp:lastModifiedBy>Gebruiker</cp:lastModifiedBy>
  <dcterms:modified xsi:type="dcterms:W3CDTF">2013-11-10T19:39:14Z</dcterms:modified>
  <cp:revision>32</cp:revision>
  <dc:subject/>
  <dc:title>Exercise 7 TB p. 21</dc:title>
</cp:coreProperties>
</file>