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705-85EE-4663-9885-98E80B60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DC8-D14A-4BF6-8BC9-90756F17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18C-9970-48D2-9FC5-EFA0F496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3A2-4747-4456-93B4-0F4AC77D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197-B219-4986-A3C0-38F38C58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A22-D154-468F-BC22-D43C2B13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FF3-4337-4265-AD2F-083231F8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BB7-4B11-4823-B4A6-898F3CCA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CF8-6C77-4D07-8537-28BF386A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885-45E6-445D-B425-1D4109C3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BB8-784F-495D-9BD4-78A56E8F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A7D-A790-4772-98A3-5390E10C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204C-A862-4813-9C2B-F9870D94CAC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260280"/>
          <a:ext cx="8629920" cy="6264360"/>
        </p:xfrm>
        <a:graphic>
          <a:graphicData uri="http://schemas.openxmlformats.org/drawingml/2006/table">
            <a:tbl>
              <a:tblPr/>
              <a:tblGrid>
                <a:gridCol w="862992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exercise 2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walki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ear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strange noi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ooke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p, some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on the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, every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la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en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oke up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ly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hospital b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a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bell, a nurse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talk to 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nurse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talk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fell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love with he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24000" y="152280"/>
          <a:ext cx="8820000" cy="651672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65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 exercise 2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We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me problem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ppen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Well,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sing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ourth song, all the lights suddenly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ut!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o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ights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ack on, I realised my microphone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n’t working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So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guys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ere fix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icrophone, the band played on and I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tart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inging aga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A p. 12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look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for my tennis balls,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n old sandwich under my b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y parents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m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back, we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hav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part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open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or, they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danc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n the da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is girl’s phone number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clean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your ro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were wait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, w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start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o write invit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teach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gym class </a:t>
            </a: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hear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bout the plane cras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omeon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ll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on your mobile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tak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g for a wal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WHEN: past simp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hile: past continu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B p. 13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travell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- 2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ca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ring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– 4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notic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5. Sh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ick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up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6. The next time the phon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rang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– 7.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he same th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next time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n’t move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9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answer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0. Every time David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hon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 – 11. 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wen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o sit next to the phon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lang="nl-NL" sz="27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it wasn’t David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stay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where she wa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20:15:08Z</dcterms:created>
  <dc:creator>Gebruiker</dc:creator>
  <dc:description/>
  <dc:language>en-US</dc:language>
  <cp:lastModifiedBy>Gebruiker</cp:lastModifiedBy>
  <dcterms:modified xsi:type="dcterms:W3CDTF">2013-11-10T15:47:07Z</dcterms:modified>
  <cp:revision>14</cp:revision>
  <dc:subject/>
  <dc:title>Dia 1</dc:title>
</cp:coreProperties>
</file>