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6880-405B-4675-A6B2-287F1CAE7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6CB5-9BB0-4BA2-9E8A-BD2E00D16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6194-FB45-4A13-AF01-9333825E3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57BE-8A0A-404F-A835-8B4C742C9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F4CF-8D0D-4CC1-B3DE-1091E0DFC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83BE-30B7-45C4-8100-180E9E2AE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B677-61C0-4847-A03C-82274C532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C006-2361-46DC-B786-4B5B2408C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D65E-BFED-4BA3-B10C-108A5575C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857F-7C87-4562-B081-501DC49D7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F60D-3D6D-4A3E-BA6B-97867802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AACC-1776-4F8E-87F2-5EA7B0F0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02AEE-A44C-4BB5-A645-BB2B2F6CE1C7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alternativeteaching.files.wordpress.com/2013/06/546682_457833490923207_576466024_n.jpg"/>
          <p:cNvPicPr/>
          <p:nvPr/>
        </p:nvPicPr>
        <p:blipFill>
          <a:blip r:embed="rId1"/>
          <a:stretch/>
        </p:blipFill>
        <p:spPr>
          <a:xfrm>
            <a:off x="395280" y="0"/>
            <a:ext cx="8569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0" y="0"/>
          <a:ext cx="9144000" cy="6773760"/>
        </p:xfrm>
        <a:graphic>
          <a:graphicData uri="http://schemas.openxmlformats.org/drawingml/2006/table">
            <a:tbl>
              <a:tblPr/>
              <a:tblGrid>
                <a:gridCol w="2411280"/>
                <a:gridCol w="3684600"/>
                <a:gridCol w="304812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A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L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837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th specific nouns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y goodby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y a pray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y sor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y thank yo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y it out lou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y it ag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’d say…. (ik zou zeggen dat…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th other specific nouns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l a l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l a jok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l a st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l the dif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l someone off (become angry with someon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l the tr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l a secr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1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You say someth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You tell someone someth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ex 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aid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he was ti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out 90% of what we 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ay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sn’t spoken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meone’s body language 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tells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u how they are feeling.</a:t>
                      </a:r>
                      <a:br>
                        <a:rPr sz="1800"/>
                      </a:b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ex 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told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me he was tired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UTCH EQUIVAL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eg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telle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T TE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l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2T14:23:33Z</dcterms:created>
  <dc:creator>Gebruiker</dc:creator>
  <dc:description/>
  <dc:language>en-US</dc:language>
  <cp:lastModifiedBy>Gebruiker</cp:lastModifiedBy>
  <dcterms:modified xsi:type="dcterms:W3CDTF">2013-09-22T14:36:32Z</dcterms:modified>
  <cp:revision>4</cp:revision>
  <dc:subject/>
  <dc:title>Dia 1</dc:title>
</cp:coreProperties>
</file>