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030-8706-40DB-B904-540907EC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327-C658-474D-91FC-97A59342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F56-E76C-4677-B768-12EBB49C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940-8421-406B-B87C-B7C91489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500-31F8-4546-B1AC-8C2F26E6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5FED-FB35-47B5-9562-8DB49D35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F047-1E31-4F91-968E-BF8DD38D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ED28-D829-404A-AE49-B7D1B702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21F7-DE45-44E1-80DA-04CEA491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990-D90E-47A1-AA48-DD598E04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F66-9D0B-4D8D-B9C5-9159C0B1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712-8795-415D-8B50-6823B546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0ECB-EC69-49A5-9611-E40A1B4A9FF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oun suffixes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95280" y="1123920"/>
          <a:ext cx="8280360" cy="4753080"/>
        </p:xfrm>
        <a:graphic>
          <a:graphicData uri="http://schemas.openxmlformats.org/drawingml/2006/table">
            <a:tbl>
              <a:tblPr/>
              <a:tblGrid>
                <a:gridCol w="2070000"/>
                <a:gridCol w="2070360"/>
                <a:gridCol w="2070000"/>
                <a:gridCol w="207000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E 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8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es a j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 and 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44" name="Tekstvak 4"/>
          <p:cNvSpPr/>
          <p:nvPr/>
        </p:nvSpPr>
        <p:spPr>
          <a:xfrm>
            <a:off x="3952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oun Suffixes (achtervoegsels bij zelfstandige naamwoor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58:36Z</dcterms:created>
  <dc:creator>Gebruiker</dc:creator>
  <dc:description/>
  <dc:language>en-US</dc:language>
  <cp:lastModifiedBy>Gebruiker</cp:lastModifiedBy>
  <dcterms:modified xsi:type="dcterms:W3CDTF">2013-09-01T19:09:48Z</dcterms:modified>
  <cp:revision>2</cp:revision>
  <dc:subject/>
  <dc:title>Noun suffixes </dc:title>
</cp:coreProperties>
</file>