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E1B8-6AC0-4274-9270-0FF75A19F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697B-1E0C-4FB6-816C-E6075DF5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8CEF-0B8E-408C-BD40-C4C036935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C408-AA08-419A-87FF-A5A191310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7560-FDC2-49BC-B185-12C2B839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DFC3-E275-4AA2-AE38-D8FC6B06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8806-832B-4116-AF7A-7A961259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1163-009B-4C62-8A07-A6511916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2F28-045F-405E-B835-4FEA4544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E97A-60E4-4706-809E-D2557586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B4D0-A232-41C2-A743-C5301BA9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42FD-CE41-4D1E-B902-79D39284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40E2-DE24-4BBA-9F59-4413007EFF44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Past simple past perfect answers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TB p. 20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3178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5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ad done, had been, hadn’t killed, had hidden, had sav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 use the past simple to talk about an event that took place at a particular time in the pa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 use the past perfect when we need to make clean that an event took place BEFORE another past event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kstvak 3"/>
          <p:cNvSpPr/>
          <p:nvPr/>
        </p:nvSpPr>
        <p:spPr>
          <a:xfrm>
            <a:off x="3708360" y="1557360"/>
            <a:ext cx="504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5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hen Mike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arrived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t the station, the train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lef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he programme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finished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when Tessa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turned on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the T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hen they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go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home, the dog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eaten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their stea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verybody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gone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me when they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go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to the part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xercise 5D TB p. 20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ai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w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didn’t retur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have ha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too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arriv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foun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had escap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had me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di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xercises 3a/3b/3c WB p.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600200"/>
            <a:ext cx="130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3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kstvak 3"/>
          <p:cNvSpPr/>
          <p:nvPr/>
        </p:nvSpPr>
        <p:spPr>
          <a:xfrm>
            <a:off x="1835280" y="1628640"/>
            <a:ext cx="3168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ealise, had le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ad, had m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dn’t know, had said, was cr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got, had star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sn’t working, had forgot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aw, had,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kstvak 4"/>
          <p:cNvSpPr/>
          <p:nvPr/>
        </p:nvSpPr>
        <p:spPr>
          <a:xfrm>
            <a:off x="5724360" y="1628640"/>
            <a:ext cx="3419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. h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4. b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5. 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6. 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7. ha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8. be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9. 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10. d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11. w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16:34:32Z</dcterms:created>
  <dc:creator>Gebruiker</dc:creator>
  <dc:description/>
  <dc:language>en-US</dc:language>
  <cp:lastModifiedBy>Gebruiker</cp:lastModifiedBy>
  <dcterms:modified xsi:type="dcterms:W3CDTF">2013-11-10T16:51:34Z</dcterms:modified>
  <cp:revision>2</cp:revision>
  <dc:subject/>
  <dc:title>Dia 1</dc:title>
</cp:coreProperties>
</file>