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0DE-C79B-4383-917F-2CDBC6DB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F09-AD52-442D-958A-0A65EFDB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77E7-DB76-4626-A0A0-91F36CCC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9C9D-33FE-407C-A450-181C34FE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86B8-E300-4E74-8517-DA037266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A7E4-2465-440B-8F22-DAD511EE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261-DA7D-4618-8E74-4EF95897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188A-0EAA-4F62-AB26-01BAE46A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E6A9-0840-40A2-A5BB-2799E0E4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9EAE-C273-47CC-BB3C-8DFA3D12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3BEE-0ABB-430B-958A-B81B7762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E7F2-240E-483E-98B7-706E885D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9B20-6FA7-4784-B272-E51FE39C494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7 TB p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exercise 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1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2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4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5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6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Exercise 9: </a:t>
            </a:r>
            <a:r>
              <a:rPr b="1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 Think of a question to test how loyal people are. Use the vocabulary of exercise 7 in the textbook. Work with your neighbour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E.g.  (exempli gratia – for exam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You get on well with your new classmate sitting next to you. The popular boy/girl in the class asks if you’d like to sit next to her/him. Do you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ay ‘yes’ immediately and ignore the other classmate from now 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feel happy with the request, but keep sitting next to your classmate anywa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sk your other classmate if he/she’s ok with you changing sea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4 WB p. 14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159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. 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.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5.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6.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kstvak 3"/>
          <p:cNvSpPr/>
          <p:nvPr/>
        </p:nvSpPr>
        <p:spPr>
          <a:xfrm>
            <a:off x="2484360" y="1557360"/>
            <a:ext cx="266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.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 . 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5.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kstvak 4"/>
          <p:cNvSpPr/>
          <p:nvPr/>
        </p:nvSpPr>
        <p:spPr>
          <a:xfrm>
            <a:off x="5364000" y="1628640"/>
            <a:ext cx="324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2. al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m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hit it o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cl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7. acquain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8. friends ar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Everyday English: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Exercise 5 Wb p. 1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23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5a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2. ….th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3. As a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matter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of fa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4. that’s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new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5. How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uld 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you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6. The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sooner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the bet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3"/>
          <p:cNvSpPr/>
          <p:nvPr/>
        </p:nvSpPr>
        <p:spPr>
          <a:xfrm>
            <a:off x="4572000" y="1557360"/>
            <a:ext cx="41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2. That’s n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How could you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… th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As a matter of f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The sooner the be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5:27:08Z</dcterms:created>
  <dc:creator>Gebruiker</dc:creator>
  <dc:description/>
  <dc:language>en-US</dc:language>
  <cp:lastModifiedBy>Gebruiker</cp:lastModifiedBy>
  <dcterms:modified xsi:type="dcterms:W3CDTF">2013-11-10T19:39:14Z</dcterms:modified>
  <cp:revision>32</cp:revision>
  <dc:subject/>
  <dc:title>Exercise 7 TB p. 21</dc:title>
</cp:coreProperties>
</file>