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DC64-D04D-4D64-846F-1A0E019C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08F6-08AA-42D8-9555-EF94C532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DBE4-5A19-474B-8254-995F83AB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B407-24A1-480D-8283-BBF6F060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64A-BAFC-4BCA-922A-D260C49E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7422-19B2-4FC2-A505-6C954942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326D-3B1A-409A-B148-BE34131F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9606-9014-45BB-98A8-97EE05FB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2310-F1F0-4E16-A2CE-0A010148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8634-373F-44F9-A3BF-8C562945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FD6B-3012-4479-B839-3E35BC12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2A61-1074-4CAA-96D6-56BD6393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BA2D-6B7B-40F0-9AF5-D41A117A26F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9280" y="260280"/>
          <a:ext cx="8629920" cy="6264360"/>
        </p:xfrm>
        <a:graphic>
          <a:graphicData uri="http://schemas.openxmlformats.org/drawingml/2006/table">
            <a:tbl>
              <a:tblPr/>
              <a:tblGrid>
                <a:gridCol w="862992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swers TB p. 19 exercise 2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ile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0" lang="nl-NL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 walking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eard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strange noi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looked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p, something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it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 on the hea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 soon as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thing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it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, everything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went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lac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en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woke up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I </a:t>
                      </a:r>
                      <a:r>
                        <a:rPr b="0" lang="nl-NL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 lying 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a hospital b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 soon as 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rang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bell, a nurse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ame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talk to 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ile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nurse </a:t>
                      </a:r>
                      <a:r>
                        <a:rPr b="0" lang="nl-NL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 talking 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e, 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fell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love with her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24000" y="152280"/>
          <a:ext cx="8820000" cy="6516720"/>
        </p:xfrm>
        <a:graphic>
          <a:graphicData uri="http://schemas.openxmlformats.org/drawingml/2006/table">
            <a:tbl>
              <a:tblPr/>
              <a:tblGrid>
                <a:gridCol w="8820000"/>
              </a:tblGrid>
              <a:tr h="651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swers TB p. 19  exercise 2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We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ad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ome problem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What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appened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Well, </a:t>
                      </a:r>
                      <a:r>
                        <a:rPr b="0" lang="nl-NL" sz="3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0" lang="nl-NL" sz="3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 singing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fourth song, all the lights suddenly </a:t>
                      </a:r>
                      <a:br>
                        <a:rPr sz="3000"/>
                      </a:b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)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went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ut!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What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id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you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o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</a:t>
                      </a:r>
                      <a:r>
                        <a:rPr b="0" lang="nl-NL" sz="3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 soon as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lights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ame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ack on, I realised my microphone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) </a:t>
                      </a:r>
                      <a:r>
                        <a:rPr b="0" lang="nl-NL" sz="3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n’t working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So </a:t>
                      </a:r>
                      <a:r>
                        <a:rPr b="0" lang="nl-NL" sz="3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ile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guys </a:t>
                      </a:r>
                      <a:br>
                        <a:rPr sz="3000"/>
                      </a:b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) </a:t>
                      </a:r>
                      <a:r>
                        <a:rPr b="0" lang="nl-NL" sz="3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ere fixing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icrophone, the band played on and I </a:t>
                      </a:r>
                      <a:br>
                        <a:rPr sz="3000"/>
                      </a:b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)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started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inging agai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B exercise 1A p. 12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as look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for my tennis balls, I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foun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an old sandwich under my b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y parents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cam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back, we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ere hav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 part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open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the door, they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ere danc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n the dar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foun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this girl’s phone number </a:t>
            </a:r>
            <a:r>
              <a:rPr b="1" lang="nl-NL" sz="25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as clean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your roo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e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 were waiting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, we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start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to write invit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as teach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 gym class </a:t>
            </a:r>
            <a:r>
              <a:rPr b="1" lang="nl-NL" sz="25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hear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about the plane cras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omeone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call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you on your mobile </a:t>
            </a:r>
            <a:r>
              <a:rPr b="1" lang="nl-NL" sz="25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you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ere taking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the dog for a wal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WHEN: past simp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hile: past continu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B exercise 1B p. 13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nl-NL" sz="2700" spc="-1" strike="noStrike">
                <a:solidFill>
                  <a:srgbClr val="ff0000"/>
                </a:solidFill>
                <a:latin typeface="Calibri"/>
              </a:rPr>
              <a:t>while + was travelling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- 2. His mother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cam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nl-NL" sz="2700" spc="-1" strike="noStrike">
                <a:solidFill>
                  <a:srgbClr val="ff0000"/>
                </a:solidFill>
                <a:latin typeface="Calibri"/>
              </a:rPr>
              <a:t>While + was ringing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– 4. his mother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notic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5. She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picke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up the phon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6. The next time the phone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rang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– 7. Godzilla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did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he same thing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But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the next time, Godzilla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didn’t move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9. His mother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answere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the phon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0. Every time David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phone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,  – 11.  Godzilla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went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to sit next to the phon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2. </a:t>
            </a:r>
            <a:r>
              <a:rPr b="1" lang="nl-NL" sz="27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it wasn’t David, Godzilla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staye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where she wa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20:15:08Z</dcterms:created>
  <dc:creator>Gebruiker</dc:creator>
  <dc:description/>
  <dc:language>en-US</dc:language>
  <cp:lastModifiedBy>Gebruiker</cp:lastModifiedBy>
  <dcterms:modified xsi:type="dcterms:W3CDTF">2013-11-10T15:47:07Z</dcterms:modified>
  <cp:revision>14</cp:revision>
  <dc:subject/>
  <dc:title>Dia 1</dc:title>
</cp:coreProperties>
</file>