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45D4-C527-4A03-9FF2-D90AB331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6B08-EE4C-4641-B290-30638EE2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3704-7A95-4D2B-8605-B783B049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026C-1F1D-473F-8F39-914801A7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E531-CD79-4BCC-AC89-BD368123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ADD7-F761-41E1-A4D4-2FD758DE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4184-0E72-4863-9094-35803F38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FD6F-D952-427A-B3D6-122EF174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02B3-61E6-43D4-AC48-28B4DB55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11DB-E243-46B8-80D9-455F01F0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A9CF-3A6D-4BD1-9E05-D655719B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51AD-EFAF-4D85-811B-C5B38208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71FA-7EDF-4643-A91E-EE62B4FF477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oun suffixes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95280" y="1123920"/>
          <a:ext cx="8280360" cy="4753080"/>
        </p:xfrm>
        <a:graphic>
          <a:graphicData uri="http://schemas.openxmlformats.org/drawingml/2006/table">
            <a:tbl>
              <a:tblPr/>
              <a:tblGrid>
                <a:gridCol w="2070000"/>
                <a:gridCol w="2070360"/>
                <a:gridCol w="2070000"/>
                <a:gridCol w="207000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SE 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 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8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es a jo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52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uns from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l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uns from verbs and ad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44" name="Tekstvak 4"/>
          <p:cNvSpPr/>
          <p:nvPr/>
        </p:nvSpPr>
        <p:spPr>
          <a:xfrm>
            <a:off x="395280" y="476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oun Suffixes (achtervoegsels bij zelfstandige naamwoor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58:36Z</dcterms:created>
  <dc:creator>Gebruiker</dc:creator>
  <dc:description/>
  <dc:language>en-US</dc:language>
  <cp:lastModifiedBy>Gebruiker</cp:lastModifiedBy>
  <dcterms:modified xsi:type="dcterms:W3CDTF">2013-09-01T19:09:48Z</dcterms:modified>
  <cp:revision>2</cp:revision>
  <dc:subject/>
  <dc:title>Noun suffixes </dc:title>
</cp:coreProperties>
</file>