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352-A5A0-4F8B-8658-41D82058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803-C877-4F88-B585-61211672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ED9-20DF-48A0-B9C8-4D3CA5D6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A7A-1AC8-40A8-9A2A-5E3F86E5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DE8-1563-4A21-8F95-2C2CC37D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092-A0B7-4660-B7F8-AFD4ED3A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506-8BF4-41A6-80EE-BE0C25EC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047-E5DB-4789-84C8-0E05E497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AF6-3B37-4041-B25C-5FD5AF02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F71-FFC4-4381-8823-4AD2C16A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DA8-1685-44CE-81C9-CDE7C4A3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DDD-6B50-4FCD-AE37-7E02C74B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33D5-19FF-468F-9F81-E2D8567BE59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t simple past perfect answer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B p. 20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178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d done, had been, hadn’t killed, had hidden, had sa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simple to talk about an event that took place at a particular time in the pa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perfect when we need to make clean that an event took place BEFORE another past even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3708360" y="155736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Mike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arrived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t the station, the train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lef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finished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when Tessa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turned o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home, the dog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eat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ir st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rybody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gon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me 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o the par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5D TB p. 20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w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n’t retu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ve h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rri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escap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m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s 3a/3b/3c WB p.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130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3"/>
          <p:cNvSpPr/>
          <p:nvPr/>
        </p:nvSpPr>
        <p:spPr>
          <a:xfrm>
            <a:off x="1835280" y="1628640"/>
            <a:ext cx="316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alise, had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d, had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dn’t know, had said, was c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ot, had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n’t working, had forgo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aw, had,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4"/>
          <p:cNvSpPr/>
          <p:nvPr/>
        </p:nvSpPr>
        <p:spPr>
          <a:xfrm>
            <a:off x="5724360" y="1628640"/>
            <a:ext cx="34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b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ha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9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0.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1.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6:34:32Z</dcterms:created>
  <dc:creator>Gebruiker</dc:creator>
  <dc:description/>
  <dc:language>en-US</dc:language>
  <cp:lastModifiedBy>Gebruiker</cp:lastModifiedBy>
  <dcterms:modified xsi:type="dcterms:W3CDTF">2013-11-10T16:51:34Z</dcterms:modified>
  <cp:revision>2</cp:revision>
  <dc:subject/>
  <dc:title>Dia 1</dc:title>
</cp:coreProperties>
</file>