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D9AF-49D3-4F31-8BAE-D1795EAE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1D22-3CC9-41EE-A826-AA3B2443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072B-9F4C-45BC-829B-25C20AE1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B62-11AA-4E0F-BA66-48ECEAAD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8E3A-23AA-46C5-8D9D-883C0A54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170E-5F6A-47B0-8786-FF08D636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F693-CC49-4198-97F9-28D998FB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5322-543D-4FA3-847D-D9F6C8FC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1B9-9C41-42A8-BDCB-5B7CF099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A8A8-EDAE-4D10-B040-ED01E2A6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4C7-A935-4208-9A63-D118DDCD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600E-3714-4C98-BA8A-816ACFC0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31E1-BDB4-48D2-AAF4-9A30ED89870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st simple past perfect answer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B p. 20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3178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d done, had been, hadn’t killed, had hidden, had sa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simple to talk about an event that took place at a particular time in the pa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perfect when we need to make clean that an event took place BEFORE another past even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kstvak 3"/>
          <p:cNvSpPr/>
          <p:nvPr/>
        </p:nvSpPr>
        <p:spPr>
          <a:xfrm>
            <a:off x="3708360" y="1557360"/>
            <a:ext cx="50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Mike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arrived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t the station, the train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lef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he programme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finished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when Tessa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turned o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 T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home, the dog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eate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ir st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verybody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gone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me 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o the par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5D TB p. 20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w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n’t retur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ve h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oo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rriv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fou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escap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m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s 3a/3b/3c WB p.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130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3"/>
          <p:cNvSpPr/>
          <p:nvPr/>
        </p:nvSpPr>
        <p:spPr>
          <a:xfrm>
            <a:off x="1835280" y="1628640"/>
            <a:ext cx="316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alise, had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ad, had 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dn’t know, had said, was cr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ot, had sta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sn’t working, had forgot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aw, had,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4"/>
          <p:cNvSpPr/>
          <p:nvPr/>
        </p:nvSpPr>
        <p:spPr>
          <a:xfrm>
            <a:off x="5724360" y="1628640"/>
            <a:ext cx="341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h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b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7. ha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8. be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9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0. d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1. w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6:34:32Z</dcterms:created>
  <dc:creator>Gebruiker</dc:creator>
  <dc:description/>
  <dc:language>en-US</dc:language>
  <cp:lastModifiedBy>Gebruiker</cp:lastModifiedBy>
  <dcterms:modified xsi:type="dcterms:W3CDTF">2013-11-10T16:51:34Z</dcterms:modified>
  <cp:revision>2</cp:revision>
  <dc:subject/>
  <dc:title>Dia 1</dc:title>
</cp:coreProperties>
</file>