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FFA7-99E6-4D69-8A31-FAB97F2C9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93AD-8817-4F98-99E4-EBD153E11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2904-01B7-414A-A0C1-AAEF87A06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5F89-6516-4C02-BD9A-5783A561A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7F8A-F05E-4001-BDEA-0A1ED68DD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7654-67E6-4BCD-AD7C-260B69B8B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BB7A-1138-49E0-9C37-8024FBDDF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745D-F640-4F34-A141-F3F6A3161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54B2-3B91-4942-9307-ECC11CBA5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F76D-2858-4ABE-82C6-1C5049C92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86A4-9AB4-474F-9F28-801FD8CF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13C3-B5EA-4120-90D3-97D2F3E30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6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9D70F-6636-4109-88F5-D47381782A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Present Simple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use  the </a:t>
            </a:r>
            <a:r>
              <a:rPr b="0" lang="en-GB" sz="2800" spc="-1" strike="noStrike">
                <a:solidFill>
                  <a:srgbClr val="ff0066"/>
                </a:solidFill>
                <a:latin typeface="Arial"/>
              </a:rPr>
              <a:t>Present Simp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for things which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e always true, or are true for a long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66"/>
                </a:solidFill>
                <a:latin typeface="Arial"/>
              </a:rPr>
              <a:t>He goes to work by b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e a habit. (They are true sometimes, always, usually etc……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66"/>
                </a:solidFill>
                <a:latin typeface="Arial"/>
              </a:rPr>
              <a:t>I usually have dinner at 6 o’clo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66"/>
                </a:solidFill>
                <a:latin typeface="Arial"/>
              </a:rPr>
              <a:t>She sometimes drinks coff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98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98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98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br>
              <a:rPr sz="4000"/>
            </a:br>
            <a:r>
              <a:rPr b="0" lang="en-GB" sz="4000" spc="-1" strike="noStrike">
                <a:solidFill>
                  <a:srgbClr val="009999"/>
                </a:solidFill>
                <a:latin typeface="Arial"/>
              </a:rPr>
              <a:t>Negative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2411280" y="1600200"/>
          <a:ext cx="4105440" cy="4199040"/>
        </p:xfrm>
        <a:graphic>
          <a:graphicData uri="http://schemas.openxmlformats.org/drawingml/2006/table">
            <a:tbl>
              <a:tblPr/>
              <a:tblGrid>
                <a:gridCol w="4105440"/>
              </a:tblGrid>
              <a:tr h="118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Text Box 24"/>
          <p:cNvSpPr/>
          <p:nvPr/>
        </p:nvSpPr>
        <p:spPr>
          <a:xfrm>
            <a:off x="2195640" y="1844640"/>
            <a:ext cx="41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I’</a:t>
            </a:r>
            <a:r>
              <a:rPr b="1" lang="en-GB" sz="3600" spc="-1" strike="noStrike">
                <a:solidFill>
                  <a:srgbClr val="009999"/>
                </a:solidFill>
                <a:latin typeface="Times New Roman"/>
              </a:rPr>
              <a:t>m  not 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work</a:t>
            </a:r>
            <a:r>
              <a:rPr b="1" lang="en-GB" sz="3600" spc="-1" strike="noStrike">
                <a:solidFill>
                  <a:srgbClr val="009999"/>
                </a:solidFill>
                <a:latin typeface="Times New Roman"/>
              </a:rPr>
              <a:t>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27"/>
          <p:cNvSpPr/>
          <p:nvPr/>
        </p:nvSpPr>
        <p:spPr>
          <a:xfrm>
            <a:off x="2556000" y="2781360"/>
            <a:ext cx="381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he  </a:t>
            </a: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isn’t wor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9"/>
          <p:cNvSpPr/>
          <p:nvPr/>
        </p:nvSpPr>
        <p:spPr>
          <a:xfrm>
            <a:off x="2463840" y="4241880"/>
            <a:ext cx="4124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You  </a:t>
            </a: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aren’t working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9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9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‘to work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50920" y="1600200"/>
          <a:ext cx="8893080" cy="4525920"/>
        </p:xfrm>
        <a:graphic>
          <a:graphicData uri="http://schemas.openxmlformats.org/drawingml/2006/table">
            <a:tbl>
              <a:tblPr/>
              <a:tblGrid>
                <a:gridCol w="2913120"/>
                <a:gridCol w="3147840"/>
                <a:gridCol w="283212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m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am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work</a:t>
                      </a:r>
                      <a:r>
                        <a:rPr b="1" lang="en-GB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g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</a:t>
                      </a:r>
                      <a:r>
                        <a:rPr b="1" lang="en-GB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m not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</a:t>
                      </a:r>
                      <a:r>
                        <a:rPr b="1" lang="en-GB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’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’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’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s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work</a:t>
                      </a:r>
                      <a:r>
                        <a:rPr b="1" lang="en-GB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g?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</a:t>
                      </a:r>
                      <a:r>
                        <a:rPr b="1" lang="en-GB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isn’t work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’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re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are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work</a:t>
                      </a:r>
                      <a:r>
                        <a:rPr b="1" lang="en-GB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g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</a:t>
                      </a:r>
                      <a:r>
                        <a:rPr b="1" lang="en-GB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aren’t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</a:t>
                      </a:r>
                      <a:r>
                        <a:rPr b="1" lang="en-GB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ositive </a:t>
            </a: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476360" y="1600200"/>
          <a:ext cx="5975280" cy="4592520"/>
        </p:xfrm>
        <a:graphic>
          <a:graphicData uri="http://schemas.openxmlformats.org/drawingml/2006/table">
            <a:tbl>
              <a:tblPr/>
              <a:tblGrid>
                <a:gridCol w="5975280"/>
              </a:tblGrid>
              <a:tr h="148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 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m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I’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m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s            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He’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s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She’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s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It’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re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we’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re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you’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re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 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re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they’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Question </a:t>
            </a:r>
            <a:br>
              <a:rPr sz="2800"/>
            </a:br>
            <a:r>
              <a:rPr b="1" lang="en-GB" sz="3200" spc="-1" strike="noStrike">
                <a:solidFill>
                  <a:srgbClr val="3366ff"/>
                </a:solidFill>
                <a:latin typeface="Arial"/>
              </a:rPr>
              <a:t>?  </a:t>
            </a:r>
            <a:r>
              <a:rPr b="1" lang="en-GB" sz="2400" spc="-1" strike="noStrike">
                <a:solidFill>
                  <a:srgbClr val="9966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2627280" y="1600200"/>
          <a:ext cx="3529080" cy="4740120"/>
        </p:xfrm>
        <a:graphic>
          <a:graphicData uri="http://schemas.openxmlformats.org/drawingml/2006/table">
            <a:tbl>
              <a:tblPr/>
              <a:tblGrid>
                <a:gridCol w="3529080"/>
              </a:tblGrid>
              <a:tr h="150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  </a:t>
                      </a: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am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wear</a:t>
                      </a: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g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s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 wear</a:t>
                      </a: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g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Are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wear</a:t>
                      </a: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g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egative  </a:t>
            </a:r>
            <a:r>
              <a:rPr b="1" lang="en-GB" sz="4400" spc="-1" strike="noStrike">
                <a:solidFill>
                  <a:srgbClr val="00cc00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187280" y="1600200"/>
          <a:ext cx="7056720" cy="4592520"/>
        </p:xfrm>
        <a:graphic>
          <a:graphicData uri="http://schemas.openxmlformats.org/drawingml/2006/table">
            <a:tbl>
              <a:tblPr/>
              <a:tblGrid>
                <a:gridCol w="7056720"/>
              </a:tblGrid>
              <a:tr h="148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 am</a:t>
                      </a:r>
                      <a:r>
                        <a:rPr b="1" lang="en-GB" sz="2800" spc="-1" strike="noStrike">
                          <a:solidFill>
                            <a:srgbClr val="00ff99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not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ng   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’m not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                               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s not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ng  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sn’t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                                  i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                               we   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are not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ng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aren’t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ng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                              th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57200" y="1413000"/>
          <a:ext cx="8291520" cy="4627440"/>
        </p:xfrm>
        <a:graphic>
          <a:graphicData uri="http://schemas.openxmlformats.org/drawingml/2006/table">
            <a:tbl>
              <a:tblPr/>
              <a:tblGrid>
                <a:gridCol w="2743200"/>
                <a:gridCol w="3100320"/>
                <a:gridCol w="2448000"/>
              </a:tblGrid>
              <a:tr h="161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m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  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m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wear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m 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not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’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    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s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wear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sn’t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’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re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   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re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wear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ren’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      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Present Continuou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use the </a:t>
            </a: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Present Continuou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for things whi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e happening </a:t>
            </a:r>
            <a:r>
              <a:rPr b="0" lang="en-GB" sz="3200" spc="-1" strike="noStrike" u="sng">
                <a:solidFill>
                  <a:srgbClr val="ff0066"/>
                </a:solidFill>
                <a:uFillTx/>
                <a:latin typeface="Arial"/>
              </a:rPr>
              <a:t>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It’s raining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 in the </a:t>
            </a:r>
            <a:r>
              <a:rPr b="0" lang="en-GB" sz="3200" spc="-1" strike="noStrike" u="sng">
                <a:solidFill>
                  <a:srgbClr val="ff0066"/>
                </a:solidFill>
                <a:uFillTx/>
                <a:latin typeface="Arial"/>
              </a:rPr>
              <a:t>near futur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I’m going home at 9o’cloc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98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98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98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98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98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98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 Continuous 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‘</a:t>
            </a: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to work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e usually </a:t>
            </a: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______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 London.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is week he’ </a:t>
            </a: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________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t home.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3059280" y="2708280"/>
            <a:ext cx="146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3492360" y="3860640"/>
            <a:ext cx="239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66"/>
                </a:solidFill>
                <a:latin typeface="Times New Roman"/>
              </a:rPr>
              <a:t>s work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 Continuous/Present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 usually wear trousers to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oday ……………..a dr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2195640" y="2708280"/>
            <a:ext cx="275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66"/>
                </a:solidFill>
                <a:latin typeface="Times New Roman"/>
              </a:rPr>
              <a:t>I’m wearing</a:t>
            </a:r>
            <a:r>
              <a:rPr b="1" lang="en-GB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 Simple or Present Continuo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‘</a:t>
            </a: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to rain’</a:t>
            </a:r>
            <a:br>
              <a:rPr sz="3200"/>
            </a:b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t often ______ in win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___________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2340000" y="3213000"/>
            <a:ext cx="181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rai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1116000" y="4365720"/>
            <a:ext cx="304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It’s rai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9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 Continuous or Present Sim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to speak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e _______ good Engli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oday, he __________ Germ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1547640" y="2708280"/>
            <a:ext cx="268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spea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2700360" y="386064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’</a:t>
            </a: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s spe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9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9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 Continuous or Present Sim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to work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e usually _______ in Lond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oday, he _________ at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3132000" y="2708280"/>
            <a:ext cx="196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2700360" y="388152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’</a:t>
            </a: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s wor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9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9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br>
              <a:rPr sz="4000"/>
            </a:br>
            <a:r>
              <a:rPr b="1" lang="en-GB" sz="4000" spc="-1" strike="noStrike">
                <a:solidFill>
                  <a:srgbClr val="ff0066"/>
                </a:solidFill>
                <a:latin typeface="Arial"/>
              </a:rPr>
              <a:t>Positive 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411280" y="1600200"/>
          <a:ext cx="4032360" cy="4606920"/>
        </p:xfrm>
        <a:graphic>
          <a:graphicData uri="http://schemas.openxmlformats.org/drawingml/2006/table">
            <a:tbl>
              <a:tblPr/>
              <a:tblGrid>
                <a:gridCol w="4032360"/>
              </a:tblGrid>
              <a:tr h="108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</a:t>
                      </a:r>
                      <a:r>
                        <a:rPr b="1" lang="en-GB" sz="3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m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</a:t>
                      </a:r>
                      <a:r>
                        <a:rPr b="1" lang="en-GB" sz="3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’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Text Box 25"/>
          <p:cNvSpPr/>
          <p:nvPr/>
        </p:nvSpPr>
        <p:spPr>
          <a:xfrm>
            <a:off x="3704760" y="3213000"/>
            <a:ext cx="225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s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work</a:t>
            </a: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28"/>
          <p:cNvSpPr/>
          <p:nvPr/>
        </p:nvSpPr>
        <p:spPr>
          <a:xfrm>
            <a:off x="4142160" y="5013360"/>
            <a:ext cx="232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re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work</a:t>
            </a: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br>
              <a:rPr sz="4000"/>
            </a:br>
            <a:r>
              <a:rPr b="1" lang="en-GB" sz="4000" spc="-1" strike="noStrike">
                <a:solidFill>
                  <a:srgbClr val="3366ff"/>
                </a:solidFill>
                <a:latin typeface="Arial"/>
              </a:rPr>
              <a:t>Question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484360" y="1600200"/>
          <a:ext cx="4319640" cy="4270320"/>
        </p:xfrm>
        <a:graphic>
          <a:graphicData uri="http://schemas.openxmlformats.org/drawingml/2006/table">
            <a:tbl>
              <a:tblPr/>
              <a:tblGrid>
                <a:gridCol w="4319640"/>
              </a:tblGrid>
              <a:tr h="125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GB" sz="32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am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  work</a:t>
                      </a:r>
                      <a:r>
                        <a:rPr b="1" lang="en-GB" sz="32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g?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Text Box 28"/>
          <p:cNvSpPr/>
          <p:nvPr/>
        </p:nvSpPr>
        <p:spPr>
          <a:xfrm>
            <a:off x="2627280" y="2781360"/>
            <a:ext cx="381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Times New Roman"/>
              </a:rPr>
              <a:t>i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she   </a:t>
            </a:r>
            <a:r>
              <a:rPr b="1" lang="en-GB" sz="3200" spc="-1" strike="noStrike">
                <a:solidFill>
                  <a:srgbClr val="0066ff"/>
                </a:solidFill>
                <a:latin typeface="Times New Roman"/>
              </a:rPr>
              <a:t>work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627280" y="4365720"/>
            <a:ext cx="42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Times New Roman"/>
              </a:rPr>
              <a:t>are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1" lang="en-GB" sz="3200" spc="-1" strike="noStrike">
                <a:solidFill>
                  <a:srgbClr val="0066ff"/>
                </a:solidFill>
                <a:latin typeface="Times New Roman"/>
              </a:rPr>
              <a:t>work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Times New Roman"/>
              </a:rPr>
              <a:t>    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9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7T22:43:26Z</dcterms:created>
  <dc:creator>Carola Lubberding</dc:creator>
  <dc:description/>
  <dc:language>en-US</dc:language>
  <cp:lastModifiedBy>lbd</cp:lastModifiedBy>
  <dcterms:modified xsi:type="dcterms:W3CDTF">2013-08-27T07:03:25Z</dcterms:modified>
  <cp:revision>26</cp:revision>
  <dc:subject/>
  <dc:title>EFL Resource</dc:title>
</cp:coreProperties>
</file>