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EB80-158B-4E44-B304-A3AFB3DE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4B46-E994-477D-9BD3-8BEB9EEB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B8DE-A97D-4462-8071-F508A628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115-1772-4107-95DC-9F2B7C22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932-3D81-428F-B7C4-F3EB9FD2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0D3C-147F-4A8F-B788-E91F474B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208-DDD3-4BB8-ADC9-5B06FF57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BDC-12D0-492A-8774-9CA65E54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91E8-4597-4AC6-822D-9A389122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F176-2C88-4C3E-8875-C079757F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77F1-251F-4229-B655-B4BCD9FF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0BD-408F-4E0D-A6F7-52B47662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E842-8DBF-46FD-9126-A63ACA860D7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413000"/>
          <a:ext cx="8461080" cy="5110200"/>
        </p:xfrm>
        <a:graphic>
          <a:graphicData uri="http://schemas.openxmlformats.org/drawingml/2006/table">
            <a:tbl>
              <a:tblPr/>
              <a:tblGrid>
                <a:gridCol w="1677960"/>
                <a:gridCol w="3962160"/>
                <a:gridCol w="282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-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erb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la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isten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classical mus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want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o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me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ll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back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hes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nj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an’t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(don’t)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ud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ut I </a:t>
                      </a:r>
                      <a:r>
                        <a:rPr b="1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hope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lawyer someda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25092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rund versus the to-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01:51Z</dcterms:created>
  <dc:creator>Gebruiker</dc:creator>
  <dc:description/>
  <dc:language>en-US</dc:language>
  <cp:lastModifiedBy>Gebruiker</cp:lastModifiedBy>
  <dcterms:modified xsi:type="dcterms:W3CDTF">2013-09-01T19:11:41Z</dcterms:modified>
  <cp:revision>4</cp:revision>
  <dc:subject/>
  <dc:title>Dia 1</dc:title>
</cp:coreProperties>
</file>