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FE6A-4954-42AD-9330-A1C175A05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C9C1-0AE0-49E8-85F9-4E78C996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0367-9ECA-49CA-B4E6-4ECE11862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004C-B4E5-45F2-87AC-B1AA58B1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E235-6004-4E4B-B27B-373C402B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BBFC-057D-4B21-9502-FBE9685C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41CD-61FE-4884-B94A-1AF814AE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546A-AC27-4EB4-9F58-3900A7F3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0B5E-6F32-4BAE-8BD7-9F9784D3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1E1B-3D4E-4C29-9A6F-4E12A441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E25E-47A2-47ED-B6A5-EBCF91D4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8A4F-0C66-4F4A-A1BF-920C3C63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18AB-25BB-4CF4-89E0-256D8F28B3FA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 7 TB p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980640"/>
            <a:ext cx="8964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exercise 7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1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2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4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5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6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Exercise 9: </a:t>
            </a:r>
            <a:r>
              <a:rPr b="1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 Think of a question to test how loyal people are. Use the vocabulary of exercise 7 in the textbook. Work with your neighbour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E.g.  (exempli gratia – for examp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You get on well with your new classmate sitting next to you. The popular boy/girl in the class asks if you’d like to sit next to her/him. Do you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ay ‘yes’ immediately and ignore the other classmate from now 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feel happy with the request, but keep sitting next to your classmate anywa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sk your other classmate if he/she’s ok with you changing seat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 4 WB p. 14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600200"/>
            <a:ext cx="159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. 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. 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. 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5.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6.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kstvak 3"/>
          <p:cNvSpPr/>
          <p:nvPr/>
        </p:nvSpPr>
        <p:spPr>
          <a:xfrm>
            <a:off x="2484360" y="1557360"/>
            <a:ext cx="266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. 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.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 . 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5.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kstvak 4"/>
          <p:cNvSpPr/>
          <p:nvPr/>
        </p:nvSpPr>
        <p:spPr>
          <a:xfrm>
            <a:off x="5364000" y="1628640"/>
            <a:ext cx="324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4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2. al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. ma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4. hit it o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5. cl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6. m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7. acquain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8. friends ar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Everyday English: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Exercise 5 Wb p. 1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23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5a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2. ….th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3. As a 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matter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 of fa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4. that’s 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new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5. How 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could 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you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6. The 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sooner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 the bet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kstvak 3"/>
          <p:cNvSpPr/>
          <p:nvPr/>
        </p:nvSpPr>
        <p:spPr>
          <a:xfrm>
            <a:off x="4572000" y="1557360"/>
            <a:ext cx="417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5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2. That’s ne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. How could you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4. … th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5. As a matter of f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6. The sooner the bet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5:27:08Z</dcterms:created>
  <dc:creator>Gebruiker</dc:creator>
  <dc:description/>
  <dc:language>en-US</dc:language>
  <cp:lastModifiedBy>Gebruiker</cp:lastModifiedBy>
  <dcterms:modified xsi:type="dcterms:W3CDTF">2013-11-10T19:39:14Z</dcterms:modified>
  <cp:revision>32</cp:revision>
  <dc:subject/>
  <dc:title>Exercise 7 TB p. 21</dc:title>
</cp:coreProperties>
</file>