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C97E-6D20-45D8-9A4F-7D74F3A102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nl-NL" sz="1200" spc="-1" strike="noStrike">
                <a:solidFill>
                  <a:srgbClr val="000000"/>
                </a:solidFill>
                <a:latin typeface="Calibri"/>
              </a:rPr>
              <a:t>Stickygrammar.blogspot.c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9775-C66D-4CBF-9527-3CB12704F0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2D8C-5632-4F91-8C17-F28EB784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315-ACD8-4554-9FA3-593228D2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61D-FB6F-40CA-A3D9-A618C788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7B3-F393-4C16-AB50-21DE3CAF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297-8273-44AB-8BED-B07C1E49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47F-A027-4B81-B901-A182EC49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A2B-6DAF-4FBB-9EF1-2D26DEF5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530E-B4A0-4F4B-9F35-ED65F87A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C3A-1619-46E1-B19E-1CD1C446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FC3-34CA-480F-88AE-9004CDEC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45A-AA59-42E7-8708-BD375696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CF2-33DF-410A-811B-D1A66D28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88C7-1D3D-4DF2-9BB2-6285C09A392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/to-infinitive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1136520"/>
          <a:ext cx="7488000" cy="5232600"/>
        </p:xfrm>
        <a:graphic>
          <a:graphicData uri="http://schemas.openxmlformats.org/drawingml/2006/table">
            <a:tbl>
              <a:tblPr/>
              <a:tblGrid>
                <a:gridCol w="3744720"/>
                <a:gridCol w="3743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e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ongez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gels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Smok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bad for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learn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speak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houd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loten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 taxi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ne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enjoy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danc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decided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get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d u het erg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 te wachte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you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mind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waiting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 enjoy to 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uld you mind to wa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e decided getting 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’m learning speaking Du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2" descr="http://cdn.deepjapan.org/content/images/.user/_image1_1_Oj0YJg1411868031180.jpg"/>
          <p:cNvPicPr/>
          <p:nvPr/>
        </p:nvPicPr>
        <p:blipFill>
          <a:blip r:embed="rId1"/>
          <a:stretch/>
        </p:blipFill>
        <p:spPr>
          <a:xfrm>
            <a:off x="395280" y="5300640"/>
            <a:ext cx="971640" cy="982800"/>
          </a:xfrm>
          <a:prstGeom prst="rect">
            <a:avLst/>
          </a:prstGeom>
          <a:ln w="0">
            <a:noFill/>
          </a:ln>
        </p:spPr>
      </p:pic>
      <p:sp>
        <p:nvSpPr>
          <p:cNvPr id="51" name="Vermenigvuldigen 6"/>
          <p:cNvSpPr/>
          <p:nvPr/>
        </p:nvSpPr>
        <p:spPr>
          <a:xfrm>
            <a:off x="2050920" y="5877000"/>
            <a:ext cx="217440" cy="21600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34348" y="69873"/>
                </a:moveTo>
                <a:lnTo>
                  <a:pt x="70123" y="33835"/>
                </a:lnTo>
                <a:lnTo>
                  <a:pt x="108744" y="72174"/>
                </a:lnTo>
                <a:lnTo>
                  <a:pt x="147365" y="33835"/>
                </a:lnTo>
                <a:lnTo>
                  <a:pt x="183140" y="69873"/>
                </a:lnTo>
                <a:lnTo>
                  <a:pt x="144783" y="107950"/>
                </a:lnTo>
                <a:lnTo>
                  <a:pt x="183140" y="146027"/>
                </a:lnTo>
                <a:lnTo>
                  <a:pt x="147365" y="182065"/>
                </a:lnTo>
                <a:lnTo>
                  <a:pt x="108744" y="143726"/>
                </a:lnTo>
                <a:lnTo>
                  <a:pt x="70123" y="182065"/>
                </a:lnTo>
                <a:lnTo>
                  <a:pt x="34348" y="146027"/>
                </a:lnTo>
                <a:lnTo>
                  <a:pt x="72705" y="107950"/>
                </a:lnTo>
                <a:lnTo>
                  <a:pt x="34348" y="69873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Vermenigvuldigen 7"/>
          <p:cNvSpPr/>
          <p:nvPr/>
        </p:nvSpPr>
        <p:spPr>
          <a:xfrm>
            <a:off x="6732720" y="587700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Vermenigvuldigen 8"/>
          <p:cNvSpPr/>
          <p:nvPr/>
        </p:nvSpPr>
        <p:spPr>
          <a:xfrm>
            <a:off x="291636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Vermenigvuldigen 9"/>
          <p:cNvSpPr/>
          <p:nvPr/>
        </p:nvSpPr>
        <p:spPr>
          <a:xfrm>
            <a:off x="673272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"/>
          <p:cNvSpPr/>
          <p:nvPr/>
        </p:nvSpPr>
        <p:spPr>
          <a:xfrm>
            <a:off x="4572000" y="1319040"/>
            <a:ext cx="0" cy="49644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 or infinitives? So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920" y="1096560"/>
            <a:ext cx="885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 (break) fre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When I’m home everyth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ems ________ (be) r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‘Cause all of the stars, are fading away, jus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y ________ (no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ry) you’ll see them some day. Take what you need and be on your way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op ________ (cry) your heart ou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Listen do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_ (know) a secret. Do you promi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 (not/tell). Closer let me whisper in your ear say the words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 _________ (hear) I’m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n’t help _________ (fall)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eep _________ (roll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Take my strong advice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member _________ always_________ (think) twi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Make my way back home when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 _________ (fly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But how can you complain, if it’s the way it’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ant _________ (b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ied my best _________ (feed) her appetite, Keep her coming every night, so hard to keep her satisfied. Kept playing love like it was just a game, pretending _________ (feel) the same. Then turn around and leave aga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/to-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love,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t _________ (share) it, it leaves you baby if you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n’t care for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.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ed _________ (live) in an old house, my mom gave birt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we were checking it ou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. The tiger’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iting _________ (be) tamed, sing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n't mind _________ (spend) every day out on your corner i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ouring rain. Look for the girl with the broken smile, ask her if s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nts _________ (stay) awhi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. Losing my religio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ying _________ (keep) up with you and 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't know if I can do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. Today I don'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eel like _________ (do) anything, I just want _________ (lay) in my bed. Don't feel like _________ (pick) up my phone, so leave a message at the tone 'cause today I swear I'm not doing anything. Nothing at al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n’t stand _________ (lose) yo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. Sou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s _________ (spin) again, I can't stop _________ (feel). No, I won't stop _________ (feel) and the fun's not fun anymore I can't stop _________ (feel) No, I won't stop _________ (feel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member _________ (let) her into your heart then you can start _________ (make) it bet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. I neve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t _________ (hurt) you, I never meant _________ (lie) so this is goodbye this is goodby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3:48:46Z</dcterms:created>
  <dc:creator>lbd</dc:creator>
  <dc:description/>
  <dc:language>en-US</dc:language>
  <cp:lastModifiedBy>Carola Lubberding</cp:lastModifiedBy>
  <dcterms:modified xsi:type="dcterms:W3CDTF">2015-03-17T07:19:25Z</dcterms:modified>
  <cp:revision>7</cp:revision>
  <dc:subject/>
  <dc:title>Dia 1</dc:title>
</cp:coreProperties>
</file>